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CF7-76A8-4877-9DB9-0E824D66B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9CEB-3DF6-4C5C-99E4-2F1BE6961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E92-0B95-4CF3-8622-9EC15961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969-18EC-43F2-B898-12B6CE40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BC5-F6AD-4495-B55D-B489BEFB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9DC-83BE-42D2-847B-F5A301C1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8AB-E0C7-4154-AAE7-3B8A3C9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838-C137-4A7E-86F0-DACBE4F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D89-06E0-40C2-9C0C-E3F8C1D7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37F-18E1-4B3D-B245-B5A01A8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634-3F39-4772-9000-F356ECAF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EE0-63D5-4FED-A9D0-D280D06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C69-63C4-4264-B389-1AEEF67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2CD-C013-476B-A87F-3F31E72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17A5-1434-4DE3-9716-E36D6D5BE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/" TargetMode="External"/><Relationship Id="rId2" Type="http://schemas.openxmlformats.org/officeDocument/2006/relationships/hyperlink" Target="http://az.lib.ru/img/g/gogolx_n_w/text_0140/index.shtml" TargetMode="External"/><Relationship Id="rId3" Type="http://schemas.openxmlformats.org/officeDocument/2006/relationships/hyperlink" Target="http://angik.gogol.ru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www.nkj.ru/archive/articles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Тест  по поэме                                   Н. В. Гоголя «Мёртвые душ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00" y="5286240"/>
            <a:ext cx="8715600" cy="121464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Стефанова Лариса Михайловна, учитель русского языка и литературы Гв(с) ОУ «Республиканский центр образования»                                                     (г. Сыктывкар, Республика Ко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E:\180px-Ivanov_gogol.jpg"/>
          <p:cNvPicPr/>
          <p:nvPr/>
        </p:nvPicPr>
        <p:blipFill>
          <a:blip r:embed="rId2"/>
          <a:stretch/>
        </p:blipFill>
        <p:spPr>
          <a:xfrm>
            <a:off x="214200" y="214200"/>
            <a:ext cx="2071800" cy="235908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  <p:pic>
        <p:nvPicPr>
          <p:cNvPr id="51" name="Picture 3" descr="E:\273004.jpg"/>
          <p:cNvPicPr/>
          <p:nvPr/>
        </p:nvPicPr>
        <p:blipFill>
          <a:blip r:embed="rId3"/>
          <a:stretch/>
        </p:blipFill>
        <p:spPr>
          <a:xfrm>
            <a:off x="7143840" y="214200"/>
            <a:ext cx="1749240" cy="239400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9. 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ому из героев  поэмы  принадлежит это жилище ?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42920" y="2214720"/>
            <a:ext cx="8858160" cy="192276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«Комната была обвешана старенькими полосатыми обоями; картины с какими-то птицами, зеркала с тёмными рамками … , за всяким зеркалом заложены были или письмо, или старая колода карт, или чул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214200" y="3643200"/>
            <a:ext cx="3571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Коробоч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E:\bolevsky_korobochka.jpg"/>
          <p:cNvPicPr/>
          <p:nvPr/>
        </p:nvPicPr>
        <p:blipFill>
          <a:blip r:embed="rId1"/>
          <a:stretch/>
        </p:blipFill>
        <p:spPr>
          <a:xfrm>
            <a:off x="5857920" y="3571920"/>
            <a:ext cx="2486160" cy="265752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  <p:sp>
        <p:nvSpPr>
          <p:cNvPr id="89" name="Прямоугольник 5"/>
          <p:cNvSpPr/>
          <p:nvPr/>
        </p:nvSpPr>
        <p:spPr>
          <a:xfrm>
            <a:off x="4811040" y="628668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Коробочка.  Рисунок  П. Бокл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опрос № 10.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Monotype Corsiva"/>
              </a:rPr>
              <a:t>Н. В. Гоголь писал : «Один за другим следуют у меня герои, один пошлее другого».                   Восстановите последовательность изображения помещиков в поэ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071880" y="3379680"/>
            <a:ext cx="3643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Ноздрё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Коробоч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1.</a:t>
            </a:r>
            <a:r>
              <a:rPr b="1" i="1" lang="ru-RU" sz="4400" spc="-1" strike="noStrike">
                <a:solidFill>
                  <a:srgbClr val="666633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ому принадлежат эти слова 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42960" y="1857240"/>
            <a:ext cx="7858080" cy="141012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Я их  знаю всех : это мошенники, весь город такой: мошенни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мошеннике сидит и мошенником погоняет. Все  христопродавцы .</a:t>
            </a:r>
            <a:r>
              <a:rPr b="1" i="1" lang="ru-RU" sz="2400" spc="-1" strike="noStrike">
                <a:solidFill>
                  <a:srgbClr val="66663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1071720" y="3286080"/>
            <a:ext cx="30715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Ноздрё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1001395251.jpg"/>
          <p:cNvPicPr/>
          <p:nvPr/>
        </p:nvPicPr>
        <p:blipFill>
          <a:blip r:embed="rId1"/>
          <a:stretch/>
        </p:blipFill>
        <p:spPr>
          <a:xfrm>
            <a:off x="6143760" y="2928960"/>
            <a:ext cx="2143080" cy="352584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2.</a:t>
            </a:r>
            <a:r>
              <a:rPr b="1" i="1" lang="ru-RU" sz="4400" spc="-1" strike="noStrike">
                <a:solidFill>
                  <a:srgbClr val="666633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то  рассказывает «Повесть о капитане Копейкине»?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28760" y="2643120"/>
            <a:ext cx="46432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А. Чичи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Б.Ноздрё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В. Почтмейст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Г. Председат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казённой палат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80-1.jpg"/>
          <p:cNvPicPr/>
          <p:nvPr/>
        </p:nvPicPr>
        <p:blipFill>
          <a:blip r:embed="rId1"/>
          <a:stretch/>
        </p:blipFill>
        <p:spPr>
          <a:xfrm>
            <a:off x="4572000" y="2428920"/>
            <a:ext cx="4214880" cy="402444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3.</a:t>
            </a:r>
            <a:r>
              <a:rPr b="1" i="1" lang="ru-RU" sz="4400" spc="-1" strike="noStrike">
                <a:solidFill>
                  <a:srgbClr val="666633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С какой целью Н. В. Гоголь вводит в произведение «Повесть о капитане Копейкине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0" y="35719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.  Показать бездуховность бюрократических  зак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Б.  Изобразить жизнь столичного чинов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В.  Опровергнуть идею безнаказанности вл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.  Показать губительную власть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4.</a:t>
            </a:r>
            <a:r>
              <a:rPr b="1" i="1" lang="ru-RU" sz="4400" spc="-1" strike="noStrike">
                <a:solidFill>
                  <a:srgbClr val="666633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С какой целью Чичиков скупал «мёртвые души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57120" y="242892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А. Для того, чтобы считаться богатым помещи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Б. Для того, чтобы выгодно жениться, назвавшись владельцем тысяч душ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В. Для того, чтобы заложить их в опекунский совет в качестве живы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Г. Для того, чтобы выиграть пар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5.</a:t>
            </a:r>
            <a:r>
              <a:rPr b="1" i="1" lang="ru-RU" sz="4400" spc="-1" strike="noStrike">
                <a:solidFill>
                  <a:srgbClr val="666633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ого из героев поэмы Н. В. Гоголь не относит к «мёртвым душам»?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71680" y="3000240"/>
            <a:ext cx="5214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А. Чичик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Б. Мани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В. Умерших крестья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Г. Селифа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E:\ill02002.jpg"/>
          <p:cNvPicPr/>
          <p:nvPr/>
        </p:nvPicPr>
        <p:blipFill>
          <a:blip r:embed="rId1"/>
          <a:stretch/>
        </p:blipFill>
        <p:spPr>
          <a:xfrm>
            <a:off x="5929200" y="2500200"/>
            <a:ext cx="2643480" cy="365940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  <p:sp>
        <p:nvSpPr>
          <p:cNvPr id="108" name="Прямоугольник 4"/>
          <p:cNvSpPr/>
          <p:nvPr/>
        </p:nvSpPr>
        <p:spPr>
          <a:xfrm>
            <a:off x="5715000" y="62866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f09"/>
                </a:solidFill>
                <a:latin typeface="Monotype Corsiva"/>
              </a:rPr>
              <a:t>Афанасьев А. Ф. Два муж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6.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 Какую роль в поэме Н. В. Гоголя  выполняет образ дорог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0" y="30002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. Является символом  жизненного пути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Б. Образ дороги – символ будущего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В. Это форма организации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. Этот образ является источником вдохновения  дл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При создании презентации                     были использованы материалы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Интернет-сайтов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85840" y="2286000"/>
            <a:ext cx="864396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икипедия — свободная энциклопедия 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Monotype Corsiva"/>
                <a:hlinkClick r:id="rId1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14200" y="3143160"/>
            <a:ext cx="8501040" cy="26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Иллюстрации  к  «Мёртвым душам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Monotype Corsiva"/>
                <a:hlinkClick r:id="rId2"/>
              </a:rPr>
              <a:t>http://az.lib.ru/img/g/gogolx_n_w/text_0140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000240" y="4929120"/>
            <a:ext cx="2946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Monotype Corsiva"/>
                <a:hlinkClick r:id="rId3"/>
              </a:rPr>
              <a:t>http://angik.gogol.ru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E:\2009---200-letnij-yubilej-Nikolaya-Gogolya.gif"/>
          <p:cNvPicPr/>
          <p:nvPr/>
        </p:nvPicPr>
        <p:blipFill>
          <a:blip r:embed="rId4"/>
          <a:stretch/>
        </p:blipFill>
        <p:spPr>
          <a:xfrm>
            <a:off x="3214800" y="285840"/>
            <a:ext cx="2628720" cy="104760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  <p:sp>
        <p:nvSpPr>
          <p:cNvPr id="119" name="Прямоугольник 6"/>
          <p:cNvSpPr/>
          <p:nvPr/>
        </p:nvSpPr>
        <p:spPr>
          <a:xfrm>
            <a:off x="2286000" y="6000840"/>
            <a:ext cx="485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Monotype Corsiva"/>
                <a:hlinkClick r:id="rId5"/>
              </a:rPr>
              <a:t>http://www.nkj.ru/archive/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Monotype Corsiva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5" descr="kr2.gif"/>
          <p:cNvPicPr/>
          <p:nvPr/>
        </p:nvPicPr>
        <p:blipFill>
          <a:blip r:embed="rId1"/>
          <a:stretch/>
        </p:blipFill>
        <p:spPr>
          <a:xfrm>
            <a:off x="3357720" y="4357800"/>
            <a:ext cx="2286000" cy="2144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278604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А. Лаптев. Вереница «мёртвых ду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E:\1ba49d64d662fe8ecea3e7cf3669f196.jpg"/>
          <p:cNvPicPr/>
          <p:nvPr/>
        </p:nvPicPr>
        <p:blipFill>
          <a:blip r:embed="rId2"/>
          <a:stretch/>
        </p:blipFill>
        <p:spPr>
          <a:xfrm>
            <a:off x="285840" y="357120"/>
            <a:ext cx="4200480" cy="1203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24" name="Picture 3" descr="E:\b8e9e1aad22f4c4792de26631a7ed430.jpg"/>
          <p:cNvPicPr/>
          <p:nvPr/>
        </p:nvPicPr>
        <p:blipFill>
          <a:blip r:embed="rId3"/>
          <a:stretch/>
        </p:blipFill>
        <p:spPr>
          <a:xfrm>
            <a:off x="4500720" y="357120"/>
            <a:ext cx="4236840" cy="1214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1.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то подсказал Н. В. Гоголю сюжет «Мёртвых душ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00040" y="2714760"/>
            <a:ext cx="5000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. Ю. Лермон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А. С. Пушк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Л. Н. Толст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И. С. Тургенев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5429160" y="59292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А. С. Пушк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ортрет работы В. А. Тропи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487px-AleksandrPushkin.jpg"/>
          <p:cNvPicPr/>
          <p:nvPr/>
        </p:nvPicPr>
        <p:blipFill>
          <a:blip r:embed="rId1"/>
          <a:stretch/>
        </p:blipFill>
        <p:spPr>
          <a:xfrm>
            <a:off x="5929200" y="2786040"/>
            <a:ext cx="2571840" cy="315900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2.</a:t>
            </a:r>
            <a:br>
              <a:rPr sz="40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Назовите жанр «Мёртвых душ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71720" y="2000160"/>
            <a:ext cx="30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Рома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оэ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Расска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ове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GogIII-02.jpg"/>
          <p:cNvPicPr/>
          <p:nvPr/>
        </p:nvPicPr>
        <p:blipFill>
          <a:blip r:embed="rId1"/>
          <a:stretch/>
        </p:blipFill>
        <p:spPr>
          <a:xfrm>
            <a:off x="5214960" y="1643040"/>
            <a:ext cx="3000240" cy="420516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  <p:sp>
        <p:nvSpPr>
          <p:cNvPr id="59" name="Прямоугольник 5"/>
          <p:cNvSpPr/>
          <p:nvPr/>
        </p:nvSpPr>
        <p:spPr>
          <a:xfrm>
            <a:off x="4500720" y="600084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Обложка поэмы "Мертвые души". Рис. Н.Гогол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3.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акой приём использует Н. В. Гоголь в названии поэм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857680" y="2286000"/>
            <a:ext cx="3357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етафор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Оксюмор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Эпит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равне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14200" y="5357880"/>
            <a:ext cx="8643960" cy="1556280"/>
          </a:xfrm>
          <a:prstGeom prst="rect">
            <a:avLst/>
          </a:prstGeom>
          <a:solidFill>
            <a:srgbClr val="4e854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Оксю́морон (греч. — «острая глупость») — сочетание слов с противоположным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значением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4.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Назовите  имя и отчество Чичикова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428760" y="2000160"/>
            <a:ext cx="4929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Иван Павлович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авел Никола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авел Ивано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ётр  Ивано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4383720" y="60008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авел  Иванович Чичиков. П. Боклевский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E:\4i4ikov_boklevskij.jpg"/>
          <p:cNvPicPr/>
          <p:nvPr/>
        </p:nvPicPr>
        <p:blipFill>
          <a:blip r:embed="rId1"/>
          <a:stretch/>
        </p:blipFill>
        <p:spPr>
          <a:xfrm>
            <a:off x="5286240" y="1714680"/>
            <a:ext cx="3427560" cy="418140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5.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Чей это портр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14200" y="1500120"/>
            <a:ext cx="8643960" cy="228852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На взгляд он был человек видный; черты лица его были  не  лишены  приятности, но в эту приятность, казалось, чересчур было передано сахару; в приемах и оборотах его было что-то заискивающее расположения  и  знакомства. Он улыбался заманчиво, был белокур, с  голубыми 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285840" y="357192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Ноздрё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78548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Манилов .  Рисунок  П. Бокл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olevsky_manilov.jpg"/>
          <p:cNvPicPr/>
          <p:nvPr/>
        </p:nvPicPr>
        <p:blipFill>
          <a:blip r:embed="rId1"/>
          <a:stretch/>
        </p:blipFill>
        <p:spPr>
          <a:xfrm>
            <a:off x="5715000" y="3571920"/>
            <a:ext cx="2614680" cy="285732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6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 Кто  в поэме Н. В. Гоголя назван  «прорехой на человечестве» ?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500040" y="300024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Ноздрё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608000" y="621504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люшкин .  Рисунок  П. Бокл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E:\bolevsky_plushkin.jpg"/>
          <p:cNvPicPr/>
          <p:nvPr/>
        </p:nvPicPr>
        <p:blipFill>
          <a:blip r:embed="rId1"/>
          <a:stretch/>
        </p:blipFill>
        <p:spPr>
          <a:xfrm>
            <a:off x="5500800" y="2786040"/>
            <a:ext cx="2798640" cy="335772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7.                                                            </a:t>
            </a: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Кто  из помещиков  показался Чичикову  «весьма похожим на средней  величины медведя»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500040" y="3357720"/>
            <a:ext cx="3500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Ноздрё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711320" y="62866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Собакевич . Рисунок  П. Бокл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E:\bolevsky_sobakevich.jpg"/>
          <p:cNvPicPr/>
          <p:nvPr/>
        </p:nvPicPr>
        <p:blipFill>
          <a:blip r:embed="rId1"/>
          <a:stretch/>
        </p:blipFill>
        <p:spPr>
          <a:xfrm>
            <a:off x="5572080" y="3071880"/>
            <a:ext cx="2786040" cy="313668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№ 8.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Monotype Corsiva"/>
              </a:rPr>
              <a:t> Чья это  характеристика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285840" y="2000160"/>
            <a:ext cx="8572320" cy="119124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«Человек лет тридцати, разбитной малый, который  после трёх – четырёх  слов  начал говорить ему (Чичикову)  «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357120" y="3286080"/>
            <a:ext cx="3357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Манил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Ноздрё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люшк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b050"/>
              </a:buClr>
              <a:buFont typeface="Monotype Corsiv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обакеви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5195520" y="648828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Ноздрев. Рисунок  П. Бокл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E:\bolevsky_nozdryov.jpg"/>
          <p:cNvPicPr/>
          <p:nvPr/>
        </p:nvPicPr>
        <p:blipFill>
          <a:blip r:embed="rId1"/>
          <a:stretch/>
        </p:blipFill>
        <p:spPr>
          <a:xfrm>
            <a:off x="5929200" y="3071880"/>
            <a:ext cx="2727360" cy="3214800"/>
          </a:xfrm>
          <a:prstGeom prst="rect">
            <a:avLst/>
          </a:prstGeom>
          <a:ln w="9360">
            <a:solidFill>
              <a:srgbClr val="1b58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08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фанова</cp:lastModifiedBy>
  <dcterms:modified xsi:type="dcterms:W3CDTF">2010-05-01T10:04:36Z</dcterms:modified>
  <cp:revision>34</cp:revision>
  <dc:subject/>
  <dc:title>Тест                      «Мёртвые души»</dc:title>
</cp:coreProperties>
</file>