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BE1E-476D-45EC-9B16-701C1D5186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72FE-0629-4D30-B639-4C6BB0D9BB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CD5D-9A86-4F7A-8D66-04E506B313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F5F8-2825-42C8-8716-E4BA4160A1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9D74-2F76-44BB-AD84-CD75279CDB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FAE7-65CB-44D5-BD4E-5E17FAA954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DE8A-7ED0-4478-9D64-3AFD7D3583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0226-38B6-4A9E-BD04-B7032F65AE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7A85-713E-4809-9BF7-E18775740A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9A75-96CA-477F-B18C-556FC0D980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B3B-1A6A-4212-B42F-CF451C9B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A93-EDD9-4285-AC20-1B39B150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9DC-9949-4FBD-9514-A671FC48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00E-A2F5-47A5-866E-15B976F4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41A-985A-473B-8E2A-72102A00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7B7-BF7D-4B27-AAFD-4D9C2795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591-A3AF-4625-8040-A4D2811E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82A-E678-44A6-A00A-B5494A42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823-BB22-4ECC-8DC0-4A378F16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B63-04D5-4CBF-A3BE-2EADFBC0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491-579B-44AE-8F7E-862F7F6E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CDB-0163-41CA-8902-E9C59CE3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7DA1-3D8B-4CD2-B4EB-E105195E9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kazles.ru/files/img/0005.jpg" TargetMode="External"/><Relationship Id="rId3" Type="http://schemas.openxmlformats.org/officeDocument/2006/relationships/hyperlink" Target="http://skazles.ru/files/img/0005.jpg" TargetMode="External"/><Relationship Id="rId4" Type="http://schemas.openxmlformats.org/officeDocument/2006/relationships/hyperlink" Target="http://skazles.ru/files/img/0005.jpg" TargetMode="External"/><Relationship Id="rId5" Type="http://schemas.openxmlformats.org/officeDocument/2006/relationships/hyperlink" Target="http://skazles.ru/files/img/0005.jpg" TargetMode="External"/><Relationship Id="rId6" Type="http://schemas.openxmlformats.org/officeDocument/2006/relationships/hyperlink" Target="http://skazles.ru/files/img/0005.jpg" TargetMode="External"/><Relationship Id="rId7" Type="http://schemas.openxmlformats.org/officeDocument/2006/relationships/hyperlink" Target="http://skazles.ru/files/img/0005.jpg" TargetMode="External"/><Relationship Id="rId8" Type="http://schemas.openxmlformats.org/officeDocument/2006/relationships/hyperlink" Target="http://skazles.ru/files/img/0005.jpg" TargetMode="External"/><Relationship Id="rId9" Type="http://schemas.openxmlformats.org/officeDocument/2006/relationships/hyperlink" Target="http://skazles.ru/files/img/0005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Verdana"/>
              </a:rPr>
              <a:t>«Согласные звуки [в], [в</a:t>
            </a:r>
            <a:r>
              <a:rPr b="1" lang="en-US" sz="3600" spc="-1" strike="noStrike" baseline="30000">
                <a:solidFill>
                  <a:srgbClr val="0070c0"/>
                </a:solidFill>
                <a:latin typeface="Verdana"/>
              </a:rPr>
              <a:t>,</a:t>
            </a:r>
            <a:r>
              <a:rPr b="1" lang="en-US" sz="3600" spc="-1" strike="noStrike">
                <a:solidFill>
                  <a:srgbClr val="0070c0"/>
                </a:solidFill>
                <a:latin typeface="Verdana"/>
              </a:rPr>
              <a:t>], буквы В, в.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олдина Лилия Вильев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читель начальных классов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ОУ «ООШ№15» г. Ми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050"/>
                </a:solidFill>
                <a:latin typeface="Verdana"/>
              </a:rPr>
              <a:t>Урок с Мудрой сово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сова летит.jpg"/>
          <p:cNvPicPr/>
          <p:nvPr/>
        </p:nvPicPr>
        <p:blipFill>
          <a:blip r:embed="rId2"/>
          <a:stretch/>
        </p:blipFill>
        <p:spPr>
          <a:xfrm>
            <a:off x="6804000" y="333360"/>
            <a:ext cx="1819440" cy="1628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Verdana"/>
              </a:rPr>
              <a:t>Слоговая табл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сова сидит.jpg"/>
          <p:cNvPicPr/>
          <p:nvPr/>
        </p:nvPicPr>
        <p:blipFill>
          <a:blip r:embed="rId2"/>
          <a:stretch/>
        </p:blipFill>
        <p:spPr>
          <a:xfrm>
            <a:off x="0" y="404640"/>
            <a:ext cx="714240" cy="10479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341360"/>
          <a:ext cx="8642160" cy="4680000"/>
        </p:xfrm>
        <a:graphic>
          <a:graphicData uri="http://schemas.openxmlformats.org/drawingml/2006/table">
            <a:tbl>
              <a:tblPr/>
              <a:tblGrid>
                <a:gridCol w="1439640"/>
                <a:gridCol w="1446480"/>
                <a:gridCol w="1446120"/>
                <a:gridCol w="1508040"/>
                <a:gridCol w="1447920"/>
                <a:gridCol w="1353960"/>
              </a:tblGrid>
              <a:tr h="93528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93636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212c8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212c8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212c8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212c8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На стадио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5" descr="вратарь.jpg"/>
          <p:cNvPicPr/>
          <p:nvPr/>
        </p:nvPicPr>
        <p:blipFill>
          <a:blip r:embed="rId2"/>
          <a:stretch/>
        </p:blipFill>
        <p:spPr>
          <a:xfrm>
            <a:off x="1908000" y="1413000"/>
            <a:ext cx="5759640" cy="4324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ова сидит.jpg"/>
          <p:cNvPicPr/>
          <p:nvPr/>
        </p:nvPicPr>
        <p:blipFill>
          <a:blip r:embed="rId3"/>
          <a:stretch/>
        </p:blipFill>
        <p:spPr>
          <a:xfrm>
            <a:off x="324000" y="404640"/>
            <a:ext cx="1223640" cy="129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Bookman Old Style"/>
              </a:rPr>
              <a:t>Физкультминут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сова крутит головой.jpg"/>
          <p:cNvPicPr/>
          <p:nvPr/>
        </p:nvPicPr>
        <p:blipFill>
          <a:blip r:embed="rId2"/>
          <a:stretch/>
        </p:blipFill>
        <p:spPr>
          <a:xfrm>
            <a:off x="539640" y="476280"/>
            <a:ext cx="2448000" cy="18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ookman Old Style"/>
              </a:rPr>
              <a:t>Букв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сова принесла задание.jpg"/>
          <p:cNvPicPr/>
          <p:nvPr/>
        </p:nvPicPr>
        <p:blipFill>
          <a:blip r:embed="rId2"/>
          <a:stretch/>
        </p:blipFill>
        <p:spPr>
          <a:xfrm>
            <a:off x="468360" y="260280"/>
            <a:ext cx="3190680" cy="323712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9" descr=""/>
          <p:cNvPicPr/>
          <p:nvPr/>
        </p:nvPicPr>
        <p:blipFill>
          <a:blip r:embed="rId3"/>
          <a:stretch/>
        </p:blipFill>
        <p:spPr>
          <a:xfrm>
            <a:off x="1785960" y="-1152360"/>
            <a:ext cx="8955000" cy="773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Verdana"/>
              </a:rPr>
              <a:t>Читаем вместе с Мудрой сов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2" descr="сова читает.jpg"/>
          <p:cNvPicPr/>
          <p:nvPr/>
        </p:nvPicPr>
        <p:blipFill>
          <a:blip r:embed="rId2"/>
          <a:stretch/>
        </p:blipFill>
        <p:spPr>
          <a:xfrm>
            <a:off x="0" y="1484280"/>
            <a:ext cx="3333600" cy="33339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0"/>
          <p:cNvSpPr/>
          <p:nvPr/>
        </p:nvSpPr>
        <p:spPr>
          <a:xfrm>
            <a:off x="3413160" y="1844640"/>
            <a:ext cx="143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Verdana"/>
              </a:rPr>
              <a:t>в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6012000" y="184464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Verdana"/>
              </a:rPr>
              <a:t>в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3276720" y="3075480"/>
            <a:ext cx="25905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Calibri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</a:t>
            </a: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Calibri"/>
              </a:rPr>
              <a:t>во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6"/>
          <p:cNvSpPr/>
          <p:nvPr/>
        </p:nvSpPr>
        <p:spPr>
          <a:xfrm>
            <a:off x="6373800" y="3213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Verdana"/>
              </a:rPr>
              <a:t>ву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7"/>
          <p:cNvSpPr/>
          <p:nvPr/>
        </p:nvSpPr>
        <p:spPr>
          <a:xfrm>
            <a:off x="4793760" y="4508640"/>
            <a:ext cx="16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в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Verdana"/>
              </a:rPr>
              <a:t>«Найди букв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2" descr="сова принесла задание.jpg"/>
          <p:cNvPicPr/>
          <p:nvPr/>
        </p:nvPicPr>
        <p:blipFill>
          <a:blip r:embed="rId2"/>
          <a:stretch/>
        </p:blipFill>
        <p:spPr>
          <a:xfrm>
            <a:off x="2916360" y="2060640"/>
            <a:ext cx="3333600" cy="338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Verdana"/>
              </a:rPr>
              <a:t>Методическое обеспеч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ецкий В. Г. Обучение грамоте. 1 кл. Поурочные разработки. - М.: Просвещение, 2009. – 107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kazles.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files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img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0005.jp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ва со свит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img0.liveinternet.ru/images/attach/b/3/4/84/4084148_Buho20biblioteca.gif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ва чит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animashky.ru/index/0-11?36-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ва сид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animashky.ru/index/0-11?36-6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ва лет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razumniki.ru/slogovaya_tablica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оговая табл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deti-moskvy.ru/wp-content/uploads/2010/02/two.jp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ратар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animashky.ru/index/0-11?36-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ва крутит гол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4:11:12Z</dcterms:created>
  <dc:creator>админи</dc:creator>
  <dc:description/>
  <dc:language>en-US</dc:language>
  <cp:lastModifiedBy>Катенок</cp:lastModifiedBy>
  <dcterms:modified xsi:type="dcterms:W3CDTF">2010-07-21T18:33:54Z</dcterms:modified>
  <cp:revision>10</cp:revision>
  <dc:subject/>
  <dc:title>«Согласные звуки [в], [в,], буквы В, в.» </dc:title>
</cp:coreProperties>
</file>