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6A3F-6021-45A5-8E6B-50802B54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CB6-894E-4D2B-ABBD-A041C932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E20-CE45-4105-96CE-3F98C6612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714-E934-45B7-A139-6163E6EC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0A31-0C9A-48A1-957F-44B936DA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4ECC-38D0-486F-A8AA-F422CFB5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C01-3DE9-4400-99BD-D14DBD5A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18C-F218-46D2-A5E9-8E609C09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E93-54B7-4A16-BD9E-0B27803E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455-8032-4116-8342-3472248D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75A-F81E-419A-B4A9-310377F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462E-1222-4F90-9C72-267CEBE8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BAD4-5676-48BD-B134-B63441089D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dioms.chat.ru/09/pix/192.gif" TargetMode="External"/><Relationship Id="rId3" Type="http://schemas.openxmlformats.org/officeDocument/2006/relationships/hyperlink" Target="http://photo.newslab.ru/image.aspx?id=3560" TargetMode="External"/><Relationship Id="rId4" Type="http://schemas.openxmlformats.org/officeDocument/2006/relationships/hyperlink" Target="http://www.fotodeti.ru/images/foto_b/01.jpg" TargetMode="External"/><Relationship Id="rId5" Type="http://schemas.openxmlformats.org/officeDocument/2006/relationships/hyperlink" Target="http://www.numismat-invest.ru/images/lots/349070.jpg" TargetMode="External"/><Relationship Id="rId6" Type="http://schemas.openxmlformats.org/officeDocument/2006/relationships/hyperlink" Target="http://lj.okamaster.ru/canon/2103/_MG_1474.jpg" TargetMode="External"/><Relationship Id="rId7" Type="http://schemas.openxmlformats.org/officeDocument/2006/relationships/hyperlink" Target="http://idioms.chat.ru/13/pix/330.gif" TargetMode="External"/><Relationship Id="rId8" Type="http://schemas.openxmlformats.org/officeDocument/2006/relationships/hyperlink" Target="http://www.topnews.ru/upload/img/fe99102845.jpg" TargetMode="Externa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questrian.ru/photos/user_photo/2008/c3631f6a.jpg" TargetMode="External"/><Relationship Id="rId3" Type="http://schemas.openxmlformats.org/officeDocument/2006/relationships/hyperlink" Target="http://img-fotki.yandex.ru/get/3714/teplohod62.b/0_1eb87_72456214_L" TargetMode="External"/><Relationship Id="rId4" Type="http://schemas.openxmlformats.org/officeDocument/2006/relationships/hyperlink" Target="http://i034.radikal.ru/0907/37/728ee33a284b.jpg" TargetMode="External"/><Relationship Id="rId5" Type="http://schemas.openxmlformats.org/officeDocument/2006/relationships/hyperlink" Target="http://img-fotki.yandex.ru/get/3903/natavoro.10/0_3c291_ace62026_L" TargetMode="External"/><Relationship Id="rId6" Type="http://schemas.openxmlformats.org/officeDocument/2006/relationships/hyperlink" Target="http://img-fotki.yandex.ru/get/15/mackey.1/0_62b6_2fc01bd_XL" TargetMode="External"/><Relationship Id="rId7" Type="http://schemas.openxmlformats.org/officeDocument/2006/relationships/hyperlink" Target="http://kemclub.ru/best/3484063.jpg" TargetMode="External"/><Relationship Id="rId8" Type="http://schemas.openxmlformats.org/officeDocument/2006/relationships/hyperlink" Target="http://i023.radikal.ru/0803/67/98ec9f6dbf5f.jpg" TargetMode="External"/><Relationship Id="rId9" Type="http://schemas.openxmlformats.org/officeDocument/2006/relationships/hyperlink" Target="http://www.shaturyane.ru/images/103.jpg" TargetMode="External"/><Relationship Id="rId10" Type="http://schemas.openxmlformats.org/officeDocument/2006/relationships/hyperlink" Target="http://s42.radikal.ru/i095/0901/a9/967bbdea72c1.jpg" TargetMode="External"/><Relationship Id="rId11" Type="http://schemas.openxmlformats.org/officeDocument/2006/relationships/hyperlink" Target="http://allday.ru/uploads/posts/1211126102_noty_vector_500.jpg" TargetMode="Externa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14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 –Котынова Елена Юрьев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Педагогический лиц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Великие Луки П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3"/>
          <p:cNvSpPr/>
          <p:nvPr/>
        </p:nvSpPr>
        <p:spPr>
          <a:xfrm>
            <a:off x="609480" y="990720"/>
            <a:ext cx="7772400" cy="2590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огатство русского языка Словарь устойчивых срав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5486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Быть, стоять, сидеть, вести себя, держаться, 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как мокрая </a:t>
            </a: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к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ур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1600200"/>
            <a:ext cx="434340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1.Быть инерт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зынициативн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ояв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растороп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ли беспо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2. Находиться в мора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авленном состоя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5"/>
          <p:cNvSpPr/>
          <p:nvPr/>
        </p:nvSpPr>
        <p:spPr>
          <a:xfrm>
            <a:off x="4419720" y="3276720"/>
            <a:ext cx="47242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От обычая окунать в в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куриц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стремящуюся с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на яйца для выве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цыплят(это делалось,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наседка  не нужн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Будучи мокрой, т.е. находя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в непривычном состоян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курица теря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обычную подви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активность и энерг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0" y="4495680"/>
            <a:ext cx="4343400" cy="23623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Завтра соревнования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 мне какая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увер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Возьми себя в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то  ты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окрая курица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агетная рамка 6"/>
          <p:cNvSpPr/>
          <p:nvPr/>
        </p:nvSpPr>
        <p:spPr>
          <a:xfrm>
            <a:off x="6172200" y="0"/>
            <a:ext cx="297180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агетная рамка 7"/>
          <p:cNvSpPr/>
          <p:nvPr/>
        </p:nvSpPr>
        <p:spPr>
          <a:xfrm>
            <a:off x="6172200" y="9907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агетная рамка 8"/>
          <p:cNvSpPr/>
          <p:nvPr/>
        </p:nvSpPr>
        <p:spPr>
          <a:xfrm>
            <a:off x="6172200" y="1905120"/>
            <a:ext cx="297180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C:\Users\Елена\Desktop\мокрая курица.jpg"/>
          <p:cNvPicPr/>
          <p:nvPr/>
        </p:nvPicPr>
        <p:blipFill>
          <a:blip r:embed="rId2"/>
          <a:stretch/>
        </p:blipFill>
        <p:spPr>
          <a:xfrm>
            <a:off x="4191120" y="1371600"/>
            <a:ext cx="18968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5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едой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л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у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4114800" y="838080"/>
            <a:ext cx="48006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овершенно сед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л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з еди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ёмного вол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4191120" y="4572000"/>
            <a:ext cx="472428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Лунь – хищная пти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зросл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амец котор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меет серовато-бел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пе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4114800" y="2590920"/>
            <a:ext cx="48006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Профессор, навер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епер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уже совсем сед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Белый как лу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агетная рамка 6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агетная рамка 8"/>
          <p:cNvSpPr/>
          <p:nvPr/>
        </p:nvSpPr>
        <p:spPr>
          <a:xfrm>
            <a:off x="22860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ТО ТАКОЙ ЛУН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C:\Users\Елена\Desktop\лунь.jpg"/>
          <p:cNvPicPr/>
          <p:nvPr/>
        </p:nvPicPr>
        <p:blipFill>
          <a:blip r:embed="rId2"/>
          <a:stretch/>
        </p:blipFill>
        <p:spPr>
          <a:xfrm>
            <a:off x="609480" y="4572000"/>
            <a:ext cx="290844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2500"/>
                            </p:stCondLst>
                            <p:childTnLst>
                              <p:par>
                                <p:cTn id="5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Ждать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м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анны небес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200400" y="1066680"/>
            <a:ext cx="2590920" cy="289584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2895840"/>
              <a:gd name="textAreaBottom" fmla="*/ 2769480 h 2895840"/>
            </a:gdLst>
            <a:ahLst/>
            <a:rect l="textAreaLeft" t="textAreaTop" r="textAreaRight" b="textAreaBottom"/>
            <a:pathLst>
              <a:path w="21600" h="24142">
                <a:moveTo>
                  <a:pt x="3600" y="0"/>
                </a:moveTo>
                <a:arcTo wR="3600" hR="3600" stAng="16200000" swAng="-5400000"/>
                <a:lnTo>
                  <a:pt x="0" y="20542"/>
                </a:lnTo>
                <a:arcTo wR="3600" hR="3600" stAng="10800000" swAng="-5400000"/>
                <a:lnTo>
                  <a:pt x="18000" y="24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Ж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его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 боль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терп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адежд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0" y="4191120"/>
            <a:ext cx="434340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анна небесн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 библейскому миф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адавшая с неба пищ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торой питались евре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ранствовавш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 пустыне в поиск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емли обетова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648320" y="4191120"/>
            <a:ext cx="42670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Вы всё ещё надее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луч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т него письм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Жду как манны небес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агетная рамка 6"/>
          <p:cNvSpPr/>
          <p:nvPr/>
        </p:nvSpPr>
        <p:spPr>
          <a:xfrm>
            <a:off x="0" y="838080"/>
            <a:ext cx="31240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агетная рамка 7"/>
          <p:cNvSpPr/>
          <p:nvPr/>
        </p:nvSpPr>
        <p:spPr>
          <a:xfrm>
            <a:off x="0" y="190512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агетная рамка 8"/>
          <p:cNvSpPr/>
          <p:nvPr/>
        </p:nvSpPr>
        <p:spPr>
          <a:xfrm>
            <a:off x="0" y="2971800"/>
            <a:ext cx="3124080" cy="91440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ЧТО ТАКОЕ МАННА НЕБЕСНА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C:\Users\Елена\Desktop\манна небесная.jpg"/>
          <p:cNvPicPr/>
          <p:nvPr/>
        </p:nvPicPr>
        <p:blipFill>
          <a:blip r:embed="rId2"/>
          <a:stretch/>
        </p:blipFill>
        <p:spPr>
          <a:xfrm>
            <a:off x="5943600" y="990720"/>
            <a:ext cx="3017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"/>
                            </p:stCondLst>
                            <p:childTnLst>
                              <p:par>
                                <p:cTn id="6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Идти как по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н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т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886200" y="914400"/>
            <a:ext cx="50292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дти, осуществля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хорошо, успешно или та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ак было намечено, задум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аранее (о деле, событ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ейств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3962520" y="3733920"/>
            <a:ext cx="4876560" cy="2514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Разве у них заранее всё бы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едусмотре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Конечно. Всё шло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 но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агетная рамка 5"/>
          <p:cNvSpPr/>
          <p:nvPr/>
        </p:nvSpPr>
        <p:spPr>
          <a:xfrm>
            <a:off x="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агетная рамка 6"/>
          <p:cNvSpPr/>
          <p:nvPr/>
        </p:nvSpPr>
        <p:spPr>
          <a:xfrm>
            <a:off x="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C:\Users\Елена\Desktop\ноты.jpg"/>
          <p:cNvPicPr/>
          <p:nvPr/>
        </p:nvPicPr>
        <p:blipFill>
          <a:blip r:embed="rId2"/>
          <a:stretch/>
        </p:blipFill>
        <p:spPr>
          <a:xfrm>
            <a:off x="380880" y="3505320"/>
            <a:ext cx="28195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500"/>
                            </p:stCondLst>
                            <p:childTnLst>
                              <p:par>
                                <p:cTn id="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200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7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о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ехи щёлк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962520" y="838080"/>
            <a:ext cx="495288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Легко и непринуждё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правляться с ря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руд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физических работ 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умственных операци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304920" y="3581280"/>
            <a:ext cx="4952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Вы считаете, что ваш сы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удет учёны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атематик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Уверен. Он зада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 арифме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решает, как орешки щёлк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Багетная рамка 5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Багетная рамка 6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Елена\Desktop\белка-орехи.jpeg"/>
          <p:cNvPicPr/>
          <p:nvPr/>
        </p:nvPicPr>
        <p:blipFill>
          <a:blip r:embed="rId2"/>
          <a:stretch/>
        </p:blipFill>
        <p:spPr>
          <a:xfrm>
            <a:off x="5638680" y="3505320"/>
            <a:ext cx="28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0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0"/>
                            </p:stCondLst>
                            <p:childTnLst>
                              <p:par>
                                <p:cTn id="7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1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762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77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дин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п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ер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3962520" y="762120"/>
            <a:ext cx="49528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овершенно один, одино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лишённый родствен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ли друзей, соратник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единомышл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4648320"/>
            <a:ext cx="50292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ерст– большой палец р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сравнении использов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его отдельное поло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тносительно других паль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962520" y="2666880"/>
            <a:ext cx="4952880" cy="1447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У вас из родственников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то-нибуд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Один я остался, как пер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ТО ТАКОЕ ПЕРС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C:\Users\Елена\Desktop\330.gif"/>
          <p:cNvPicPr/>
          <p:nvPr/>
        </p:nvPicPr>
        <p:blipFill>
          <a:blip r:embed="rId2"/>
          <a:stretch/>
        </p:blipFill>
        <p:spPr>
          <a:xfrm>
            <a:off x="5486400" y="4343400"/>
            <a:ext cx="367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500"/>
                            </p:stCondLst>
                            <p:childTnLst>
                              <p:par>
                                <p:cTn id="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2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-1447920" y="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ак из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р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га изобил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6095880" y="914400"/>
            <a:ext cx="3048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явля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ступ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 множ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0" y="5181480"/>
            <a:ext cx="9144000" cy="1676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Рог изобилия – в древнегреческой мифолог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есный рог козы Амалфеи, который Зевс подар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воспитавшим его нимфам, сообщив 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удодейственную силу наполняться в изобилии все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что пожелает его владе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0" y="1600200"/>
            <a:ext cx="571500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Много ли поздравл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иходит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адрес юбиля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Сыплются как из р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зоби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Багетная рамка 6"/>
          <p:cNvSpPr/>
          <p:nvPr/>
        </p:nvSpPr>
        <p:spPr>
          <a:xfrm>
            <a:off x="6095880" y="0"/>
            <a:ext cx="304812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Багетная рамка 7"/>
          <p:cNvSpPr/>
          <p:nvPr/>
        </p:nvSpPr>
        <p:spPr>
          <a:xfrm>
            <a:off x="1219320" y="685800"/>
            <a:ext cx="3047760" cy="8380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Багетная рамка 8"/>
          <p:cNvSpPr/>
          <p:nvPr/>
        </p:nvSpPr>
        <p:spPr>
          <a:xfrm>
            <a:off x="1600200" y="3809880"/>
            <a:ext cx="3048120" cy="8384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ЧТО ТАКОЕ РОГ ИЗОБИЛ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C:\Users\Елена\Desktop\рог изобилия.jpeg"/>
          <p:cNvPicPr/>
          <p:nvPr/>
        </p:nvPicPr>
        <p:blipFill>
          <a:blip r:embed="rId2"/>
          <a:stretch/>
        </p:blipFill>
        <p:spPr>
          <a:xfrm>
            <a:off x="6095880" y="3429000"/>
            <a:ext cx="27338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8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500"/>
                            </p:stCondLst>
                            <p:childTnLst>
                              <p:par>
                                <p:cTn id="8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2000"/>
                            </p:stCondLst>
                            <p:childTnLst>
                              <p:par>
                                <p:cTn id="8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ести себя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бака на се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4343400" y="914400"/>
            <a:ext cx="3581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 давать друг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спольз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то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ужно самому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3809880" y="3429000"/>
            <a:ext cx="5029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Сергею совсем не ну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эта книга, 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уступить её мне не хоч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Он как собака на се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и себе ни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Багетная рамка 6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Елена\Desktop\собака на сене.jpg"/>
          <p:cNvPicPr/>
          <p:nvPr/>
        </p:nvPicPr>
        <p:blipFill>
          <a:blip r:embed="rId2"/>
          <a:stretch/>
        </p:blipFill>
        <p:spPr>
          <a:xfrm>
            <a:off x="762120" y="3657600"/>
            <a:ext cx="251460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00"/>
                            </p:stCondLst>
                            <p:childTnLst>
                              <p:par>
                                <p:cTn id="9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500"/>
                            </p:stCondLst>
                            <p:childTnLst>
                              <p:par>
                                <p:cTn id="9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20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93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94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3341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Носиться с чем(кем)-либо как с писаной </a:t>
            </a: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т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ор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4876920" y="380880"/>
            <a:ext cx="4267080" cy="312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елать предмет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резмер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абот или постоя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разгов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го(чего)-либо,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аслуживающ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ерьёзного 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0" y="5257800"/>
            <a:ext cx="487692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Писаная торба – расписан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цветистый, выши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мешок, применявший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в старину дл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или ношения чего-либ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4952880" y="3886200"/>
            <a:ext cx="41911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Она и вам показыв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ипломы сво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родистой соб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Да. Носится с н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ак с писаной тор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Багетная рамка 6"/>
          <p:cNvSpPr/>
          <p:nvPr/>
        </p:nvSpPr>
        <p:spPr>
          <a:xfrm>
            <a:off x="0" y="16002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агетная рамка 7"/>
          <p:cNvSpPr/>
          <p:nvPr/>
        </p:nvSpPr>
        <p:spPr>
          <a:xfrm>
            <a:off x="0" y="2743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Багетная рамка 8"/>
          <p:cNvSpPr/>
          <p:nvPr/>
        </p:nvSpPr>
        <p:spPr>
          <a:xfrm>
            <a:off x="0" y="38862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ЧТО ТАКОЕ ПИСАНАЯ ТОРБ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C:\Users\Елена\Desktop\торба.jpg"/>
          <p:cNvPicPr/>
          <p:nvPr/>
        </p:nvPicPr>
        <p:blipFill>
          <a:blip r:embed="rId2"/>
          <a:stretch/>
        </p:blipFill>
        <p:spPr>
          <a:xfrm>
            <a:off x="2971800" y="1905120"/>
            <a:ext cx="1809720" cy="27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500"/>
                            </p:stCondLst>
                            <p:childTnLst>
                              <p:par>
                                <p:cTn id="9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000"/>
                            </p:stCondLst>
                            <p:childTnLst>
                              <p:par>
                                <p:cTn id="9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2500"/>
                            </p:stCondLst>
                            <p:childTnLst>
                              <p:par>
                                <p:cTn id="9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9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90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01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077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Бегать как </a:t>
            </a: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у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горел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895480" y="685800"/>
            <a:ext cx="281952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Бегать, ве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себя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бестолко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поспешно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суетлив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5791320" y="609480"/>
            <a:ext cx="3124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-И чего это они 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носятся как угорелы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- Это же футболис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тренируются, бабушк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агетная рамка 6"/>
          <p:cNvSpPr/>
          <p:nvPr/>
        </p:nvSpPr>
        <p:spPr>
          <a:xfrm>
            <a:off x="0" y="838080"/>
            <a:ext cx="28954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Багетная рамка 7"/>
          <p:cNvSpPr/>
          <p:nvPr/>
        </p:nvSpPr>
        <p:spPr>
          <a:xfrm>
            <a:off x="0" y="2057400"/>
            <a:ext cx="2895480" cy="99072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Багетная рамка 8"/>
          <p:cNvSpPr/>
          <p:nvPr/>
        </p:nvSpPr>
        <p:spPr>
          <a:xfrm>
            <a:off x="0" y="3200400"/>
            <a:ext cx="28954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КТО ТАКОЙ УГОРЕЛ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048120" y="3048120"/>
            <a:ext cx="609588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Угорелый  - угоревший, т.е.  Отравивши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угарным газом от печи в доме. Обычно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происходило тогда, когда труба печ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закрывалась для сохранения теп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слишком рано. Бегать, будучи угоревшим,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для человека нехарактерно.  Выраж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является сокращённым  вариантом устойчи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сравнения  бегать как угорелая кош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В котором поведение кошки,  чувствовавш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угарный г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</a:rPr>
              <a:t>отражено вполне мотивирова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9" descr="C:\Users\Елена\Desktop\2cb21b911aa5.jpg"/>
          <p:cNvPicPr/>
          <p:nvPr/>
        </p:nvPicPr>
        <p:blipFill>
          <a:blip r:embed="rId2"/>
          <a:stretch/>
        </p:blipFill>
        <p:spPr>
          <a:xfrm>
            <a:off x="0" y="4495680"/>
            <a:ext cx="30765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4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4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1065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C:\Users\Елена\Desktop\аршин.gif"/>
          <p:cNvPicPr/>
          <p:nvPr/>
        </p:nvPicPr>
        <p:blipFill>
          <a:blip r:embed="rId2"/>
          <a:stretch/>
        </p:blipFill>
        <p:spPr>
          <a:xfrm>
            <a:off x="6781680" y="990720"/>
            <a:ext cx="2210040" cy="3154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 </a:t>
            </a:r>
            <a:r>
              <a:rPr b="1" i="1" lang="ru-RU" sz="5400" spc="-1" strike="noStrike">
                <a:solidFill>
                  <a:srgbClr val="7030a0"/>
                </a:solidFill>
                <a:latin typeface="Arial"/>
              </a:rPr>
              <a:t>а</a:t>
            </a: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ршин проглот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3886200" y="1219320"/>
            <a:ext cx="2590920" cy="3047760"/>
          </a:xfrm>
          <a:custGeom>
            <a:avLst/>
            <a:gdLst>
              <a:gd name="textAreaLeft" fmla="*/ 126360 w 2590920"/>
              <a:gd name="textAreaRight" fmla="*/ 2464560 w 2590920"/>
              <a:gd name="textAreaTop" fmla="*/ 126360 h 3047760"/>
              <a:gd name="textAreaBottom" fmla="*/ 2921400 h 3047760"/>
            </a:gdLst>
            <a:ahLst/>
            <a:rect l="textAreaLeft" t="textAreaTop" r="textAreaRight" b="textAreaBottom"/>
            <a:pathLst>
              <a:path w="21600" h="25408">
                <a:moveTo>
                  <a:pt x="3600" y="0"/>
                </a:moveTo>
                <a:arcTo wR="3600" hR="3600" stAng="16200000" swAng="-5400000"/>
                <a:lnTo>
                  <a:pt x="0" y="21808"/>
                </a:lnTo>
                <a:arcTo wR="3600" hR="3600" stAng="10800000" swAng="-5400000"/>
                <a:lnTo>
                  <a:pt x="18000" y="254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лишк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есте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я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4724280" y="4419720"/>
            <a:ext cx="419112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стро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смотря на свой р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Скорее пря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аршин прогло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52280" y="4800600"/>
            <a:ext cx="44960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Аршин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тар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авная  71 сантимет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линейка, планка та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лин для изме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агетная рамка 9"/>
          <p:cNvSpPr/>
          <p:nvPr/>
        </p:nvSpPr>
        <p:spPr>
          <a:xfrm>
            <a:off x="152280" y="10666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агетная рамка 10"/>
          <p:cNvSpPr/>
          <p:nvPr/>
        </p:nvSpPr>
        <p:spPr>
          <a:xfrm>
            <a:off x="152280" y="2286000"/>
            <a:ext cx="358164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агетная рамка 11"/>
          <p:cNvSpPr/>
          <p:nvPr/>
        </p:nvSpPr>
        <p:spPr>
          <a:xfrm>
            <a:off x="228600" y="3505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СТОРИЧЕСКАЯ СПРА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6019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Вертеться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ф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люг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886200" y="5257800"/>
            <a:ext cx="49528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Он ведь с Виктором дружи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а теперь опять с Пет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Вертится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0" y="3276720"/>
            <a:ext cx="3733920" cy="3581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Это и есть сам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пас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есто ре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Да. В прошлый р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ша  лодка вертела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десь как флюг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Багетная рамка 6"/>
          <p:cNvSpPr/>
          <p:nvPr/>
        </p:nvSpPr>
        <p:spPr>
          <a:xfrm>
            <a:off x="0" y="762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Багетная рамка 7"/>
          <p:cNvSpPr/>
          <p:nvPr/>
        </p:nvSpPr>
        <p:spPr>
          <a:xfrm>
            <a:off x="0" y="19051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4191120" y="1905120"/>
            <a:ext cx="4267080" cy="32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Поворачиваться в ра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стороны под воздейств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каких-либо внешних с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2. Быть непостоянны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ме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убеждения, пове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в зависимости 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соображ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выгоды или под влия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обстоятель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9" descr="C:\Users\Елена\Desktop\0_3c291_ace62026_L.jpeg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0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1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Жить как у </a:t>
            </a:r>
            <a:r>
              <a:rPr b="1" i="1" lang="en-US" sz="4000" spc="-1" strike="noStrike">
                <a:solidFill>
                  <a:srgbClr val="7030a0"/>
                </a:solidFill>
                <a:latin typeface="Arial"/>
              </a:rPr>
              <a:t>Х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иста за пазух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4343400" y="3657600"/>
            <a:ext cx="441972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Жить где-либо или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г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условиях пол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беспечен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оволь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ззаботно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зопасности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3809880"/>
            <a:ext cx="3809880" cy="28195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Ваша подруга доволь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амужеств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Ещё бы! Живёт как 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Христа за пазухо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Багетная рамка 5"/>
          <p:cNvSpPr/>
          <p:nvPr/>
        </p:nvSpPr>
        <p:spPr>
          <a:xfrm>
            <a:off x="228600" y="1219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Багетная рамка 6"/>
          <p:cNvSpPr/>
          <p:nvPr/>
        </p:nvSpPr>
        <p:spPr>
          <a:xfrm>
            <a:off x="228600" y="25146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C:\Users\Елена\Desktop\собака с кошкой.jpg"/>
          <p:cNvPicPr/>
          <p:nvPr/>
        </p:nvPicPr>
        <p:blipFill>
          <a:blip r:embed="rId2"/>
          <a:stretch/>
        </p:blipFill>
        <p:spPr>
          <a:xfrm>
            <a:off x="4267080" y="1143000"/>
            <a:ext cx="373392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4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1165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117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ак с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епи сор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886200" y="838080"/>
            <a:ext cx="495288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риступить к кому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 бранью, упрё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угрозами вдру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ожиданно, без вся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видимой на то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962520" y="3809880"/>
            <a:ext cx="4952880" cy="26672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Что это брат вдруг на т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абросил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с цепи сорвал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Он думал, что э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я его канарей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з клетки выпуст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Багетная рамка 5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Багетная рамка 6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C:\Users\Елена\Desktop\0_1eb87_72456214_L.jpeg"/>
          <p:cNvPicPr/>
          <p:nvPr/>
        </p:nvPicPr>
        <p:blipFill>
          <a:blip r:embed="rId2"/>
          <a:stretch/>
        </p:blipFill>
        <p:spPr>
          <a:xfrm>
            <a:off x="838080" y="3352680"/>
            <a:ext cx="24386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22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80880" y="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Вертеться как на </a:t>
            </a:r>
            <a:r>
              <a:rPr b="1" i="1" lang="ru-RU" sz="4000" spc="-1" strike="noStrike">
                <a:solidFill>
                  <a:srgbClr val="7030a0"/>
                </a:solidFill>
                <a:latin typeface="Arial"/>
              </a:rPr>
              <a:t>ш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арнир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3886200" y="914400"/>
            <a:ext cx="2895480" cy="25909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Быть 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5"/>
          <p:cNvSpPr/>
          <p:nvPr/>
        </p:nvSpPr>
        <p:spPr>
          <a:xfrm>
            <a:off x="5029200" y="3657600"/>
            <a:ext cx="3962520" cy="2971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Шарнир – подвиж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еди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двух ча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механизм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беспечивающе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их вра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228600" y="4572000"/>
            <a:ext cx="4572000" cy="20574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А в школе за партой А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покойно сиди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Он и там верт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ак на шарни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Багетная рамка 6"/>
          <p:cNvSpPr/>
          <p:nvPr/>
        </p:nvSpPr>
        <p:spPr>
          <a:xfrm>
            <a:off x="2286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Багетная рамка 7"/>
          <p:cNvSpPr/>
          <p:nvPr/>
        </p:nvSpPr>
        <p:spPr>
          <a:xfrm>
            <a:off x="22860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C:\Users\Елена\Desktop\как на шарнирах.jpg"/>
          <p:cNvPicPr/>
          <p:nvPr/>
        </p:nvPicPr>
        <p:blipFill>
          <a:blip r:embed="rId2"/>
          <a:stretch/>
        </p:blipFill>
        <p:spPr>
          <a:xfrm>
            <a:off x="6934320" y="914400"/>
            <a:ext cx="1981080" cy="2575080"/>
          </a:xfrm>
          <a:prstGeom prst="rect">
            <a:avLst/>
          </a:prstGeom>
          <a:ln w="0">
            <a:noFill/>
          </a:ln>
        </p:spPr>
      </p:pic>
      <p:sp>
        <p:nvSpPr>
          <p:cNvPr id="203" name="Багетная рамка 8"/>
          <p:cNvSpPr/>
          <p:nvPr/>
        </p:nvSpPr>
        <p:spPr>
          <a:xfrm>
            <a:off x="30492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ТО ТАКОЕ ШАРНИ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Arial"/>
              </a:rPr>
              <a:t>Использованные ресурс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ольцов В.М. Устойчивые сравнения русского языка. - С-П.: «Просвещение»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dioms.chat.ru/09/pix/192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арш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hoto.newslab.ru/image.aspx?id=356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был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fotodeti.ru/images/foto_b/0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ребёнок и 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numismat-invest.ru/images/lots/349070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гривен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lj.okamaster.ru/canon/2103/_MG_1474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р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idioms.chat.ru/13/pix/330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один как пер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opnews.ru/upload/img/fe99102845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истук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questrian.ru/photos/user_photo/2008/c3631f6a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лоша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g-fotki.yandex.ru/get/3714/teplohod62.b/0_1eb87_72456214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зё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034.radikal.ru/0907/37/728ee33a284b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-собака с кош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mg-fotki.yandex.ru/get/3903/natavoro.10/0_3c291_ace62026_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флю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img-fotki.yandex.ru/get/15/mackey.1/0_62b6_2fc01bd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арточный дом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kemclub.ru/best/348406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евочка-ег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i023.radikal.ru/0803/67/98ec9f6dbf5f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окрая кур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shaturyane.ru/images/103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-л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s42.radikal.ru/i095/0901/a9/967bbdea72c1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бака на с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allday.ru/uploads/posts/1211126102_noty_vector_500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н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mg-fotki.yandex.ru/get/2/crazy-sp32.c/0_feaa_4188ec75_X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бе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39.beon.ru/5/28/62805/27/25440327/freedoc_ru_42507.jpe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ог изоби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orinka-m.kiev.ua/uploaded/tkatstvo/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р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tihi.ru/pics/2010/01/15/3292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50.radikal.ru/i127/0906/c9/2cb21b911aa5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кот как угоре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Одинокий как </a:t>
            </a:r>
            <a:r>
              <a:rPr b="1" i="1" lang="ru-RU" sz="4800" spc="-1" strike="noStrike">
                <a:solidFill>
                  <a:srgbClr val="7030a0"/>
                </a:solidFill>
                <a:latin typeface="Arial"/>
              </a:rPr>
              <a:t>б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952880" y="4419720"/>
            <a:ext cx="3581640" cy="18288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Совершенно одино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533520" y="3809880"/>
            <a:ext cx="3962160" cy="2743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У неё 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родств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- Нет, 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одинока как былин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агетная рамка 5"/>
          <p:cNvSpPr/>
          <p:nvPr/>
        </p:nvSpPr>
        <p:spPr>
          <a:xfrm>
            <a:off x="685800" y="1066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агетная рамка 6"/>
          <p:cNvSpPr/>
          <p:nvPr/>
        </p:nvSpPr>
        <p:spPr>
          <a:xfrm>
            <a:off x="685800" y="23623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C:\Users\Елена\Desktop\былинка.jpeg"/>
          <p:cNvPicPr/>
          <p:nvPr/>
        </p:nvPicPr>
        <p:blipFill>
          <a:blip r:embed="rId2"/>
          <a:stretch/>
        </p:blipFill>
        <p:spPr>
          <a:xfrm>
            <a:off x="5257800" y="990720"/>
            <a:ext cx="236232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ак в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в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ду смотре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3962520" y="1143000"/>
            <a:ext cx="289548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очно предсказа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едугад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то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/>
          <p:cNvSpPr/>
          <p:nvPr/>
        </p:nvSpPr>
        <p:spPr>
          <a:xfrm>
            <a:off x="152280" y="4267080"/>
            <a:ext cx="3962520" cy="24386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т стари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родных гада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 время которых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де(в посуде с вод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иделось т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олжно было произой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4191120" y="3962520"/>
            <a:ext cx="4800600" cy="2438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Он же говорил, что эт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штангист займ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ерв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Так и выш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н как в воду смотр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агетная рамка 6"/>
          <p:cNvSpPr/>
          <p:nvPr/>
        </p:nvSpPr>
        <p:spPr>
          <a:xfrm>
            <a:off x="152280" y="838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агетная рамка 7"/>
          <p:cNvSpPr/>
          <p:nvPr/>
        </p:nvSpPr>
        <p:spPr>
          <a:xfrm>
            <a:off x="152280" y="1981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агетная рамка 8"/>
          <p:cNvSpPr/>
          <p:nvPr/>
        </p:nvSpPr>
        <p:spPr>
          <a:xfrm>
            <a:off x="152280" y="3124080"/>
            <a:ext cx="358164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ОГДА СМОТРЕЛИ В ВО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C:\Users\Елена\Desktop\как в воду смотрел.jpg"/>
          <p:cNvPicPr/>
          <p:nvPr/>
        </p:nvPicPr>
        <p:blipFill>
          <a:blip r:embed="rId2"/>
          <a:stretch/>
        </p:blipFill>
        <p:spPr>
          <a:xfrm>
            <a:off x="6983280" y="914400"/>
            <a:ext cx="191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3352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иять как новый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г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ивен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4267080" y="2438280"/>
            <a:ext cx="46483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есело улыба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ход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благодушно-приподнят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радостном настро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4267080" y="4495680"/>
            <a:ext cx="4648320" cy="22100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Представляю, как он ра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иезду бра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Сияет как новый гривен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28600" y="4572000"/>
            <a:ext cx="3886200" cy="21337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Гривенник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ореволюцио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еребря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он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остоинств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 10 копе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Багетная рамка 6"/>
          <p:cNvSpPr/>
          <p:nvPr/>
        </p:nvSpPr>
        <p:spPr>
          <a:xfrm>
            <a:off x="22860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Багетная рамка 7"/>
          <p:cNvSpPr/>
          <p:nvPr/>
        </p:nvSpPr>
        <p:spPr>
          <a:xfrm>
            <a:off x="22860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8"/>
          <p:cNvSpPr/>
          <p:nvPr/>
        </p:nvSpPr>
        <p:spPr>
          <a:xfrm>
            <a:off x="22860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ТО ТАКОЕ ГРИВЕН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C:\Users\Елена\Desktop\гривенник.jpg"/>
          <p:cNvPicPr/>
          <p:nvPr/>
        </p:nvPicPr>
        <p:blipFill>
          <a:blip r:embed="rId2"/>
          <a:stretch/>
        </p:blipFill>
        <p:spPr>
          <a:xfrm>
            <a:off x="4267080" y="762120"/>
            <a:ext cx="4267440" cy="15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Рухнуть как карточный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д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ом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4191120" y="1219320"/>
            <a:ext cx="42670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Развалиться легко, раз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оверш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(о сооружени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лане, надеж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276720" y="3886200"/>
            <a:ext cx="5562360" cy="26668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И это мощное 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тоже разрушило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емлетряс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Рухнуло как карточный дом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агетная рамка 5"/>
          <p:cNvSpPr/>
          <p:nvPr/>
        </p:nvSpPr>
        <p:spPr>
          <a:xfrm>
            <a:off x="228600" y="990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агетная рамка 6"/>
          <p:cNvSpPr/>
          <p:nvPr/>
        </p:nvSpPr>
        <p:spPr>
          <a:xfrm>
            <a:off x="228600" y="2286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:\Users\Елена\Desktop\карт.домик.jpeg"/>
          <p:cNvPicPr/>
          <p:nvPr/>
        </p:nvPicPr>
        <p:blipFill>
          <a:blip r:embed="rId2"/>
          <a:stretch/>
        </p:blipFill>
        <p:spPr>
          <a:xfrm>
            <a:off x="838080" y="350532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27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51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Крутиться, вертеться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е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г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3733920" y="83808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ы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резмер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вижн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поседл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4191120" y="4343400"/>
            <a:ext cx="4724280" cy="22096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Она математ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лохо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Вертится, неб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а уроке как егоз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от и не поним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304920" y="4419720"/>
            <a:ext cx="3581280" cy="228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Егоза – суетли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лиш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виж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поседлив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чело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агетная рамка 6"/>
          <p:cNvSpPr/>
          <p:nvPr/>
        </p:nvSpPr>
        <p:spPr>
          <a:xfrm>
            <a:off x="0" y="8380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агетная рамка 7"/>
          <p:cNvSpPr/>
          <p:nvPr/>
        </p:nvSpPr>
        <p:spPr>
          <a:xfrm>
            <a:off x="0" y="2057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агетная рамка 8"/>
          <p:cNvSpPr/>
          <p:nvPr/>
        </p:nvSpPr>
        <p:spPr>
          <a:xfrm>
            <a:off x="0" y="3276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ТО ТАКОЙ ЕГОЗ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C:\Users\Елена\Desktop\егоза.jpg"/>
          <p:cNvPicPr/>
          <p:nvPr/>
        </p:nvPicPr>
        <p:blipFill>
          <a:blip r:embed="rId2"/>
          <a:stretch/>
        </p:blipFill>
        <p:spPr>
          <a:xfrm>
            <a:off x="6629400" y="1447920"/>
            <a:ext cx="198108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5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Беречь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з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еницу 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4114800" y="838080"/>
            <a:ext cx="4800600" cy="190512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речь, 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ого(что)-либ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 особой забот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ответственност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4267080" y="4876920"/>
            <a:ext cx="4496040" cy="1447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Зеница ок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уквально: зрачок гл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191120" y="2819520"/>
            <a:ext cx="4724280" cy="1752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Это же очень ред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ценная кни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Я это знаю и берегу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ак зеницу 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Багетная рамка 6"/>
          <p:cNvSpPr/>
          <p:nvPr/>
        </p:nvSpPr>
        <p:spPr>
          <a:xfrm>
            <a:off x="22860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агетная рамка 7"/>
          <p:cNvSpPr/>
          <p:nvPr/>
        </p:nvSpPr>
        <p:spPr>
          <a:xfrm>
            <a:off x="228600" y="213372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агетная рамка 8"/>
          <p:cNvSpPr/>
          <p:nvPr/>
        </p:nvSpPr>
        <p:spPr>
          <a:xfrm>
            <a:off x="228600" y="3352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ТО ТАКОЕ ЗЕН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C:\Users\Елена\Desktop\зрачок.jpg"/>
          <p:cNvPicPr/>
          <p:nvPr/>
        </p:nvPicPr>
        <p:blipFill>
          <a:blip r:embed="rId2"/>
          <a:stretch/>
        </p:blipFill>
        <p:spPr>
          <a:xfrm>
            <a:off x="304920" y="4648320"/>
            <a:ext cx="3504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00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96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идеть, стоять как </a:t>
            </a:r>
            <a:r>
              <a:rPr b="1" i="1" lang="en-US" sz="44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сту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3962520" y="838080"/>
            <a:ext cx="4724280" cy="16002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идеть, стоя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неподвиж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олча или бездея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безынициати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52280" y="4724280"/>
            <a:ext cx="3962520" cy="1981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стукан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атуя, идол, котор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язычники поклон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как боже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4038480" y="2514600"/>
            <a:ext cx="4572000" cy="1981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Вы даже се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ей не предлож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- Я совсем растерял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тоял как истукан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Багетная рамка 6"/>
          <p:cNvSpPr/>
          <p:nvPr/>
        </p:nvSpPr>
        <p:spPr>
          <a:xfrm>
            <a:off x="0" y="9144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агетная рамка 7"/>
          <p:cNvSpPr/>
          <p:nvPr/>
        </p:nvSpPr>
        <p:spPr>
          <a:xfrm>
            <a:off x="0" y="3429000"/>
            <a:ext cx="3581280" cy="106668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ЧТО ТАКОЕ ИСТУ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агетная рамка 8"/>
          <p:cNvSpPr/>
          <p:nvPr/>
        </p:nvSpPr>
        <p:spPr>
          <a:xfrm>
            <a:off x="0" y="2209680"/>
            <a:ext cx="3581280" cy="1067040"/>
          </a:xfrm>
          <a:prstGeom prst="bevel">
            <a:avLst>
              <a:gd name="adj" fmla="val 12500"/>
            </a:avLst>
          </a:prstGeom>
          <a:solidFill>
            <a:srgbClr val="f2f2f2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РИМЕР УПОТРЕБ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C:\Users\Елена\Desktop\fe99102845.jpg"/>
          <p:cNvPicPr/>
          <p:nvPr/>
        </p:nvPicPr>
        <p:blipFill>
          <a:blip r:embed="rId2"/>
          <a:stretch/>
        </p:blipFill>
        <p:spPr>
          <a:xfrm>
            <a:off x="5181480" y="4648320"/>
            <a:ext cx="25146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7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тенок</cp:lastModifiedBy>
  <dcterms:modified xsi:type="dcterms:W3CDTF">2010-06-14T14:06:44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