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12.png" ContentType="image/png"/>
  <Override PartName="/ppt/media/image37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36.jpeg" ContentType="image/jpeg"/>
  <Override PartName="/ppt/media/image44.png" ContentType="image/png"/>
  <Override PartName="/ppt/media/image45.jpeg" ContentType="image/jpeg"/>
  <Override PartName="/ppt/media/image34.png" ContentType="image/png"/>
  <Override PartName="/ppt/media/image9.png" ContentType="image/png"/>
  <Override PartName="/ppt/media/image46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52.png" ContentType="image/png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3FA-A13A-4305-934E-BBFBC208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8F1-18FA-4592-A1D8-DB0871F0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8A5-C23B-4CF9-A0B0-6ABBC66B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E03-FE94-46C4-A4BD-8A1C516C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AC0-8995-46CE-845C-BBECAAD9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780-95C7-4EBB-9CC7-1536E2F4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040-8732-46AB-9B3B-EEFC6F81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F3D-B6D9-484D-B885-41280733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B5C-6C58-46EA-B325-17340D45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E98-D4A7-4904-83BE-8D2CF12C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86D-36D5-42C2-9675-D6CF234F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385-EAF4-4AF7-A28A-A4DCDAE8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1E61-7225-4259-B66F-5E56F2B44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5/www12rus.35/0_1c533_d3d37b4e_X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article/304/980fdfddd203346cb8867bac9972b26d_big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uralpress.ru/show_thumbinail.php?w=800&amp;image=img/111408_mama31.jpg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upload.wikimedia.org/wikipedia/ru/a/a7/&#1056;&#1072;&#1089;&#1089;&#1090;&#1088;&#1077;&#1083;_&#1073;&#1077;&#1083;&#1086;&#1075;&#1086;_&#1076;&#1086;&#1084;&#1072;_&#1074;_1993_&#1075;&#1086;&#1076;&#1091;.jpg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.foto.radikal.ru/0704/93/dbcea1aa0342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newsland.ru/public/upload/news/big_1194504905_img.jpg" TargetMode="External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rkhit.info/main.php?g2_view=core.DownloadItem&amp;g2_itemId=16971&amp;g2_serialNumber=4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radiorus.ru/p/b_190244.jpg" TargetMode="External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newsru.com/pict/id/large/882659_1157104296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.lenta.ru/news/2007/11/03/chernomyrdin/pictu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ay.kiev.ua/img/61315/58-3-2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28 из 1254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3"/>
          <a:stretch/>
        </p:blipFill>
        <p:spPr>
          <a:xfrm>
            <a:off x="628560" y="298440"/>
            <a:ext cx="7882200" cy="124920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4"/>
          <a:stretch/>
        </p:blipFill>
        <p:spPr>
          <a:xfrm>
            <a:off x="2359080" y="3255840"/>
            <a:ext cx="6424560" cy="1401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57120" y="5143680"/>
            <a:ext cx="268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авлова Анеля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У СОШ №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. Вышнего Во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571680" y="214200"/>
            <a:ext cx="5143320" cy="503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вый глава Правительства  Е.М.Прима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Опора на собственные силы и дост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ционального соглас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дение курса рубля – более выго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словия для отече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варопроизводителей; оживление ре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ктора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Борьба с коррупцией и с преступ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нижение вдвое бюджетного дефи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 счет снижения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с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чалась ликвидация задолженност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рплатам и пенс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714240" y="542916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Май 1999г. – Е.Примакова  сменил С.Степ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Август 1999г.-  С.Степашина – В.Пу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skolkovo.ru/mambots/content/multithumb/images/9bcf25565fbf337a7323c823419a27df.jpg"/>
          <p:cNvPicPr/>
          <p:nvPr/>
        </p:nvPicPr>
        <p:blipFill>
          <a:blip r:embed="rId1"/>
          <a:stretch/>
        </p:blipFill>
        <p:spPr>
          <a:xfrm>
            <a:off x="6662880" y="49320"/>
            <a:ext cx="1596960" cy="3035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pravkniga.ru/pictures/site/neud/stepashin.jpg"/>
          <p:cNvPicPr/>
          <p:nvPr/>
        </p:nvPicPr>
        <p:blipFill>
          <a:blip r:embed="rId2"/>
          <a:stretch/>
        </p:blipFill>
        <p:spPr>
          <a:xfrm>
            <a:off x="6119640" y="2571840"/>
            <a:ext cx="2049480" cy="168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www.armenians.net/news/admin/pictures/815/0771c90a7197bc2b228d01978195dcf2.jpeg"/>
          <p:cNvPicPr/>
          <p:nvPr/>
        </p:nvPicPr>
        <p:blipFill>
          <a:blip r:embed="rId3"/>
          <a:stretch/>
        </p:blipFill>
        <p:spPr>
          <a:xfrm>
            <a:off x="6267600" y="4084560"/>
            <a:ext cx="286992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хема 1" descr=""/>
          <p:cNvPicPr/>
          <p:nvPr/>
        </p:nvPicPr>
        <p:blipFill>
          <a:blip r:embed="rId1"/>
          <a:stretch/>
        </p:blipFill>
        <p:spPr>
          <a:xfrm>
            <a:off x="853920" y="1390680"/>
            <a:ext cx="6789960" cy="4076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071720" y="3071880"/>
            <a:ext cx="4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ece1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429000" y="2643120"/>
            <a:ext cx="37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eeece1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extBox 6" descr=""/>
          <p:cNvPicPr/>
          <p:nvPr/>
        </p:nvPicPr>
        <p:blipFill>
          <a:blip r:embed="rId2"/>
          <a:stretch/>
        </p:blipFill>
        <p:spPr>
          <a:xfrm>
            <a:off x="652320" y="603360"/>
            <a:ext cx="8101080" cy="13176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7" descr=""/>
          <p:cNvPicPr/>
          <p:nvPr/>
        </p:nvPicPr>
        <p:blipFill>
          <a:blip r:embed="rId3"/>
          <a:stretch/>
        </p:blipFill>
        <p:spPr>
          <a:xfrm>
            <a:off x="414360" y="5121360"/>
            <a:ext cx="8028000" cy="1749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Итоги экономических преобразова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071720"/>
            <a:ext cx="5043600" cy="50544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992-1997гг. – ВВП сократился на 40%(56%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997г. – прекращение инфляции (но в основном за счет невыплаты зарплат бюджетника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Мнения экспертов относительно начавшегося экономического роста расходят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img.nr2.ru/pict/arts1/16/79/167907.jpg"/>
          <p:cNvPicPr/>
          <p:nvPr/>
        </p:nvPicPr>
        <p:blipFill>
          <a:blip r:embed="rId1"/>
          <a:stretch/>
        </p:blipFill>
        <p:spPr>
          <a:xfrm>
            <a:off x="6199200" y="768240"/>
            <a:ext cx="1311120" cy="12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www.apn.ru/userdata/images/1998.jpg"/>
          <p:cNvPicPr/>
          <p:nvPr/>
        </p:nvPicPr>
        <p:blipFill>
          <a:blip r:embed="rId2"/>
          <a:stretch/>
        </p:blipFill>
        <p:spPr>
          <a:xfrm>
            <a:off x="5724360" y="2498760"/>
            <a:ext cx="3144960" cy="1682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img.vz.ru/upimg/m19/m197877.jpg"/>
          <p:cNvPicPr/>
          <p:nvPr/>
        </p:nvPicPr>
        <p:blipFill>
          <a:blip r:embed="rId3"/>
          <a:stretch/>
        </p:blipFill>
        <p:spPr>
          <a:xfrm>
            <a:off x="6151680" y="4114800"/>
            <a:ext cx="2217600" cy="2706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aif.ru/application/public/article/304/980fdfddd203346cb8867bac9972b26d_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72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Заголовок 1"/>
          <p:cNvGrpSpPr/>
          <p:nvPr/>
        </p:nvGrpSpPr>
        <p:grpSpPr>
          <a:xfrm>
            <a:off x="450720" y="1889280"/>
            <a:ext cx="8248680" cy="1950840"/>
            <a:chOff x="450720" y="1889280"/>
            <a:chExt cx="8248680" cy="1950840"/>
          </a:xfrm>
        </p:grpSpPr>
        <p:pic>
          <p:nvPicPr>
            <p:cNvPr id="100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450720" y="1889280"/>
              <a:ext cx="824868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85800" y="21304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Политическая жизнь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Подзаголовок 2"/>
          <p:cNvGrpSpPr/>
          <p:nvPr/>
        </p:nvGrpSpPr>
        <p:grpSpPr>
          <a:xfrm>
            <a:off x="1133640" y="3651120"/>
            <a:ext cx="6876720" cy="2225880"/>
            <a:chOff x="1133640" y="3651120"/>
            <a:chExt cx="6876720" cy="2225880"/>
          </a:xfrm>
        </p:grpSpPr>
        <p:pic>
          <p:nvPicPr>
            <p:cNvPr id="103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1133640" y="3651120"/>
              <a:ext cx="687672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98989"/>
                  </a:solidFill>
                  <a:latin typeface="Calibri"/>
                </a:rPr>
                <a:t>Россия на пути к демократическому обществу и правовому государству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Заголовок 1"/>
          <p:cNvGrpSpPr/>
          <p:nvPr/>
        </p:nvGrpSpPr>
        <p:grpSpPr>
          <a:xfrm>
            <a:off x="304920" y="122400"/>
            <a:ext cx="8534160" cy="1450800"/>
            <a:chOff x="304920" y="122400"/>
            <a:chExt cx="8534160" cy="1450800"/>
          </a:xfrm>
        </p:grpSpPr>
        <p:pic>
          <p:nvPicPr>
            <p:cNvPr id="1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122400"/>
              <a:ext cx="853416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Calibri"/>
                </a:rPr>
                <a:t>РАЗРАБОТКА НОВОЙ КОНСТИТУЦИИ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Содержимое 2"/>
          <p:cNvGrpSpPr/>
          <p:nvPr/>
        </p:nvGrpSpPr>
        <p:grpSpPr>
          <a:xfrm>
            <a:off x="304920" y="1450800"/>
            <a:ext cx="8534160" cy="4827600"/>
            <a:chOff x="304920" y="1450800"/>
            <a:chExt cx="8534160" cy="4827600"/>
          </a:xfrm>
        </p:grpSpPr>
        <p:pic>
          <p:nvPicPr>
            <p:cNvPr id="109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04920" y="1450800"/>
              <a:ext cx="853416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alibri"/>
                </a:rPr>
                <a:t>1990Г.-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alibri"/>
                </a:rPr>
                <a:t>СЪЕЗД НАРОДНЫХ ДЕПУТАТОВ СОЗДАЛ КОНСТИТУЦИОННУЮ КОМИССИЮ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alibri"/>
                </a:rPr>
                <a:t>НО БОРЬБА ПОЛИТИЧЕСКОЙ ЭЛИТЫ ЗА ВЛАСТЬ НЕ ПОЗВОЛИЛА ПРИСТУПИТЬ К ПЕРЕСМОТРУ КОНСТИТУЦИИ 1977ГОД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alibri"/>
                </a:rPr>
                <a:t>1992Г.- НАЧАЛО ДИСКУССИИ ОБ ОСНОВАХ КОНСТИТУЦИОННОГО СТРОЯ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войная стрелка влево/вправо 3"/>
          <p:cNvSpPr/>
          <p:nvPr/>
        </p:nvSpPr>
        <p:spPr>
          <a:xfrm>
            <a:off x="3714840" y="1714680"/>
            <a:ext cx="1500120" cy="341280"/>
          </a:xfrm>
          <a:prstGeom prst="left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1143000" y="1643040"/>
            <a:ext cx="2057400" cy="78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ЕЗИДЕН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5786280" y="1643040"/>
            <a:ext cx="2071800" cy="78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АРЛАМЕН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722040" y="6429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ДИСКУ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643040" y="11430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льц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857920" y="114300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рховный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571920" y="2428920"/>
            <a:ext cx="19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тив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5643720" y="2714760"/>
            <a:ext cx="313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ние корректир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ор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ыт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I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ъезда наро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путатов огранич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номочия Б.Ель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857160" y="2571840"/>
            <a:ext cx="26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бращение Ельцин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ибуны съезд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ажданам России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изывом помеш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ползучему переворот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3786120" y="142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content.foto.mail.ru/mail/moroz308/_blogs/i-93.jpg"/>
          <p:cNvPicPr/>
          <p:nvPr/>
        </p:nvPicPr>
        <p:blipFill>
          <a:blip r:embed="rId1"/>
          <a:stretch/>
        </p:blipFill>
        <p:spPr>
          <a:xfrm>
            <a:off x="5572080" y="4286160"/>
            <a:ext cx="357192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Картинка 5 из 165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4286160"/>
            <a:ext cx="364320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3714840" y="357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428840" y="857160"/>
            <a:ext cx="6613560" cy="64260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тороны ищут пути к разрешению конфликта в свою поль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путем решительных бескомпромисс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42920" y="428760"/>
            <a:ext cx="7146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404028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льц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174400"/>
            <a:ext cx="4040280" cy="43974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Выступает с заявлением о том, что намерен «остановить разрушительное влияние двоевластия на Россию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1 сентября подписывает Указ №1400 </a:t>
            </a:r>
            <a:r>
              <a:rPr b="0" lang="en-US" sz="2200" spc="-1" strike="noStrike">
                <a:solidFill>
                  <a:srgbClr val="c0504d"/>
                </a:solidFill>
                <a:latin typeface="Calibri"/>
              </a:rPr>
              <a:t>«О поэтапной конституционной реформе»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ликвидация полномочий Съезда и предложение назначить выборы в новый 2-х палатный парламент – Федеральное Собрание на 11-12 декабря 1993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571400"/>
            <a:ext cx="404172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рховный Со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174400"/>
            <a:ext cx="4041720" cy="43974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ценил произошедшее как переворот и принял решение об отстранении Ельцина с поста Президента (10-й чрезвычайный съезд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значение вице-президента А.Руцкого исполняющим обязанности Презид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Переход противостояния в силовую борьб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00008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льц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642680"/>
            <a:ext cx="4040280" cy="44830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енная блокада Дома Советов («Белого дома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чало вооруженных столкновений, по приказу Ельцина в Москву введены войс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октября отдается приказ штурмовать «Белый д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Ельцин расстреливает парламент – государственный переворот!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00008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рховный Со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1642680"/>
            <a:ext cx="4041720" cy="44830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ормирование военизированных отрядов из добровольце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позиция прорывается в «Белый дом», предпринимается попытка штурма московской мэрии, столкновения у Останки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асбулатов и Руцкой арестов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6"/>
          <p:cNvSpPr/>
          <p:nvPr/>
        </p:nvSpPr>
        <p:spPr>
          <a:xfrm>
            <a:off x="1514160" y="642960"/>
            <a:ext cx="6193080" cy="13136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В ходе этих событий погибли не только защи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«Белого дома», но и случайные прохож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По официальным данным точное колич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погибших составило 145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http://www.polemics.ru/articles/1e/c7_0e.jpg"/>
          <p:cNvPicPr/>
          <p:nvPr/>
        </p:nvPicPr>
        <p:blipFill>
          <a:blip r:embed="rId1"/>
          <a:stretch/>
        </p:blipFill>
        <p:spPr>
          <a:xfrm>
            <a:off x="4572000" y="2071800"/>
            <a:ext cx="4114800" cy="226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nmn.by/files/146290.jpg"/>
          <p:cNvPicPr/>
          <p:nvPr/>
        </p:nvPicPr>
        <p:blipFill>
          <a:blip r:embed="rId2"/>
          <a:stretch/>
        </p:blipFill>
        <p:spPr>
          <a:xfrm>
            <a:off x="714240" y="2071800"/>
            <a:ext cx="3714840" cy="2381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t1.gstatic.com/images?q=tbn:YWWNup10njbunM::www.comstol.ru/Tr/2008/157-2.jpg&amp;t=1&amp;h=173&amp;w=292&amp;usg=__3QtBeqzmkyR8WP7ToEzK7xpPAUk="/>
          <p:cNvPicPr/>
          <p:nvPr/>
        </p:nvPicPr>
        <p:blipFill>
          <a:blip r:embed="rId3"/>
          <a:stretch/>
        </p:blipFill>
        <p:spPr>
          <a:xfrm>
            <a:off x="4643280" y="4357800"/>
            <a:ext cx="4071960" cy="226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Файл:Расстрел белого дома в 1993 году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2960" y="4071960"/>
            <a:ext cx="3809880" cy="2581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ыборы в парламент и принятие новой Конституции.  12 декабря 1993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водились на многопартийной осно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Диаграмма 3" descr=""/>
          <p:cNvPicPr/>
          <p:nvPr/>
        </p:nvPicPr>
        <p:blipFill>
          <a:blip r:embed="rId1"/>
          <a:stretch/>
        </p:blipFill>
        <p:spPr>
          <a:xfrm>
            <a:off x="1523880" y="2143080"/>
            <a:ext cx="609624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28 октября 1991 г. –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съезд народных депутатов РСФС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рограммное выступление Б.Н.Ельц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  переходе  России  к  рын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либерализация цен (отказ от государственного регулирования це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риватизация объектов государственной собств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чало земельной реформы(частная собственность на землю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Принятие новой Конститу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За предложенный проект проголосовало чуть более 50%, что позволило считать Конституцию РФ приня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v.foto.radikal.ru/0704/93/dbcea1aa034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31431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Картинка 3 из 76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760" y="2584440"/>
            <a:ext cx="2219400" cy="4206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Парламентские выборы 1995г. И выборы Президента РФ 1996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Диаграмма 3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Картинка 10 из 13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0"/>
            <a:ext cx="2666880" cy="307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Картинка 1 из 37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151" name="Диаграмма 1" descr=""/>
          <p:cNvPicPr/>
          <p:nvPr/>
        </p:nvPicPr>
        <p:blipFill>
          <a:blip r:embed="rId5"/>
          <a:stretch/>
        </p:blipFill>
        <p:spPr>
          <a:xfrm>
            <a:off x="1500120" y="1357200"/>
            <a:ext cx="6096240" cy="40640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7648200" y="3214800"/>
            <a:ext cx="5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1184040" y="5357880"/>
            <a:ext cx="80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Ко второму туру Ельцину удалось достигнуть договоренности с А.Леб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и выиграть выборы с результатом 53,7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6215040" y="2428920"/>
            <a:ext cx="22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Результаты 1-го 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1 декабря 1991 года Ельцин в обращении к народу заявил, что слагает полномоч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зидентские выборы были назначены н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6 марта 2000г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.о.Президента стал Председател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тельства В.В.Пу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Подзаголовок 2"/>
          <p:cNvGrpSpPr/>
          <p:nvPr/>
        </p:nvGrpSpPr>
        <p:grpSpPr>
          <a:xfrm>
            <a:off x="334800" y="2620800"/>
            <a:ext cx="8407440" cy="4048200"/>
            <a:chOff x="334800" y="2620800"/>
            <a:chExt cx="8407440" cy="4048200"/>
          </a:xfrm>
        </p:grpSpPr>
        <p:pic>
          <p:nvPicPr>
            <p:cNvPr id="157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334800" y="2620800"/>
              <a:ext cx="8407440" cy="40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71680" y="2857680"/>
              <a:ext cx="7929360" cy="35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98989"/>
                  </a:solidFill>
                  <a:latin typeface="Calibri"/>
                </a:rPr>
                <a:t>ИТОГИ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98989"/>
                  </a:solidFill>
                  <a:latin typeface="Calibri"/>
                </a:rPr>
                <a:t>1.Становление парламентаризма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98989"/>
                  </a:solidFill>
                  <a:latin typeface="Calibri"/>
                </a:rPr>
                <a:t>2.Сформировалась независимая система местного самоуправления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98989"/>
                  </a:solidFill>
                  <a:latin typeface="Calibri"/>
                </a:rPr>
                <a:t>3.Оформление многопартийная систем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Картинка 81 из 125474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Федеральный центр и российские реги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Осень 1991г. – все автономные республики РФ провозгласили себя суверенными государствами, а большинство автономных областей объявили себя республика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Края и области начали борьбу за равноправное социально-экономическое и правовое положение с республиками (прекратились отчисления в федеральный бюджет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Конституции всех республик в той или иной степени противоречили Конституции РФ (лидеры: Башкирия, Татарстан и Якут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путь к сохранению единства – подписание новог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Федеративного догово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446040" y="642960"/>
            <a:ext cx="4408200" cy="539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31 марта 1992года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был подпис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Федеративный догов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казались подписать: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Татарст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Чеч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Башкирия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одписала только по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начительных уступ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Содержание – разграни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полномочий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и су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Пример наиболее ярко выраж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Сепаратистских тенденций – Чеч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1991г. – провозглашение пол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независимости, избр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президентом Д.М.Дуда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4"/>
          <p:cNvSpPr/>
          <p:nvPr/>
        </p:nvSpPr>
        <p:spPr>
          <a:xfrm>
            <a:off x="4929120" y="5572080"/>
            <a:ext cx="97812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6150600" y="528624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ешение о политиче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зрешении конфли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img.nr2.ru/pict/arts1/09/71/97180.jpg"/>
          <p:cNvPicPr/>
          <p:nvPr/>
        </p:nvPicPr>
        <p:blipFill>
          <a:blip r:embed="rId1"/>
          <a:stretch/>
        </p:blipFill>
        <p:spPr>
          <a:xfrm>
            <a:off x="5529240" y="-19080"/>
            <a:ext cx="3346560" cy="512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www.constitution.garant.ru/images/pic_const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imp.rudn.ru/ffec/juris/images/17-1.gif"/>
          <p:cNvPicPr/>
          <p:nvPr/>
        </p:nvPicPr>
        <p:blipFill>
          <a:blip r:embed="rId2"/>
          <a:stretch/>
        </p:blipFill>
        <p:spPr>
          <a:xfrm>
            <a:off x="285840" y="785880"/>
            <a:ext cx="821520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2151000" y="500040"/>
            <a:ext cx="47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нец августа – начало сентября 199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дпис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Хасавюртовски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соглашений (Дагест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ежду  РФ  и  Чеч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13040" y="2286000"/>
            <a:ext cx="4961880" cy="283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екращались военн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едеральные войска выводи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 территории Чеч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 Подготовка соглашения между РФ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ечней на основе принцип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май 1997г.) подписан договор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ире и принципах взаимоотнош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дписание соглашения о стату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ечни отодвигалось на 5 лет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2002.novayagazeta.ru/nomer/2002/87n/n87n-s05.jpg"/>
          <p:cNvPicPr/>
          <p:nvPr/>
        </p:nvPicPr>
        <p:blipFill>
          <a:blip r:embed="rId1"/>
          <a:stretch/>
        </p:blipFill>
        <p:spPr>
          <a:xfrm>
            <a:off x="5035680" y="2000160"/>
            <a:ext cx="3578040" cy="4260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428920" y="0"/>
            <a:ext cx="592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торая чеченская вой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антитеррористическая опера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428760" y="1214280"/>
            <a:ext cx="387036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едыстория: ряд террорис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ктов, захваты залож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торжение чечен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оруженных формирований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ерриторию Дагес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Картинка 7 из 972"/>
          <p:cNvPicPr/>
          <p:nvPr/>
        </p:nvPicPr>
        <p:blipFill>
          <a:blip r:embed="rId1"/>
          <a:stretch/>
        </p:blipFill>
        <p:spPr>
          <a:xfrm>
            <a:off x="4529160" y="2157480"/>
            <a:ext cx="4260960" cy="4719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Картинка 11 из 972"/>
          <p:cNvPicPr/>
          <p:nvPr/>
        </p:nvPicPr>
        <p:blipFill>
          <a:blip r:embed="rId2"/>
          <a:stretch/>
        </p:blipFill>
        <p:spPr>
          <a:xfrm>
            <a:off x="0" y="292896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хема 1" descr=""/>
          <p:cNvPicPr/>
          <p:nvPr/>
        </p:nvPicPr>
        <p:blipFill>
          <a:blip r:embed="rId1"/>
          <a:stretch/>
        </p:blipFill>
        <p:spPr>
          <a:xfrm>
            <a:off x="573120" y="1347840"/>
            <a:ext cx="7827840" cy="5083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667800" y="571680"/>
            <a:ext cx="7889040" cy="192348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Создание российской национальной валюты и обеспечение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конвертиру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Активизация внешнеполи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ответственным за реализацию программы стал вице-премь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Правительства РСФСР  Е. Т. Гай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rweek.ru/up/article/img/sRJipyrA66o0oRX356x4wKkNW3QyQApR.jpg"/>
          <p:cNvPicPr/>
          <p:nvPr/>
        </p:nvPicPr>
        <p:blipFill>
          <a:blip r:embed="rId1"/>
          <a:stretch/>
        </p:blipFill>
        <p:spPr>
          <a:xfrm>
            <a:off x="1714680" y="2786040"/>
            <a:ext cx="5543280" cy="3629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хема 1" descr=""/>
          <p:cNvPicPr/>
          <p:nvPr/>
        </p:nvPicPr>
        <p:blipFill>
          <a:blip r:embed="rId1"/>
          <a:stretch/>
        </p:blipFill>
        <p:spPr>
          <a:xfrm>
            <a:off x="1481040" y="1066680"/>
            <a:ext cx="6132600" cy="5010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642960" y="500040"/>
            <a:ext cx="89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Ухудшение геополитического и военно-стратегического положе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5"/>
          <p:cNvSpPr/>
          <p:nvPr/>
        </p:nvSpPr>
        <p:spPr>
          <a:xfrm>
            <a:off x="357120" y="214200"/>
            <a:ext cx="2357640" cy="1285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оссия и зап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6"/>
          <p:cNvSpPr/>
          <p:nvPr/>
        </p:nvSpPr>
        <p:spPr>
          <a:xfrm>
            <a:off x="3143160" y="714240"/>
            <a:ext cx="2643120" cy="1428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оссия и Во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7"/>
          <p:cNvSpPr/>
          <p:nvPr/>
        </p:nvSpPr>
        <p:spPr>
          <a:xfrm>
            <a:off x="6072120" y="1214280"/>
            <a:ext cx="2571840" cy="1128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оссия и ближнее зарубеж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авая фигурная скобка 8"/>
          <p:cNvSpPr/>
          <p:nvPr/>
        </p:nvSpPr>
        <p:spPr>
          <a:xfrm>
            <a:off x="2928960" y="2643120"/>
            <a:ext cx="571320" cy="3571920"/>
          </a:xfrm>
          <a:custGeom>
            <a:avLst/>
            <a:gdLst>
              <a:gd name="textAreaLeft" fmla="*/ 0 w 571320"/>
              <a:gd name="textAreaRight" fmla="*/ 206280 w 571320"/>
              <a:gd name="textAreaTop" fmla="*/ 0 h 3571920"/>
              <a:gd name="textAreaBottom" fmla="*/ 3572280 h 35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61"/>
                </a:lnTo>
                <a:cubicBezTo>
                  <a:pt x="10800" y="10861"/>
                  <a:pt x="16200" y="10861"/>
                  <a:pt x="21600" y="10861"/>
                </a:cubicBezTo>
                <a:cubicBezTo>
                  <a:pt x="16200" y="10861"/>
                  <a:pt x="10800" y="10861"/>
                  <a:pt x="10800" y="10861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авая фигурная скобка 9"/>
          <p:cNvSpPr/>
          <p:nvPr/>
        </p:nvSpPr>
        <p:spPr>
          <a:xfrm>
            <a:off x="5643720" y="2786040"/>
            <a:ext cx="285480" cy="3786120"/>
          </a:xfrm>
          <a:custGeom>
            <a:avLst/>
            <a:gdLst>
              <a:gd name="textAreaLeft" fmla="*/ 0 w 285480"/>
              <a:gd name="textAreaRight" fmla="*/ 102960 w 285480"/>
              <a:gd name="textAreaTop" fmla="*/ 0 h 3786120"/>
              <a:gd name="textAreaBottom" fmla="*/ 3786480 h 37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авая фигурная скобка 10"/>
          <p:cNvSpPr/>
          <p:nvPr/>
        </p:nvSpPr>
        <p:spPr>
          <a:xfrm>
            <a:off x="8786880" y="2357280"/>
            <a:ext cx="357120" cy="3857760"/>
          </a:xfrm>
          <a:custGeom>
            <a:avLst/>
            <a:gdLst>
              <a:gd name="textAreaLeft" fmla="*/ 0 w 357120"/>
              <a:gd name="textAreaRight" fmla="*/ 128880 w 35712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44"/>
                </a:lnTo>
                <a:cubicBezTo>
                  <a:pt x="10800" y="10744"/>
                  <a:pt x="16200" y="10744"/>
                  <a:pt x="21600" y="10744"/>
                </a:cubicBezTo>
                <a:cubicBezTo>
                  <a:pt x="16200" y="10744"/>
                  <a:pt x="10800" y="10744"/>
                  <a:pt x="10800" y="1074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285840" y="1500120"/>
            <a:ext cx="2896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одписание Кэмп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эвидской  декла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992) о 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стороны не рассма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вают друг друг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нци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ников. Зафик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вано прекр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холодной вой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1993г.- договор ОСНВ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 апрель 2000г.- ратиф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ирован ГД) 2/3 от ОСНВ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держивание расширения Н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1994г.- признание России  ЕС страной с переходной эконом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3102840" y="2500200"/>
            <a:ext cx="318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окращение эко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ческих связей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диционными пар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рами :Монгол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ьетнам, КНДР, И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Улучшение отнош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й с Китаем (партн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Активизация внеш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полит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алога с Япон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5598360" y="2928960"/>
            <a:ext cx="377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Подписание согла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 Украиной о разд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ерноморского флота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о дружбе и сотруднич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Подписание Договора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оюзе с Белоруссией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 января 2000г.  Произош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бмен ратификацио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амо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403152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удности в отношениях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осударствами Прибал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оссия на рубеже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XXI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е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071360"/>
            <a:ext cx="528624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Создание 7 федеральных округ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Приведение местных законов в соответствие с Конституцией РФ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Реформа Федерального Собра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Принятие нового Закона «О политических партиях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Начата судебная рефор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Реализация военной рефор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Реализация реформы местного самоуправ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Утверждение ГД в 2000г. Закона о национальных символах Рос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Регулярные встречи Президента с лидерами думских фракц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6357960" y="928800"/>
            <a:ext cx="2549520" cy="6426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крепление россий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Государ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Картинка 10 из 19818"/>
          <p:cNvPicPr/>
          <p:nvPr/>
        </p:nvPicPr>
        <p:blipFill>
          <a:blip r:embed="rId1"/>
          <a:stretch/>
        </p:blipFill>
        <p:spPr>
          <a:xfrm>
            <a:off x="4992840" y="1676520"/>
            <a:ext cx="3627360" cy="5151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Экономика и социальная сф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071720"/>
            <a:ext cx="5186520" cy="505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кращение внешних заимствований и начало выплат по долг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1г.- налоговая реформа (единый 13% налог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ятие законов о поддержке малого и среднего бизне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рарная реформа (з-ны о купле-продаже земл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ение власти монопол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станцирование «олигархов» от вл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еличение расходов на оборон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юджет 2002г. впервые стал профицит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о реформирования системы здравоохранения и образования, пенсионная реформа.(нац. проект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6009840" y="1143000"/>
            <a:ext cx="2785320" cy="9169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се это стало возмо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благодаря высоким це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а энергонос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img-fotki.yandex.ru/get/23/elkin99.2/0_90d1_7de6c31f_XL.jpg"/>
          <p:cNvPicPr/>
          <p:nvPr/>
        </p:nvPicPr>
        <p:blipFill>
          <a:blip r:embed="rId1"/>
          <a:stretch/>
        </p:blipFill>
        <p:spPr>
          <a:xfrm>
            <a:off x="5695920" y="2357280"/>
            <a:ext cx="344808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Усиление борьбы с терроризм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071720"/>
            <a:ext cx="5257800" cy="5286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1999г. – вторжение боевиков в Дагестан; взрывы жилых домов в Буйнакске, Москве и Волгодонск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Осень 1999г. Федеральные войска вошли в Чечню и взяли под контроль важнейшие населенные пункт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роведение антитеррористической операции одновременно с восстановлением республ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2002г.- серия терактов в различных городах Росс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2003г.- референдум в  Чечне проде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онстрировал желание жителей остаться в составе России. Президентом был избран А.Кадыров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Картинка 6 из 7729"/>
          <p:cNvPicPr/>
          <p:nvPr/>
        </p:nvPicPr>
        <p:blipFill>
          <a:blip r:embed="rId1"/>
          <a:stretch/>
        </p:blipFill>
        <p:spPr>
          <a:xfrm>
            <a:off x="6066000" y="2266920"/>
            <a:ext cx="2869920" cy="4408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Картинка 40 из 2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www.ido.rudn.ru/nfpk/hist/pic/28/v28_11.jpg"/>
          <p:cNvPicPr/>
          <p:nvPr/>
        </p:nvPicPr>
        <p:blipFill>
          <a:blip r:embed="rId2"/>
          <a:stretch/>
        </p:blipFill>
        <p:spPr>
          <a:xfrm>
            <a:off x="6620040" y="304920"/>
            <a:ext cx="1933560" cy="306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www.intv.ua/media/img/old/news/p_img_57805264.jpg"/>
          <p:cNvPicPr/>
          <p:nvPr/>
        </p:nvPicPr>
        <p:blipFill>
          <a:blip r:embed="rId3"/>
          <a:stretch/>
        </p:blipFill>
        <p:spPr>
          <a:xfrm>
            <a:off x="6540480" y="4102200"/>
            <a:ext cx="2359080" cy="2811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0" y="857160"/>
            <a:ext cx="5143680" cy="5500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нятие доктрины национальной безопасности и информационной безопас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астие в контртеррористической операции в Афганистане ( предоставлено наше воздушное пространств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002г.- соглашение с НАТО о координации действий в обеспечении м/н безопас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говор с США о сокращении СНВ на 75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иск новых подходов к политике в рамках Содружества ( «цветные» революции на Украине, в Грузии, в Киргиз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72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d0d0d"/>
                </a:solidFill>
                <a:latin typeface="Calibri"/>
              </a:rPr>
              <a:t>Новая внешнеполитическая стратег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960480" y="428760"/>
            <a:ext cx="79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 учетом мест по одномандатным округам «Единая Россия» получила в Г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300 мест ( конституционное большин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719080" y="585792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ВЫБОРЫ 2003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kprf.ru/images/73404.jpg"/>
          <p:cNvPicPr/>
          <p:nvPr/>
        </p:nvPicPr>
        <p:blipFill>
          <a:blip r:embed="rId1"/>
          <a:stretch/>
        </p:blipFill>
        <p:spPr>
          <a:xfrm>
            <a:off x="428760" y="785880"/>
            <a:ext cx="8715240" cy="60976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"/>
          <p:cNvSpPr/>
          <p:nvPr/>
        </p:nvSpPr>
        <p:spPr>
          <a:xfrm>
            <a:off x="1000080" y="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оссия в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в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offline.computerra.ru/upload/upload/735-45.jpg"/>
          <p:cNvPicPr/>
          <p:nvPr/>
        </p:nvPicPr>
        <p:blipFill>
          <a:blip r:embed="rId1"/>
          <a:stretch/>
        </p:blipFill>
        <p:spPr>
          <a:xfrm>
            <a:off x="642960" y="404640"/>
            <a:ext cx="7500960" cy="5953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731520" y="1000080"/>
            <a:ext cx="6267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Данилов,Л.Г.Косулина, М.Ю.Бранд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Росс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для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, «Просвещение»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тивный материал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orum-tvs/ru,  www.newsprom.ru, persona.rin.r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bookin.org.ru, www.soldatrossii.ru, www.fictionbook.r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rus.ru, www.3dnews.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«шоковая терап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404028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785960"/>
            <a:ext cx="4040280" cy="38577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вободное ценообразование приведет к повышению цен в 3 р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0% повышение зарплаты бюджетников компенсирует потери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окращение расходов на вооружение на 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285560"/>
            <a:ext cx="404172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1856880"/>
            <a:ext cx="4041720" cy="371484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Цены на все товары народного потребления выросли в 100 – 120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ко вырос импорт, что привело к закрытию многих предприятий и массовой безработ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теря источников пополнения бюдж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071720" y="60721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Падение уровня доверия общества к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ddd9c3"/>
                </a:solidFill>
                <a:latin typeface="Calibri"/>
              </a:rPr>
              <a:t>Приватизация – переход объектов государственной собственности к частным владельца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чало – осень 1992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тсутствие средств у населения на покупку ак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шение выдать каждому гражданин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АУЧЕ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приватизационный ч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номинал 10000 рублей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Началось формирование слоя собствен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 вниз 6"/>
          <p:cNvSpPr/>
          <p:nvPr/>
        </p:nvSpPr>
        <p:spPr>
          <a:xfrm>
            <a:off x="1928880" y="3143160"/>
            <a:ext cx="500040" cy="12636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Картинка 24 из 90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2214720"/>
            <a:ext cx="4452840" cy="3857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Корректировка курса рефор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1600200"/>
            <a:ext cx="400068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Декабрь 1992г. –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YII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ъезд народных депутатов освободил от занимаемой должности и.о. председателя правительства Е.Гайдара и утвердил В.Черномырдина (бывшего министра газовой промышленнос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Картинка 12 из 3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9040" y="1643040"/>
            <a:ext cx="521496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кругленный прямоугольник 14"/>
          <p:cNvSpPr/>
          <p:nvPr/>
        </p:nvSpPr>
        <p:spPr>
          <a:xfrm>
            <a:off x="2786040" y="1571760"/>
            <a:ext cx="3929040" cy="1414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42960" y="500040"/>
            <a:ext cx="8001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Гайдар – сторонник либерализации                      Черномырдин – сторон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экономики                                                                            усиления ро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итуация осложнялась пад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ходов бюджета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ледовательно государство не мог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инансировать новый этап ре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должение падения                                          2.  «Бегство» капитала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изводства                                                                   г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лучение креди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ВФ  и Всемирного ба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пуск (ГКО) государ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аткосрочных обяз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7"/>
          <p:cNvCxnSpPr/>
          <p:nvPr/>
        </p:nvCxnSpPr>
        <p:spPr>
          <a:xfrm>
            <a:off x="4572000" y="3785760"/>
            <a:ext cx="929520" cy="5007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11"/>
          <p:cNvCxnSpPr/>
          <p:nvPr/>
        </p:nvCxnSpPr>
        <p:spPr>
          <a:xfrm flipH="1">
            <a:off x="3428280" y="3785040"/>
            <a:ext cx="1143720" cy="5007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0" name="Picture 2" descr="http://www.day.kiev.ua/img/61315/58-3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4440" y="4357800"/>
            <a:ext cx="3049560" cy="221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expert.ru/images/online/04/08-flow.jpg"/>
          <p:cNvPicPr/>
          <p:nvPr/>
        </p:nvPicPr>
        <p:blipFill>
          <a:blip r:embed="rId3"/>
          <a:stretch/>
        </p:blipFill>
        <p:spPr>
          <a:xfrm>
            <a:off x="6286680" y="4286160"/>
            <a:ext cx="285732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Диаграмма 2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104840" y="428760"/>
            <a:ext cx="6944040" cy="36828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eece1"/>
                </a:solidFill>
                <a:latin typeface="Calibri"/>
              </a:rPr>
              <a:t>Результаты первых лет экономических реформ противоречивы</a:t>
            </a:r>
            <a:r>
              <a:rPr b="0" lang="en-US" sz="1800" spc="-1" strike="noStrike">
                <a:solidFill>
                  <a:srgbClr val="eeece1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ашивка 1"/>
          <p:cNvSpPr/>
          <p:nvPr/>
        </p:nvSpPr>
        <p:spPr>
          <a:xfrm>
            <a:off x="4214880" y="150012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1357200" y="1357200"/>
            <a:ext cx="2571840" cy="928800"/>
          </a:xfrm>
          <a:prstGeom prst="rect">
            <a:avLst/>
          </a:prstGeom>
          <a:solidFill>
            <a:srgbClr val="8064a2">
              <a:alpha val="52000"/>
            </a:srgbClr>
          </a:solidFill>
          <a:ln w="76320">
            <a:solidFill>
              <a:srgbClr val="604a7b">
                <a:alpha val="2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ыплаты по процентам Г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929120" y="1357200"/>
            <a:ext cx="2571840" cy="914400"/>
          </a:xfrm>
          <a:prstGeom prst="rect">
            <a:avLst/>
          </a:prstGeom>
          <a:solidFill>
            <a:srgbClr val="8064a2">
              <a:alpha val="52000"/>
            </a:srgbClr>
          </a:solidFill>
          <a:ln w="7632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озможности 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177560" y="428760"/>
            <a:ext cx="64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Финансовый кризис 1998 г. И его 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785880" y="2857680"/>
            <a:ext cx="80722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Черномырдин         Кириенко </a:t>
            </a: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1. ( объявляет о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дефолте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) – от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государства платить по дол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Выплаты по ГКО превзош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возможности бюдж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                                                        </a:t>
            </a: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2. «отмена валютного коридо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( падение курса рубля в 4 ра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обесценивание денежных вкла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                                                         </a:t>
            </a: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3. Сокращение импорта, отказ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8064a2"/>
                </a:solidFill>
                <a:latin typeface="Calibri"/>
              </a:rPr>
              <a:t>помощи со стороны МВ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7"/>
          <p:cNvCxnSpPr/>
          <p:nvPr/>
        </p:nvCxnSpPr>
        <p:spPr>
          <a:xfrm flipV="1">
            <a:off x="856800" y="3142440"/>
            <a:ext cx="2001240" cy="72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Прямая соединительная линия 10"/>
          <p:cNvSpPr/>
          <p:nvPr/>
        </p:nvSpPr>
        <p:spPr>
          <a:xfrm>
            <a:off x="5786280" y="3357720"/>
            <a:ext cx="14288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1882800" y="6286680"/>
            <a:ext cx="54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Правительство Кириенко отправлено в отстав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ladno.ru/person/pic/kirienko02.jpg"/>
          <p:cNvPicPr/>
          <p:nvPr/>
        </p:nvPicPr>
        <p:blipFill>
          <a:blip r:embed="rId1"/>
          <a:stretch/>
        </p:blipFill>
        <p:spPr>
          <a:xfrm>
            <a:off x="1000080" y="3571920"/>
            <a:ext cx="254340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7:08:33Z</dcterms:created>
  <dc:creator>Admin</dc:creator>
  <dc:description/>
  <dc:language>en-US</dc:language>
  <cp:lastModifiedBy>Катенок</cp:lastModifiedBy>
  <dcterms:modified xsi:type="dcterms:W3CDTF">2010-06-14T02:24:42Z</dcterms:modified>
  <cp:revision>114</cp:revision>
  <dc:subject/>
  <dc:title>Россия на рубеже XX – XXI вв.</dc:title>
</cp:coreProperties>
</file>