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AFA-E7FD-4231-A137-47F9B00B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9B1-763E-4F43-94B3-A3C980A3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A5ECC-172D-4CDD-ADA0-24A6C0B9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812B5-1EE7-43E2-870C-59CC691B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CBD21-F1F8-412C-8AF1-AF6C39AD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78BEF-E501-4780-A5C0-B93745FC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6B42D-E481-4449-927A-68054845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AF759-4D42-4C7C-BDB1-7A36D295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F793B-283F-4D21-ABFB-7FA9283B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CDBED-2C4F-4146-8A01-A0E6EFD4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1AC27-4711-466B-8960-825FFA43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268-1201-453E-9EA6-618CBBBA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948-F8FA-427D-BA04-D49FEAD3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2328-79EF-4D89-8832-E1777DB8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CD38-91FC-4AEC-8C98-7525038F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F590-3309-4324-84FA-3E95DDA7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045A-B02D-4CC8-9711-0F88180B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9E00-9DAD-45EF-A3FC-09FB2CF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8D70-C5DB-4DEF-8A7E-47E40157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7F75-0446-4CB2-B108-77BF742A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EC0-CDCA-4808-840A-DCF3FD66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AB78-A511-4A7C-9C63-8F644B7F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7255-6CAD-43DC-8936-ACF24E11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D93A-39BA-4942-8DFA-A7ECC6B2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8F0D-4917-4F98-BF04-84ABFF3B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89A1-2183-402E-85DE-21CF7A62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70F1B-231E-4678-88BC-B6A20C53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0A1DD-C655-4634-91AE-C0A14F75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106A-0267-45FA-954E-48A77952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4F24C-0D2C-49AA-AB3D-AB1E3606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C783-D474-4C58-8E5B-9A28F52F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C64-C6A2-4142-B0C7-753C8C8A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E7E4-8ED5-4F72-A017-B87F7DDA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FB278-8526-41EA-9FB6-26D44AFC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0E7B-D1DF-428C-8FEC-6097C56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DBC4-0C4A-4791-B374-F4EC3EDD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0687-18F0-4E01-98B2-F9A9C24C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A90F-B58B-4D04-90DB-B21538C1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D11EF-F31D-4889-B323-292CBAD3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BF3E8-FD7B-4AE0-96C3-E83FBF30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035F-146D-4E93-B060-8E647372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7624D-A72B-4A2F-8E67-9A8F8061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B87A-7195-43A6-9440-EEFFAE42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7C5BF-DC80-4197-81DF-5A863092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D878-3EDD-4702-A59D-75BB221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4413-817A-4948-A069-70BEFAF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FF3DF-C55E-44E9-949C-F3BC9B7C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674BF-F047-4741-BC63-14781FF6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3107F-506A-4D42-AE18-9DAB3BFA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4B13C-BBEC-44FD-A567-2449A2F9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E0C4-A6ED-4FA3-B2B2-49BC09BB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1425-596F-4196-83C1-FE65EC57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656AC-5823-44B6-AB0B-23C1A534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252-5670-4AA1-93C9-3C22C989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941E0-3A77-44F1-A4EF-A8691CA3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09222-0301-4587-BA8E-115BF37B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6A510-4E77-4AAE-8336-F55918E6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DDE43-8647-45A6-B1BB-7EABFC0D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B3949-958D-4229-A01E-CF699612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7D70-0DB9-4D1C-A770-F653B01A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37B9D-886C-4DE8-B2A7-10424C05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61DE-65A6-46CE-B36C-37917F8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C4595-BD84-4112-B459-0DE92B5D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83DDA-AAB5-4F9D-B7D1-5C50ECF7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019-91AD-41E8-9D17-F296888B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575F3-7FD3-4A29-AA38-D49D2AA2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61F4F-CE12-4E78-924F-CCCBDD5B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C9C6B-1F13-4168-ABD7-DB22A12F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486A1-A0E8-4D70-BDD3-7C83736B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E180A-BA00-4695-9A5F-58601DAB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9D940-671E-40B9-8326-804D8423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E4372-E4DA-4C97-B6A6-993AF937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E9503-A86E-4D47-9B75-40087BA5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BB7E8-FCC9-4A6C-BD78-D899B950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E0895-507A-46FD-876E-D51AF85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8E9-8343-4E95-893B-F4C0E06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ECBAE-8F7F-4C02-92CF-0428A52A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A07FF-00DC-4553-AE43-9C55FE92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26452-AF29-4A71-9C87-9BE4D2A7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52BBC-E4DF-4FD3-8A9D-53966E3B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08CB4-7B2E-433B-A671-A8053EEE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DBA4A-1CF5-4ADF-9FAF-40FCDC85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4F17B-E90B-4137-AEA7-848D6F8B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B7833-08AB-40DC-9667-7EE1D5C0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CDC37-01DA-43F2-A3BC-7AC727B3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7F45E-8CD5-4A69-BEF2-99014F84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B8A-64FA-4A59-9F27-346E6F16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73868-7EB6-4202-8B0A-46DA61EC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2E3D0-1C65-4DED-871F-1323971A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8C145-88E5-40E5-B2E3-62A8B0FA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9E047-3E5A-43E5-A3EC-090F7470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4ED59-1C6B-4BEA-AAFD-6A82B71E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3C463-CEF1-4BEC-81A8-A50DA6B9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D8FAC-9DF4-4BE0-9957-D5BDA01E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E37F3-D27C-4BD9-83E8-E0162BD7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499A8-D142-4060-BA33-95C5EA17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C1AB-5AFD-4E20-9DAA-378CF230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4AD-A300-44AE-8642-2B0E5B0E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83CE0-1C35-4D81-9BD0-44A13C13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B92F7-DA48-4F29-B6A9-FB2FCB70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15846-1CE6-43EF-B676-71BD7CE5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01EFA-A3FB-4B9D-B652-DD9B48F3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D47AE-69B6-4BAF-BABC-D10BC113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B5768-1C6A-4BCB-8A6B-795EFA0C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167DA-1230-4917-8893-81F21089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58568-2962-478E-BC4C-5640CB66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99B22-2CAA-4E2E-A0D4-26E1688E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2C94D-3EB6-4BAF-8A5E-02148D2F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C12D-CA15-4EC6-8991-0948977DBFAC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1FDF-8EBA-4725-B9FC-D0565B6BED9D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B604-6A05-4EBB-B341-360FDE490F5A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B68E-FB80-4B76-B354-83FA2B11C929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AE4C-3E8F-4C66-841D-42137471A265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A606-DD3F-441E-B97C-2799494D0938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A936-EF2A-49AB-B0EE-4A7A812038CB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EFEF-348C-4834-8666-1E94DD80DF34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14DC-A381-4C79-9535-774BCFD18CF4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3"/>
          <p:cNvSpPr txBox="1"/>
          <p:nvPr/>
        </p:nvSpPr>
        <p:spPr>
          <a:xfrm>
            <a:off x="928800" y="214200"/>
            <a:ext cx="72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"Назови правило".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0" name="Picture 4" descr="тн 10"/>
          <p:cNvPicPr/>
          <p:nvPr/>
        </p:nvPicPr>
        <p:blipFill>
          <a:blip r:embed="rId2"/>
          <a:stretch/>
        </p:blipFill>
        <p:spPr>
          <a:xfrm>
            <a:off x="539640" y="2060640"/>
            <a:ext cx="1727280" cy="1811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тн 9"/>
          <p:cNvPicPr/>
          <p:nvPr/>
        </p:nvPicPr>
        <p:blipFill>
          <a:blip r:embed="rId3"/>
          <a:stretch/>
        </p:blipFill>
        <p:spPr>
          <a:xfrm>
            <a:off x="2843280" y="184464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тн 5"/>
          <p:cNvPicPr/>
          <p:nvPr/>
        </p:nvPicPr>
        <p:blipFill>
          <a:blip r:embed="rId4"/>
          <a:stretch/>
        </p:blipFill>
        <p:spPr>
          <a:xfrm>
            <a:off x="1476360" y="4365720"/>
            <a:ext cx="1700280" cy="1815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тн 7"/>
          <p:cNvPicPr/>
          <p:nvPr/>
        </p:nvPicPr>
        <p:blipFill>
          <a:blip r:embed="rId5"/>
          <a:stretch/>
        </p:blipFill>
        <p:spPr>
          <a:xfrm>
            <a:off x="3851280" y="3789360"/>
            <a:ext cx="1727280" cy="1884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тн 6"/>
          <p:cNvPicPr/>
          <p:nvPr/>
        </p:nvPicPr>
        <p:blipFill>
          <a:blip r:embed="rId6"/>
          <a:stretch/>
        </p:blipFill>
        <p:spPr>
          <a:xfrm>
            <a:off x="5651640" y="1916280"/>
            <a:ext cx="1703160" cy="1776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тн 4"/>
          <p:cNvPicPr/>
          <p:nvPr/>
        </p:nvPicPr>
        <p:blipFill>
          <a:blip r:embed="rId7"/>
          <a:stretch/>
        </p:blipFill>
        <p:spPr>
          <a:xfrm>
            <a:off x="6804000" y="4076640"/>
            <a:ext cx="1660680" cy="1779480"/>
          </a:xfrm>
          <a:prstGeom prst="rect">
            <a:avLst/>
          </a:prstGeom>
          <a:ln w="0">
            <a:noFill/>
          </a:ln>
        </p:spPr>
      </p:pic>
      <p:sp>
        <p:nvSpPr>
          <p:cNvPr id="406" name="Line 10"/>
          <p:cNvSpPr/>
          <p:nvPr/>
        </p:nvSpPr>
        <p:spPr>
          <a:xfrm>
            <a:off x="82692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Line 11"/>
          <p:cNvSpPr/>
          <p:nvPr/>
        </p:nvSpPr>
        <p:spPr>
          <a:xfrm>
            <a:off x="755640" y="2565360"/>
            <a:ext cx="129528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Line 12"/>
          <p:cNvSpPr/>
          <p:nvPr/>
        </p:nvSpPr>
        <p:spPr>
          <a:xfrm>
            <a:off x="2987640" y="2421000"/>
            <a:ext cx="136836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Line 13"/>
          <p:cNvSpPr/>
          <p:nvPr/>
        </p:nvSpPr>
        <p:spPr>
          <a:xfrm>
            <a:off x="1619280" y="5013360"/>
            <a:ext cx="144000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4067280" y="4508640"/>
            <a:ext cx="1368360" cy="43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5867280" y="2492280"/>
            <a:ext cx="136872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Line 16"/>
          <p:cNvSpPr/>
          <p:nvPr/>
        </p:nvSpPr>
        <p:spPr>
          <a:xfrm>
            <a:off x="6948360" y="4581360"/>
            <a:ext cx="144000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D:\ИРИНА\внеклассная работа\охрана природы\img9.jpg"/>
          <p:cNvPicPr/>
          <p:nvPr/>
        </p:nvPicPr>
        <p:blipFill>
          <a:blip r:embed="rId2"/>
          <a:stretch/>
        </p:blipFill>
        <p:spPr>
          <a:xfrm>
            <a:off x="357120" y="0"/>
            <a:ext cx="7756560" cy="4627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D:\ИРИНА\внеклассная работа\охрана природы\img10.jpg"/>
          <p:cNvPicPr/>
          <p:nvPr/>
        </p:nvPicPr>
        <p:blipFill>
          <a:blip r:embed="rId3"/>
          <a:srcRect l="0" t="0" r="54863" b="0"/>
          <a:stretch/>
        </p:blipFill>
        <p:spPr>
          <a:xfrm>
            <a:off x="5715000" y="2286000"/>
            <a:ext cx="2500200" cy="2381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D:\ИРИНА\внеклассная работа\охрана природы\img10.jpg"/>
          <p:cNvPicPr/>
          <p:nvPr/>
        </p:nvPicPr>
        <p:blipFill>
          <a:blip r:embed="rId4"/>
          <a:srcRect l="50169" t="0" r="0" b="5571"/>
          <a:stretch/>
        </p:blipFill>
        <p:spPr>
          <a:xfrm>
            <a:off x="2928960" y="4714920"/>
            <a:ext cx="2357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0:22:04Z</dcterms:created>
  <dc:creator>1</dc:creator>
  <dc:description/>
  <dc:language>en-US</dc:language>
  <cp:lastModifiedBy>Катенок</cp:lastModifiedBy>
  <dcterms:modified xsi:type="dcterms:W3CDTF">2010-06-24T11:39:27Z</dcterms:modified>
  <cp:revision>2</cp:revision>
  <dc:subject/>
  <dc:title>Слайд 1</dc:title>
</cp:coreProperties>
</file>