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5DE-69F3-4C73-B067-64E6193D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D6B-353E-41D2-A2FF-A4303181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260-BA4A-4E28-80CB-D6C7648F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919-5FDD-41A5-93FB-B1859A65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D9C-4254-4138-8D3B-B7CEDDD5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F65-2A11-4CAA-A2E6-BEB1C61E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184-DF36-422E-BBDC-51758713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609-930A-4F03-86DE-B7E6A2A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1F6-8E77-4493-B53B-42FCC849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6CD-8724-4720-8CBA-B3CD0EE4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642-F87E-4978-BFFD-3A015944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BC1-9E45-4F5E-B3E8-2544EF3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F6D0-E023-4407-89FD-205CE64E0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warheroes.ru/hero/images/monuments/hrushev_ns_mon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-artz.ru/img/news/3646.jpe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ubin.ucoz.ru/2029329.jp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rometej.info/new/images/stories/prog5_copy.jpg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oseng.org/uploads/posts/2008-08/1219507000_1211513413_sssr_5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d4you.ru/graf/oblo_b/1753_b.jpg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seudology.org/Bolsheviki_lenintsy/XVII/5_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history.sgu.ru/img/x1-013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oldgazette.ru/pravda/28011959/03-1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cionics.org/forums/default.aspx" TargetMode="External"/><Relationship Id="rId2" Type="http://schemas.openxmlformats.org/officeDocument/2006/relationships/hyperlink" Target="http://all-photo.ru/portret/photos/24983-0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socionics.org/forums/default.aspx" TargetMode="External"/><Relationship Id="rId5" Type="http://schemas.openxmlformats.org/officeDocument/2006/relationships/hyperlink" Target="http://www.kontrakty.com.ua/ukr/gc/nomer/2005/40/58-2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g-fotki.yandex.ru/get/21/lady-may2006.0/0_d0cc_ab00f3f0_XL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leningradka41.ru/images/hrushchev-malenkov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newzz.in.ua/uploads/posts/2010-02/1267214303_5e062135a9a947e38079dcfc7dc73aab_big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ogos.svet999.ru/content/logos_5/lenstalin/hrushev.jp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gentru.spb.ru/images/plakat/20.jpg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hyperlink" Target="http://www.ljplus.ru/img3/k/a/kare_l/ChlebKvas.jpg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52;&#1086;&#1080;%20&#1076;&#1086;&#1082;&#1091;&#1084;&#1077;&#1085;&#1090;&#1099;/&#1052;&#1086;&#1080;%20&#1088;&#1080;&#1089;&#1091;&#1085;&#1082;&#1080;/&#1094;&#1077;&#1083;&#1080;&#1085;&#1072;.jpg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http://img3.nnm.ru/imagez/gallery/b/6/f/e/c/b6fecd7c3ec383684a15ce73f413388d_full.jpg"/>
          <p:cNvPicPr/>
          <p:nvPr/>
        </p:nvPicPr>
        <p:blipFill>
          <a:blip r:embed="rId1"/>
          <a:stretch/>
        </p:blipFill>
        <p:spPr>
          <a:xfrm>
            <a:off x="3067200" y="4138560"/>
            <a:ext cx="2163600" cy="2152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http://betula.annexus.ehess.fr/media/irs/images/dupaquier/1956/11-ecran.jpg"/>
          <p:cNvPicPr/>
          <p:nvPr/>
        </p:nvPicPr>
        <p:blipFill>
          <a:blip r:embed="rId2"/>
          <a:stretch/>
        </p:blipFill>
        <p:spPr>
          <a:xfrm>
            <a:off x="5353200" y="3206880"/>
            <a:ext cx="3509640" cy="2346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ССР в период  1953 -1964г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5357880" y="4857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2.gstatic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http://www.pettipond.com/german3.jpg"/>
          <p:cNvPicPr/>
          <p:nvPr/>
        </p:nvPicPr>
        <p:blipFill>
          <a:blip r:embed="rId3"/>
          <a:stretch/>
        </p:blipFill>
        <p:spPr>
          <a:xfrm>
            <a:off x="5419800" y="781200"/>
            <a:ext cx="3730680" cy="26571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3"/>
          <p:cNvSpPr/>
          <p:nvPr/>
        </p:nvSpPr>
        <p:spPr>
          <a:xfrm>
            <a:off x="5500800" y="314316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pettipond.com/german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285840" y="6143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arheroe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428920" y="635796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3.nn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714680" y="78588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рущевская «оттепел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2 из 3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6480" y="1066680"/>
            <a:ext cx="2987640" cy="4870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7"/>
          <p:cNvSpPr/>
          <p:nvPr/>
        </p:nvSpPr>
        <p:spPr>
          <a:xfrm>
            <a:off x="2928960" y="1857240"/>
            <a:ext cx="271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мягчение политиче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ежи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6143760" y="528624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влова Анеля Васи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СОШ № 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Вышнего Волоч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е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ист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ка 62 из 23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8880" y="1352520"/>
            <a:ext cx="4913280" cy="4651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Последств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адение сельскохозяйственного производ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худшение снабжения населения продуктами пит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чало импорта зерна из-за границ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215040" y="54291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ec4u.r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500200" y="607212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62 год – события в Новочеркасске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Развитие промышлен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тказ от курса Маленк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величение диспропорции в сторону производства средств производства ( «А»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 целом среднегодовые темпы роста производства превышали 10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пользование НТП как рычага развития (результаты были заметны, в основном, в развитии ВП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Научно-технический прогр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785880"/>
            <a:ext cx="4757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ервая атомная электростанция (1954г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ервый искусственный спутник Земли (1957г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атомный ледокол «Ленин» (1959г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испытание водородной бомб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звитие химической промышлен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сширение сети Н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Картинка 13 из 1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920880"/>
            <a:ext cx="3754440" cy="51559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5786280" y="564372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absite.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958г. – реформа в сфере образования.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Цель: укрепление связи школы и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356840"/>
            <a:ext cx="8643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каз от обязательного семилетнего и    полного десятилетнего образован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ведение обязательного восьмилетнего чере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Блок-схема: альтернативный процесс 3"/>
          <p:cNvSpPr/>
          <p:nvPr/>
        </p:nvSpPr>
        <p:spPr>
          <a:xfrm>
            <a:off x="428760" y="3286080"/>
            <a:ext cx="1485720" cy="1071720"/>
          </a:xfrm>
          <a:prstGeom prst="flowChartAlternateProcess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ШР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Блок-схема: альтернативный процесс 4"/>
          <p:cNvSpPr/>
          <p:nvPr/>
        </p:nvSpPr>
        <p:spPr>
          <a:xfrm>
            <a:off x="2286000" y="3286080"/>
            <a:ext cx="2000160" cy="1071720"/>
          </a:xfrm>
          <a:prstGeom prst="flowChartAlternateProcess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технику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Блок-схема: альтернативный процесс 5"/>
          <p:cNvSpPr/>
          <p:nvPr/>
        </p:nvSpPr>
        <p:spPr>
          <a:xfrm>
            <a:off x="4643280" y="2928960"/>
            <a:ext cx="3929400" cy="1714320"/>
          </a:xfrm>
          <a:prstGeom prst="flowChartAlternateProcess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рехгодичные средние школы с обязательным производственным обуч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Блок-схема: альтернативный процесс 6"/>
          <p:cNvSpPr/>
          <p:nvPr/>
        </p:nvSpPr>
        <p:spPr>
          <a:xfrm>
            <a:off x="928800" y="5143680"/>
            <a:ext cx="7215120" cy="969840"/>
          </a:xfrm>
          <a:prstGeom prst="flowChartAlternateProcess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лучение высшего образования только при наличии производственного ста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ая соединительная линия 8"/>
          <p:cNvSpPr/>
          <p:nvPr/>
        </p:nvSpPr>
        <p:spPr>
          <a:xfrm>
            <a:off x="1170720" y="4357800"/>
            <a:ext cx="900360" cy="78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ая соединительная линия 12"/>
          <p:cNvSpPr/>
          <p:nvPr/>
        </p:nvSpPr>
        <p:spPr>
          <a:xfrm>
            <a:off x="3286080" y="4357800"/>
            <a:ext cx="642960" cy="78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ая соединительная линия 16"/>
          <p:cNvSpPr/>
          <p:nvPr/>
        </p:nvSpPr>
        <p:spPr>
          <a:xfrm flipH="1">
            <a:off x="6572160" y="4643280"/>
            <a:ext cx="1214640" cy="5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форма управления народным хозяйств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ятиугольник 3"/>
          <p:cNvSpPr/>
          <p:nvPr/>
        </p:nvSpPr>
        <p:spPr>
          <a:xfrm>
            <a:off x="285840" y="928800"/>
            <a:ext cx="3429000" cy="15714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50" y="0"/>
                </a:lnTo>
                <a:lnTo>
                  <a:pt x="21600" y="10800"/>
                </a:lnTo>
                <a:lnTo>
                  <a:pt x="166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Децентрализация управления экономикой, переход с отраслевого принципа на территориа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3857760" y="1428840"/>
            <a:ext cx="4929120" cy="121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Децентрализация управления экономикой и перестройка руководства промышленностью с отраслевого принципа на территориаль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57760" y="2786040"/>
            <a:ext cx="4929120" cy="1143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иквидация 10 промышленных министерств и замена их совнархозами, которые руководили предприятиями на мест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3857760" y="4071960"/>
            <a:ext cx="4929120" cy="121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Укрупнение совнархозов и создание СНХ для координации их деятельности, а также госкомитетов по отраслям промышленности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. (1962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3857760" y="5429160"/>
            <a:ext cx="4929120" cy="1143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форма не дала ожидаемых результатов, а лишь усилила промышленно-управленческую неразбериху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Картинка 384 из 11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" y="2706840"/>
            <a:ext cx="3090600" cy="38224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9"/>
          <p:cNvSpPr/>
          <p:nvPr/>
        </p:nvSpPr>
        <p:spPr>
          <a:xfrm>
            <a:off x="0" y="6643800"/>
            <a:ext cx="414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davno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Социальная поли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Картинка 512 из 11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1571760"/>
            <a:ext cx="297180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5786280" y="5786280"/>
            <a:ext cx="33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tvoyage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214200" y="1143000"/>
            <a:ext cx="5500800" cy="5500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РОГРАММА МЕР, НАЦЕЛЕННАЯ НА УЛУЧШЕНИЕ ЖИЗНИ НАСЕЛ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овышение минимальной зарплаты на 35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Увеличение размера пенсии по старости в 2 раза и снижение на 5 лет пенсионного возра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Отмена всех видов оплаты за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одолжительность рабочей недели была сокращена с 48 до 46 часов в недел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Введение денежной оплаты труда колхоз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азвертывание массового жилищного строительства и поощрение создания ЖС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«Нынешнее поколение советских людей будет жить при коммунизме». (Хрущев Н.С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II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ъезд КПСС (октябрь 1961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500040" y="2000160"/>
            <a:ext cx="4343400" cy="4500720"/>
          </a:xfrm>
          <a:custGeom>
            <a:avLst/>
            <a:gdLst>
              <a:gd name="textAreaLeft" fmla="*/ 212040 w 4343400"/>
              <a:gd name="textAreaRight" fmla="*/ 4131360 w 4343400"/>
              <a:gd name="textAreaTop" fmla="*/ 212040 h 4500720"/>
              <a:gd name="textAreaBottom" fmla="*/ 4288680 h 4500720"/>
            </a:gdLst>
            <a:ahLst/>
            <a:rect l="textAreaLeft" t="textAreaTop" r="textAreaRight" b="textAreaBottom"/>
            <a:pathLst>
              <a:path w="21600" h="22382">
                <a:moveTo>
                  <a:pt x="3600" y="0"/>
                </a:moveTo>
                <a:arcTo wR="3600" hR="3600" stAng="16200000" swAng="-5400000"/>
                <a:lnTo>
                  <a:pt x="0" y="18782"/>
                </a:lnTo>
                <a:arcTo wR="3600" hR="3600" stAng="10800000" swAng="-5400000"/>
                <a:lnTo>
                  <a:pt x="18000" y="22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НЯТИЕ НОВОЙ ПРОГРАММЫ КПС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ОСНОВНЫЕ ТРИ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ОЗДАНИЕ МАТЕРИАЛЬНО-ТЕХНИЧЕСКОЙ БАЗЫ КОММУНИЗ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ФОРМИРОВАНИЕ НОВЫХ КОММУНИСТИЧЕСКИХ ОБЩЕСТВЕННЫХ ОТНОШ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ВОСПИТАНИЕ НОВОГО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ая прямоугольная выноска 4"/>
          <p:cNvSpPr/>
          <p:nvPr/>
        </p:nvSpPr>
        <p:spPr>
          <a:xfrm>
            <a:off x="5072040" y="2071800"/>
            <a:ext cx="3929040" cy="785880"/>
          </a:xfrm>
          <a:prstGeom prst="wedgeRoundRectCallout">
            <a:avLst>
              <a:gd name="adj1" fmla="val -61291"/>
              <a:gd name="adj2" fmla="val 190226"/>
              <a:gd name="adj3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УТОПИЧНОСТЬ  УСТРЕМЛЕНИЙ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img.aucland.ru/market-photos/186/yk45Op.jpg"/>
          <p:cNvPicPr/>
          <p:nvPr/>
        </p:nvPicPr>
        <p:blipFill>
          <a:blip r:embed="rId1"/>
          <a:stretch/>
        </p:blipFill>
        <p:spPr>
          <a:xfrm>
            <a:off x="4425840" y="2919240"/>
            <a:ext cx="4724640" cy="37371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5786280" y="6000840"/>
            <a:ext cx="33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auclan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«Оттепель» в культурной жизни и ее ограниченный характер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560" y="1600200"/>
            <a:ext cx="43578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Противоречив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сохранение контроля партийного аппарата над деятельностью творческой интеллиген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alibri"/>
              </a:rPr>
              <a:t>низкий художественный вкус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кругленная прямоугольная выноска 3"/>
          <p:cNvSpPr/>
          <p:nvPr/>
        </p:nvSpPr>
        <p:spPr>
          <a:xfrm>
            <a:off x="5286240" y="1500120"/>
            <a:ext cx="3571920" cy="3357720"/>
          </a:xfrm>
          <a:prstGeom prst="wedgeRoundRectCallout">
            <a:avLst>
              <a:gd name="adj1" fmla="val -80523"/>
              <a:gd name="adj2" fmla="val -44074"/>
              <a:gd name="adj3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нения на Б.Пастерна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озобновление арестов за «антисоветскую деятельность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«дело молодых историков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нения на художников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учай на выставке в МАНЕЖ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вый виток гонений на православную церков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Картинка 28 из 19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4520" y="4853160"/>
            <a:ext cx="186696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5715000" y="6643800"/>
            <a:ext cx="20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dk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3008520" y="357120"/>
            <a:ext cx="22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42920" y="1071720"/>
            <a:ext cx="94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честно писать – это значит не думать о выражении лиц высо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невысоких читателей». (В.Померанце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14200" y="1928880"/>
            <a:ext cx="4929480" cy="4714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.Эринбург ( «Оттепель»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Панова ( «Времена года»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Дудинцев ( «Не хлебом единым»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Гранин ( «Искатели»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.Солженицын ( «Один день Ивана Денисовича» , «Матренин двор»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пытка А.Фадеева изменить стиль руководства Союзом писа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явление молодых талантливых поэтов (Е.Евтушенко, А.Вознесенск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Картинка 118 из 17300"/>
          <p:cNvPicPr/>
          <p:nvPr/>
        </p:nvPicPr>
        <p:blipFill>
          <a:blip r:embed="rId1"/>
          <a:stretch/>
        </p:blipFill>
        <p:spPr>
          <a:xfrm>
            <a:off x="6072120" y="1643040"/>
            <a:ext cx="206712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6500880" y="6534000"/>
            <a:ext cx="2643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mobibook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5591520" y="5715000"/>
            <a:ext cx="36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И качнется бессмысленной выс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а фраз, залетевших отсюда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А.Вознесенски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/>
          <p:cNvSpPr/>
          <p:nvPr/>
        </p:nvSpPr>
        <p:spPr>
          <a:xfrm>
            <a:off x="3357720" y="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Картинка 7 из 131"/>
          <p:cNvPicPr/>
          <p:nvPr/>
        </p:nvPicPr>
        <p:blipFill>
          <a:blip r:embed="rId1"/>
          <a:stretch/>
        </p:blipFill>
        <p:spPr>
          <a:xfrm>
            <a:off x="5353200" y="353880"/>
            <a:ext cx="3273120" cy="32608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6072120" y="357192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oisk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7358040" y="3500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.Хачатур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Картинка 25 из 131"/>
          <p:cNvPicPr/>
          <p:nvPr/>
        </p:nvPicPr>
        <p:blipFill>
          <a:blip r:embed="rId2"/>
          <a:stretch/>
        </p:blipFill>
        <p:spPr>
          <a:xfrm>
            <a:off x="5429160" y="3786120"/>
            <a:ext cx="3214800" cy="29098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8"/>
          <p:cNvSpPr/>
          <p:nvPr/>
        </p:nvSpPr>
        <p:spPr>
          <a:xfrm>
            <a:off x="6357960" y="6603840"/>
            <a:ext cx="16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harmonia.tomsk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Картинка 37 из 131"/>
          <p:cNvPicPr/>
          <p:nvPr/>
        </p:nvPicPr>
        <p:blipFill>
          <a:blip r:embed="rId3"/>
          <a:stretch/>
        </p:blipFill>
        <p:spPr>
          <a:xfrm>
            <a:off x="1071720" y="4357800"/>
            <a:ext cx="3000240" cy="23479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0"/>
          <p:cNvSpPr/>
          <p:nvPr/>
        </p:nvSpPr>
        <p:spPr>
          <a:xfrm>
            <a:off x="142884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.permkultur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11"/>
          <p:cNvSpPr/>
          <p:nvPr/>
        </p:nvSpPr>
        <p:spPr>
          <a:xfrm>
            <a:off x="428760" y="571680"/>
            <a:ext cx="4429080" cy="3714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958г. – постановление ЦК КПСС « Об исправлении ошибок в оценке опер «Великая дружба», «Богдан Хмельницкий» и «От всего сердц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В нем прежние оценки творчества композиторов: Д.Шостаковича, С.Прокофьева, А.Хачатуряна, В.Шебалина признавались несправедлив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38 из 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000080"/>
            <a:ext cx="25002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285840" y="442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eudology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Картинка 1 из 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1000080"/>
            <a:ext cx="2286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27 из 87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5040" y="857160"/>
            <a:ext cx="2514600" cy="38577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8"/>
          <p:cNvSpPr/>
          <p:nvPr/>
        </p:nvSpPr>
        <p:spPr>
          <a:xfrm>
            <a:off x="6286680" y="4643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ldgazett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71680" y="2858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Борьба за власть после смерти И.О. Ста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3357720" y="471492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baltgames.l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70800" y="500076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.П.Берия –первый з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едсовмина, вно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зглавил МВ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429000" y="507204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.М.Маленков – Председатель  Сов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инистров ССС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357960" y="49291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.С.Хрущев – секретарь ЦК КПС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1785960" y="61437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мерть И.В.Сталина  5 марта 1953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Admin\Мои документы\Мои рисунки\2 выставка.jpg"/>
          <p:cNvPicPr/>
          <p:nvPr/>
        </p:nvPicPr>
        <p:blipFill>
          <a:blip r:embed="rId1"/>
          <a:stretch/>
        </p:blipFill>
        <p:spPr>
          <a:xfrm>
            <a:off x="3357720" y="571680"/>
            <a:ext cx="5581440" cy="3879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142920" y="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Посещение Н.С.Хрущевым художественной выставки в Мане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Admin\Мои документы\Мои рисунки\выставка.gif"/>
          <p:cNvPicPr/>
          <p:nvPr/>
        </p:nvPicPr>
        <p:blipFill>
          <a:blip r:embed="rId2"/>
          <a:stretch/>
        </p:blipFill>
        <p:spPr>
          <a:xfrm>
            <a:off x="0" y="2857680"/>
            <a:ext cx="4705200" cy="37051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"/>
          <p:cNvSpPr/>
          <p:nvPr/>
        </p:nvSpPr>
        <p:spPr>
          <a:xfrm>
            <a:off x="5214960" y="442908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ron.eduhmao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142920" y="6500880"/>
            <a:ext cx="435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echo.msk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285840" y="500040"/>
            <a:ext cx="3038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«…я вам говорю как Председ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овета Министр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се это не нужно советск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роду.»  (Н.С.Хруще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4786200" y="5000760"/>
            <a:ext cx="445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е негодование у Хруще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звало творчество худож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Ю.Соостера, В.Янкилевского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.Жутовск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ttp://upload.wikimedia.org/wikipedia/ru/thumb/6/64/DSC0154_1.jpg/220px-DSC0154_1.jpg"/>
          <p:cNvPicPr/>
          <p:nvPr/>
        </p:nvPicPr>
        <p:blipFill>
          <a:blip r:embed="rId1"/>
          <a:stretch/>
        </p:blipFill>
        <p:spPr>
          <a:xfrm>
            <a:off x="6429240" y="50004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Картинка 2 из 1976"/>
          <p:cNvPicPr/>
          <p:nvPr/>
        </p:nvPicPr>
        <p:blipFill>
          <a:blip r:embed="rId2"/>
          <a:stretch/>
        </p:blipFill>
        <p:spPr>
          <a:xfrm>
            <a:off x="324000" y="47628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20 из 249"/>
          <p:cNvPicPr/>
          <p:nvPr/>
        </p:nvPicPr>
        <p:blipFill>
          <a:blip r:embed="rId3"/>
          <a:stretch/>
        </p:blipFill>
        <p:spPr>
          <a:xfrm>
            <a:off x="6643800" y="3714840"/>
            <a:ext cx="1904760" cy="248580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5"/>
          <p:cNvSpPr/>
          <p:nvPr/>
        </p:nvSpPr>
        <p:spPr>
          <a:xfrm>
            <a:off x="6643800" y="6143760"/>
            <a:ext cx="221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ookline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428760" y="4143240"/>
            <a:ext cx="64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lovec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6500880" y="257184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62880" y="4714920"/>
            <a:ext cx="543384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Глоток свобод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Международный фестиваль молодежи и студент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начало зарубежных гастролей советских творческ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коллективов, открытие новых театров и нов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журналов. Кремль открыт для посещения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нешняя поли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иберализация внешнеполитического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071800"/>
            <a:ext cx="3971880" cy="435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Нормализация отношений с Югославией (1954 – 1955 гг.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Подписание мирного договора с Австрией (1955г.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Попытки добиться компромисса с западными странами по вопросам разоружения:      встреча Хрущева с Эйзенхауэром (1959г.),                 одностороннее сокращение Советской Арми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СССР, США и Великобритания – договор о запрещении ядерных испытаний в атмосфере и под водо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должение «холодной войн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4720" y="2071800"/>
            <a:ext cx="4041720" cy="435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Создание военно-политической организации соц. Стран – Варшавского договора (1955г.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одавление народного восстания в Венгрии (1956г.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Берлинский вопрос: обострение отношений с Западом и возведение Берлинской стены (1961г.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Карибский кризис, ядерное противостояние  СССР и США (1962г.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Ухудшение отношений с Китаем и Албанией с 1962г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6"/>
          <p:cNvSpPr/>
          <p:nvPr/>
        </p:nvSpPr>
        <p:spPr>
          <a:xfrm>
            <a:off x="645480" y="571680"/>
            <a:ext cx="735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выполнена по материалом учебника А.А.Данил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.Г.Косулиной, М.Ю.Брандта  История Росси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XI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9-го кла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рнет-ресурсы представлены в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85840" y="642960"/>
            <a:ext cx="3643200" cy="54291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ocionics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Картинка 1 из 2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1071720"/>
            <a:ext cx="335736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785880" y="5715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ocionics.or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929040" y="21420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ктивность, направленная на смягчение реж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абилитация по «делу враче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нициатор массовой амнист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ремление ограничить вмешательство партийных органов в хозяйственные 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Выноска со стрелкой вниз 5"/>
          <p:cNvSpPr/>
          <p:nvPr/>
        </p:nvSpPr>
        <p:spPr>
          <a:xfrm>
            <a:off x="5286240" y="3357720"/>
            <a:ext cx="2286000" cy="1928520"/>
          </a:xfrm>
          <a:prstGeom prst="downArrowCallout">
            <a:avLst>
              <a:gd name="adj1" fmla="val 25005"/>
              <a:gd name="adj2" fmla="val 25002"/>
              <a:gd name="adj3" fmla="val 25000"/>
              <a:gd name="adj4" fmla="val 6497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Это истолковывалось как стремление к захвату в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723640" y="564372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ъединение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целью устра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Картинка 10 из 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6160" y="4786200"/>
            <a:ext cx="141948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4071960" y="657216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persons-info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Картинка 230 из 948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43880" y="478620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1"/>
          <p:cNvSpPr/>
          <p:nvPr/>
        </p:nvSpPr>
        <p:spPr>
          <a:xfrm>
            <a:off x="7500960" y="658188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otki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357120" y="600084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 июня 1953г. – арест, суд, расстр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хема 1" descr=""/>
          <p:cNvPicPr/>
          <p:nvPr/>
        </p:nvPicPr>
        <p:blipFill>
          <a:blip r:embed="rId1"/>
          <a:stretch/>
        </p:blipFill>
        <p:spPr>
          <a:xfrm>
            <a:off x="1481040" y="633240"/>
            <a:ext cx="6132600" cy="3438720"/>
          </a:xfrm>
          <a:prstGeom prst="rect">
            <a:avLst/>
          </a:prstGeom>
          <a:ln w="0">
            <a:noFill/>
          </a:ln>
        </p:spPr>
      </p:pic>
      <p:sp>
        <p:nvSpPr>
          <p:cNvPr id="76" name="Стрелка вниз 2"/>
          <p:cNvSpPr/>
          <p:nvPr/>
        </p:nvSpPr>
        <p:spPr>
          <a:xfrm>
            <a:off x="8215200" y="164304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трелка вверх 3"/>
          <p:cNvSpPr/>
          <p:nvPr/>
        </p:nvSpPr>
        <p:spPr>
          <a:xfrm>
            <a:off x="500040" y="1571760"/>
            <a:ext cx="484200" cy="97776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857240" y="14292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Второй этап борьбы за вл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Волна 5"/>
          <p:cNvSpPr/>
          <p:nvPr/>
        </p:nvSpPr>
        <p:spPr>
          <a:xfrm>
            <a:off x="3214800" y="3786120"/>
            <a:ext cx="2643120" cy="2714760"/>
          </a:xfrm>
          <a:custGeom>
            <a:avLst/>
            <a:gdLst>
              <a:gd name="textAreaLeft" fmla="*/ 24120 w 2643120"/>
              <a:gd name="textAreaRight" fmla="*/ 2619000 w 2643120"/>
              <a:gd name="textAreaTop" fmla="*/ 678600 h 2714760"/>
              <a:gd name="textAreaBottom" fmla="*/ 203616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100" y="-6865"/>
                  <a:pt x="14300" y="12265"/>
                  <a:pt x="21400" y="2700"/>
                </a:cubicBezTo>
                <a:lnTo>
                  <a:pt x="21600" y="18900"/>
                </a:lnTo>
                <a:cubicBezTo>
                  <a:pt x="14500" y="28465"/>
                  <a:pt x="7300" y="9335"/>
                  <a:pt x="200" y="189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оцесс над высшими руководителями МГБ, виновных в фальсификации «ленинградского де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6727680" y="3571920"/>
            <a:ext cx="2500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евраль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55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аленков снят с по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лавы Правитель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Прямая со стрелкой 8"/>
          <p:cNvCxnSpPr/>
          <p:nvPr/>
        </p:nvCxnSpPr>
        <p:spPr>
          <a:xfrm flipV="1">
            <a:off x="5857560" y="3857040"/>
            <a:ext cx="857880" cy="286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0"/>
          <p:cNvSpPr/>
          <p:nvPr/>
        </p:nvSpPr>
        <p:spPr>
          <a:xfrm>
            <a:off x="428760" y="3214800"/>
            <a:ext cx="24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уклонное уси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зиции Хруще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Картинка 1 из 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4214880"/>
            <a:ext cx="2952720" cy="2357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2"/>
          <p:cNvSpPr/>
          <p:nvPr/>
        </p:nvSpPr>
        <p:spPr>
          <a:xfrm>
            <a:off x="0" y="642924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eningradka41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Картинка 6 из 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00880" y="4857840"/>
            <a:ext cx="2433600" cy="1790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4"/>
          <p:cNvSpPr/>
          <p:nvPr/>
        </p:nvSpPr>
        <p:spPr>
          <a:xfrm>
            <a:off x="6643800" y="65721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g-znani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8 из 89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81560" y="3693960"/>
            <a:ext cx="2395440" cy="298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214200" y="21420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Третий этап борьбы за власть  ( февраль 1955 – март 1958г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2"/>
          <p:cNvSpPr/>
          <p:nvPr/>
        </p:nvSpPr>
        <p:spPr>
          <a:xfrm>
            <a:off x="5643720" y="928800"/>
            <a:ext cx="3214440" cy="5572080"/>
          </a:xfrm>
          <a:custGeom>
            <a:avLst/>
            <a:gdLst>
              <a:gd name="textAreaLeft" fmla="*/ 156600 w 3214440"/>
              <a:gd name="textAreaRight" fmla="*/ 3057840 w 3214440"/>
              <a:gd name="textAreaTop" fmla="*/ 156600 h 5572080"/>
              <a:gd name="textAreaBottom" fmla="*/ 5415480 h 5572080"/>
            </a:gdLst>
            <a:ahLst/>
            <a:rect l="textAreaLeft" t="textAreaTop" r="textAreaRight" b="textAreaBottom"/>
            <a:pathLst>
              <a:path w="21600" h="37441">
                <a:moveTo>
                  <a:pt x="3600" y="0"/>
                </a:moveTo>
                <a:arcTo wR="3600" hR="3600" stAng="16200000" swAng="-5400000"/>
                <a:lnTo>
                  <a:pt x="0" y="33841"/>
                </a:lnTo>
                <a:arcTo wR="3600" hR="3600" stAng="10800000" swAng="-5400000"/>
                <a:lnTo>
                  <a:pt x="18000" y="37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«Объединенная оппозиция» : Маленков, Молотов, Каганович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Попытка упразднения поста первого секретар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решением Президиума, где у противников Хрущева было больши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428760" y="928800"/>
            <a:ext cx="3357360" cy="550044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5500440"/>
              <a:gd name="textAreaBottom" fmla="*/ 5336640 h 5500440"/>
            </a:gdLst>
            <a:ahLst/>
            <a:rect l="textAreaLeft" t="textAreaTop" r="textAreaRight" b="textAreaBottom"/>
            <a:pathLst>
              <a:path w="21600" h="35386">
                <a:moveTo>
                  <a:pt x="3600" y="0"/>
                </a:moveTo>
                <a:arcTo wR="3600" hR="3600" stAng="16200000" swAng="-5400000"/>
                <a:lnTo>
                  <a:pt x="0" y="31786"/>
                </a:lnTo>
                <a:arcTo wR="3600" hR="3600" stAng="10800000" swAng="-5400000"/>
                <a:lnTo>
                  <a:pt x="18000" y="35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ленум ЦК поддержал Хрущева, а оппозиционеров объявили антипартийной группой.(лето 1957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Октябрь 1957г. – лишен своих постов маршал Г.К.Ж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Март 1958 – с поста главы правительства был снят Н.Булганин, поддержавший летом 1957г. оппози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ая прямоугольная выноска 4"/>
          <p:cNvSpPr/>
          <p:nvPr/>
        </p:nvSpPr>
        <p:spPr>
          <a:xfrm>
            <a:off x="3714840" y="857160"/>
            <a:ext cx="2000160" cy="1428840"/>
          </a:xfrm>
          <a:prstGeom prst="wedgeRoundRectCallout">
            <a:avLst>
              <a:gd name="adj1" fmla="val -61189"/>
              <a:gd name="adj2" fmla="val 266375"/>
              <a:gd name="adj3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Сосредоточил всю полноту в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714840" y="6060960"/>
            <a:ext cx="221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dela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85880" y="142920"/>
            <a:ext cx="7715160" cy="9288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Разоблачение культа личности Ста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2"/>
          <p:cNvSpPr/>
          <p:nvPr/>
        </p:nvSpPr>
        <p:spPr>
          <a:xfrm>
            <a:off x="428760" y="1285920"/>
            <a:ext cx="3857400" cy="5429160"/>
          </a:xfrm>
          <a:custGeom>
            <a:avLst/>
            <a:gdLst>
              <a:gd name="textAreaLeft" fmla="*/ 188280 w 3857400"/>
              <a:gd name="textAreaRight" fmla="*/ 3669120 w 3857400"/>
              <a:gd name="textAreaTop" fmla="*/ 188280 h 5429160"/>
              <a:gd name="textAreaBottom" fmla="*/ 5240880 h 5429160"/>
            </a:gdLst>
            <a:ahLst/>
            <a:rect l="textAreaLeft" t="textAreaTop" r="textAreaRight" b="textAreaBottom"/>
            <a:pathLst>
              <a:path w="21600" h="30400">
                <a:moveTo>
                  <a:pt x="3600" y="0"/>
                </a:moveTo>
                <a:arcTo wR="3600" hR="3600" stAng="16200000" swAng="-5400000"/>
                <a:lnTo>
                  <a:pt x="0" y="26800"/>
                </a:lnTo>
                <a:arcTo wR="3600" hR="3600" stAng="10800000" swAng="-5400000"/>
                <a:lnTo>
                  <a:pt x="18000" y="30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ДПОСЫЛ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мерть Сталина ослабила страх перед государством и репресси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сстания в системе ГУЛАГа в 1953 – 1956 г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зревание социального протеста в обще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уждение культа как средство борьбы в высших эшелонах в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ая прямоугольная выноска 3"/>
          <p:cNvSpPr/>
          <p:nvPr/>
        </p:nvSpPr>
        <p:spPr>
          <a:xfrm>
            <a:off x="4429080" y="1357200"/>
            <a:ext cx="4429080" cy="928800"/>
          </a:xfrm>
          <a:prstGeom prst="wedgeRoundRectCallout">
            <a:avLst>
              <a:gd name="adj1" fmla="val -63592"/>
              <a:gd name="adj2" fmla="val 465226"/>
              <a:gd name="adj3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Необходимость перемен в обще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5143680" y="2428920"/>
            <a:ext cx="3643200" cy="4143240"/>
          </a:xfrm>
          <a:custGeom>
            <a:avLst/>
            <a:gdLst>
              <a:gd name="textAreaLeft" fmla="*/ 177840 w 3643200"/>
              <a:gd name="textAreaRight" fmla="*/ 3465360 w 3643200"/>
              <a:gd name="textAreaTop" fmla="*/ 177840 h 4143240"/>
              <a:gd name="textAreaBottom" fmla="*/ 3965400 h 4143240"/>
            </a:gdLst>
            <a:ahLst/>
            <a:rect l="textAreaLeft" t="textAreaTop" r="textAreaRight" b="textAreaBottom"/>
            <a:pathLst>
              <a:path w="21600" h="24564">
                <a:moveTo>
                  <a:pt x="3600" y="0"/>
                </a:moveTo>
                <a:arcTo wR="3600" hR="3600" stAng="16200000" swAng="-5400000"/>
                <a:lnTo>
                  <a:pt x="0" y="20964"/>
                </a:lnTo>
                <a:arcTo wR="3600" hR="3600" stAng="10800000" swAng="-5400000"/>
                <a:lnTo>
                  <a:pt x="18000" y="245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XX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ъезд КПСС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оклад Хрущева Н.С.  о  культе личности ( февраль 1956г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тановление ЦК КПСС от 30 июня 195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 преодолении культа личности и его последств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Реабилитация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жертв массовых политических репресс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Картинка 41 из 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0320" y="208080"/>
            <a:ext cx="2810160" cy="3821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1214280" y="28584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Экономика СССР в 1953 – 1964 г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хема 2" descr=""/>
          <p:cNvPicPr/>
          <p:nvPr/>
        </p:nvPicPr>
        <p:blipFill>
          <a:blip r:embed="rId3"/>
          <a:stretch/>
        </p:blipFill>
        <p:spPr>
          <a:xfrm>
            <a:off x="103320" y="1122480"/>
            <a:ext cx="6188040" cy="410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75 из 1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48280" y="3780000"/>
            <a:ext cx="4102200" cy="30844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6572160" y="6572160"/>
            <a:ext cx="242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strofizica.narod.r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85880" y="60008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Экономический курс Мален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Сельскохозяйственная политика Хрущева Н.С.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овышение государственных закупочных цен на сельхозпродукц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сширение посевных площадей (освоение целинных и залежных земель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(1954г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Увеличение государственных расходов на социальное развитие се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тмена налога на личное подсобное хозяйство и разрешение увеличить его размеры в 5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 до 1958 год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Сельскохозяйственная политика в период: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958 – 1964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квидация МТС и продажа техники колхоз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крупнение колхозов и создание агрохозяйст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основанное расширение посевов кукуруз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нения на подсобные личные хозяй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основанные задания по заготовке мяса, сокращение поголовья ск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8:57:55Z</dcterms:created>
  <dc:creator>Admin</dc:creator>
  <dc:description/>
  <dc:language>en-US</dc:language>
  <cp:lastModifiedBy>Катенок</cp:lastModifiedBy>
  <dcterms:modified xsi:type="dcterms:W3CDTF">2010-06-24T10:38:47Z</dcterms:modified>
  <cp:revision>77</cp:revision>
  <dc:subject/>
  <dc:title>СССР в период  1953 -1964гг.</dc:title>
</cp:coreProperties>
</file>