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574C5-6C79-4282-8D96-4F7E1968A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F4AE-7434-42C7-933D-E671B4F4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B86A-A8B8-4726-BC43-E75BBAED0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6DC8-5027-4BD5-933F-03FF4DDEB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2032A-7021-4D9D-AD4F-D48C05F1F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8320-33A8-41B9-B30A-67587EED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3A932-DAB5-44C2-97F4-4EF2E10D9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E7C24-6C6A-4F32-BB2A-36C716D9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954BA-6471-4046-A2A3-774475953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0A0D5-688C-4BC7-A54B-BD470E29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9EE20-3A4C-457E-8077-88635F9F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82E2-D631-4A8B-82B9-588311BD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739E7-F2BE-4FC5-BACC-DC7D80B0B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92F0E-F853-48E8-8CDA-70FC747B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30A7-9951-4FCC-AA49-B06AA3CB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6FC73-B024-4469-B12D-975087F4E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5A742-B66D-4920-A044-DD1797DAA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CDF0-DBFC-4879-BF47-FF22D425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FD19-E797-49E4-BD5F-8A1780889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73BA-324F-4CEF-9466-1849930A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9D8D-EE18-47BB-BEA2-F15821F6D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E8E8-DC73-4447-8930-30A794D5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8E74-3AA3-4041-923D-A16DFC1E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AF0FF-5FBA-4411-BF78-DE3F110ED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CBE1-12EE-4DC2-99F1-6B247805FDEF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8226B-8247-4BB7-9816-FE7AA3FE5E4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75600" y="1052280"/>
            <a:ext cx="6963480" cy="177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униципальное общеобразовательное учреждение </a:t>
            </a:r>
            <a:br>
              <a:rPr sz="1800"/>
            </a:b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«Средняя общеобразовательная школа №2»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500"/>
            </a:br>
            <a:r>
              <a:rPr b="1" lang="ru-RU" sz="2300" spc="-1" strike="noStrike">
                <a:solidFill>
                  <a:srgbClr val="003366"/>
                </a:solidFill>
                <a:latin typeface="Arial"/>
              </a:rPr>
              <a:t>Презентация к уроку по теме: </a:t>
            </a:r>
            <a:br>
              <a:rPr sz="2300"/>
            </a:br>
            <a:r>
              <a:rPr b="1" lang="ru-RU" sz="2300" spc="-1" strike="noStrike">
                <a:solidFill>
                  <a:srgbClr val="003366"/>
                </a:solidFill>
                <a:latin typeface="Arial"/>
              </a:rPr>
              <a:t>«Понятие о наречии»</a:t>
            </a:r>
            <a:br>
              <a:rPr sz="2300"/>
            </a:br>
            <a:r>
              <a:rPr b="1" lang="ru-RU" sz="2300" spc="-1" strike="noStrike">
                <a:solidFill>
                  <a:srgbClr val="003366"/>
                </a:solidFill>
                <a:latin typeface="Arial"/>
              </a:rPr>
              <a:t>(7 класс, русский язык)</a:t>
            </a:r>
            <a:br>
              <a:rPr sz="2300"/>
            </a:br>
            <a:endParaRPr b="1" lang="en-US" sz="23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3795840"/>
            <a:ext cx="4013280" cy="95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66"/>
                </a:solidFill>
                <a:latin typeface="Arial"/>
              </a:rPr>
              <a:t>Терентьева Галина Ивановна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6666"/>
                </a:solidFill>
                <a:latin typeface="Arial"/>
              </a:rPr>
              <a:t>учитель русского языка и литературы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66"/>
                </a:solidFill>
                <a:latin typeface="Arial"/>
              </a:rPr>
              <a:t>I</a:t>
            </a:r>
            <a:r>
              <a:rPr b="0" lang="ru-RU" sz="1600" spc="-1" strike="noStrike">
                <a:solidFill>
                  <a:srgbClr val="006666"/>
                </a:solidFill>
                <a:latin typeface="Arial"/>
              </a:rPr>
              <a:t> квалификационная категория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Будь внимателен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едленн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самозабвенн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аккуратн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блаженн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радиционн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торжественн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надменн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Сопоставьте пары предложений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65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дти по дорог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Идти по дороге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медленно, вразвалочку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К нам приехал знакомы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Вчера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к нам приехал знакомый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Загадочно мерцали звезд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Поразительно</a:t>
            </a: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 загадочно мерцали звезды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альчик был в куртке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65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Arial"/>
              </a:rPr>
              <a:t>Мальчик был в куртке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нараспашку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Наречие. Понятие о наречи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научиться находить наречия в тексте;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66"/>
                </a:solidFill>
                <a:latin typeface="Arial"/>
              </a:rPr>
              <a:t>доказывать, что данное слово принадлежит к классу наречий;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Алгоритм рассуждения</a:t>
            </a:r>
            <a:br>
              <a:rPr sz="3200"/>
            </a:br>
            <a:r>
              <a:rPr b="0" lang="ru-RU" sz="3200" spc="-1" strike="noStrike">
                <a:solidFill>
                  <a:srgbClr val="006666"/>
                </a:solidFill>
                <a:latin typeface="Arial"/>
              </a:rPr>
              <a:t>при нахождении в тексте части речи «Наречие»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800440"/>
            <a:ext cx="76932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йдите в тексте слово, похожее на наречи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Найдите слово, от которого можно поставить вопрос к наречию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ставьте вопрос, образуйте словосочетани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Подумайте, что обозначает наречие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Сделайте вывод: какая это часть реч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Распознавание наречий </a:t>
            </a:r>
            <a:br>
              <a:rPr sz="3200"/>
            </a:br>
            <a:r>
              <a:rPr b="1" i="1" lang="ru-RU" sz="3200" spc="-1" strike="noStrike">
                <a:solidFill>
                  <a:srgbClr val="006666"/>
                </a:solidFill>
                <a:latin typeface="Arial"/>
              </a:rPr>
              <a:t>и слов на них похожих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тро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туманно.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------------ Говорить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туманно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На удачу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надейся. ------------Пойти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наудачу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 начала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года. -----------------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начала 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умай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Уйти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воврем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. -----------------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Во врем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урока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Благодарю за урок!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Ура!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                       </a:t>
            </a: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Каникулы! 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7-01T06:13:45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