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465-714E-4652-A0D2-4A325F06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CD8-CDF7-41C5-BAE5-172BAB14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6BF-4917-474B-B74E-3464FEBE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9C4-9482-4E8B-AA28-4E7E30FF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409-15DB-43A0-BF02-D9DCA3F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448-D39F-4F5B-BE49-CCDB08B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D11-FB46-4DF4-A0C6-72271DFF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7D1-7EA6-4F74-9AFE-21C221D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A64-1D75-4603-AC26-7A914A55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7BB-E2F1-48BF-9554-0C23C10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A5E-A4DF-443D-9543-1A6BE040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FAF-BF35-46CB-878A-78F39FE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268-A7B9-4890-BA02-2EC5ED6BC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Лабораторные работы по геометр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5445000"/>
            <a:ext cx="5398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Ромне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на Галина Семен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Вписанная и описанная 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ить при построении в любой ли треугольник можно вписать окружность и вокруг любого ли треугольника можно описать окру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иборы и материал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ка, циркуль, транспорт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Ход работы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а.Построить три произвольных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а. Провести биссектрисы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а. Вписать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б.Построить три произвольных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б. Провести серединные перпендикуля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б. Описать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делать вывод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Свойства четырехугольника, описывающего окру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сумму противополож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рон четырех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иборы и материалы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линейка, цирк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712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од работ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Построить три  окружности, описать вокруг каждой четырехугольник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змерить стороны каждого четырехугольника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писать данны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йти сумму сторон АВ+СД и ВС+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Сделать вывод о сумме противоположных сторон четырех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3068640"/>
          <a:ext cx="8642160" cy="3564000"/>
        </p:xfrm>
        <a:graphic>
          <a:graphicData uri="http://schemas.openxmlformats.org/drawingml/2006/table">
            <a:tbl>
              <a:tblPr/>
              <a:tblGrid>
                <a:gridCol w="3097080"/>
                <a:gridCol w="792360"/>
                <a:gridCol w="792000"/>
                <a:gridCol w="792000"/>
                <a:gridCol w="719280"/>
                <a:gridCol w="244944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ех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+СД ВС+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Д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Д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Д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667640" y="3068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Свойства четырехугольника, описанного окруж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сумму противоположных углов вписанного четырех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иборы и материалы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линейка, циркуль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712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Ход работ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Построить три  окружности, вписать в каждую четырехугольник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змерить углы  каждого четырехугольника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писать данны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йти сумму углов А+С и В+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Сделать вывод о сумме противоположных углов четырехуго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3068640"/>
          <a:ext cx="8642160" cy="3564000"/>
        </p:xfrm>
        <a:graphic>
          <a:graphicData uri="http://schemas.openxmlformats.org/drawingml/2006/table">
            <a:tbl>
              <a:tblPr/>
              <a:tblGrid>
                <a:gridCol w="3097080"/>
                <a:gridCol w="792360"/>
                <a:gridCol w="792000"/>
                <a:gridCol w="792000"/>
                <a:gridCol w="719280"/>
                <a:gridCol w="244944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ех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Д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Д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Д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67640" y="3068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59:13Z</dcterms:created>
  <dc:creator>Русина</dc:creator>
  <dc:description/>
  <dc:language>en-US</dc:language>
  <cp:lastModifiedBy>Русина</cp:lastModifiedBy>
  <dcterms:modified xsi:type="dcterms:W3CDTF">2003-01-02T01:47:20Z</dcterms:modified>
  <cp:revision>4</cp:revision>
  <dc:subject/>
  <dc:title>Лабораторные работы по геометрии</dc:title>
</cp:coreProperties>
</file>