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27.jpeg" ContentType="image/jpeg"/>
  <Override PartName="/ppt/media/image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6.gif" ContentType="image/gif"/>
  <Override PartName="/ppt/media/image8.png" ContentType="image/png"/>
  <Override PartName="/ppt/media/image4.gif" ContentType="image/gif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1196-5A5C-4AD4-92BD-23E244AB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73E-9DC5-4701-B632-1059FCB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E21-F52C-4DAC-AE47-56C34179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674-3EE9-40FB-9914-17228DAD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EEB1-003A-488A-9F73-7EF48EFD1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5C15-DC29-480D-A8A5-B8597BDE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884A-AA6E-4FE8-B16E-3EACC611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6244-82D4-44AE-80EF-5294067B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CD75-E4AF-4B94-8CCA-97125388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FFB7-D29B-4369-853F-35863E71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E320-345D-4E8A-B9CF-4C48F140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1F8-F60C-4030-99BE-C25CE41D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EE15-B1AF-47AE-845E-B8B3018F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ED3C-C0F1-4523-971D-94E2CA73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2EC0-4F07-4002-82E0-5E9E87BE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DFAC-B83C-44B9-A4C5-E07F81BB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1770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F893-275F-4DA3-A4F4-BB825CD8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E35-C638-4EB4-AFFA-7B2EB6B6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4A9-DCF2-40D9-8416-9F4EF6D2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32A-CC4A-4F4E-8B11-CFA66349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3915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068-2629-424D-8706-F5C08D8D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1F4-9F9A-4504-A7E0-6415F310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1770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3FB7-956C-49E9-AB72-62AEA77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4584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770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706-4E7C-4C9C-B6E1-E2A6DB8F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7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Freeform 16"/>
          <p:cNvSpPr/>
          <p:nvPr/>
        </p:nvSpPr>
        <p:spPr>
          <a:xfrm>
            <a:off x="-11160" y="281160"/>
            <a:ext cx="9155160" cy="1620720"/>
          </a:xfrm>
          <a:prstGeom prst="pie">
            <a:avLst/>
          </a:pr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17"/>
          <p:cNvSpPr/>
          <p:nvPr/>
        </p:nvSpPr>
        <p:spPr>
          <a:xfrm>
            <a:off x="-20520" y="533520"/>
            <a:ext cx="9161280" cy="1006200"/>
          </a:xfrm>
          <a:prstGeom prst="pie">
            <a:avLst/>
          </a:pr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18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5" name="Oval 19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20"/>
            <p:cNvSpPr/>
            <p:nvPr/>
          </p:nvSpPr>
          <p:spPr>
            <a:xfrm>
              <a:off x="7740720" y="347760"/>
              <a:ext cx="25812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Group 21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8" name="Oval 22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23"/>
            <p:cNvSpPr/>
            <p:nvPr/>
          </p:nvSpPr>
          <p:spPr>
            <a:xfrm>
              <a:off x="8153280" y="152640"/>
              <a:ext cx="508320" cy="39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Group 24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1" name="Oval 25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26"/>
            <p:cNvSpPr/>
            <p:nvPr/>
          </p:nvSpPr>
          <p:spPr>
            <a:xfrm>
              <a:off x="171360" y="946080"/>
              <a:ext cx="60048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28D6-4383-4EA2-A670-48CC6E9121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17"/>
          <p:cNvSpPr/>
          <p:nvPr/>
        </p:nvSpPr>
        <p:spPr>
          <a:xfrm>
            <a:off x="-9360" y="1447920"/>
            <a:ext cx="9164520" cy="3832200"/>
          </a:xfrm>
          <a:prstGeom prst="pie">
            <a:avLst/>
          </a:pr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8"/>
          <p:cNvSpPr/>
          <p:nvPr/>
        </p:nvSpPr>
        <p:spPr>
          <a:xfrm>
            <a:off x="-9360" y="1730520"/>
            <a:ext cx="9150120" cy="3265200"/>
          </a:xfrm>
          <a:prstGeom prst="pie">
            <a:avLst/>
          </a:pr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19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7" name="Oval 20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7cee9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21"/>
            <p:cNvSpPr/>
            <p:nvPr/>
          </p:nvSpPr>
          <p:spPr>
            <a:xfrm>
              <a:off x="7086600" y="1947960"/>
              <a:ext cx="355680" cy="35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2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60" name="Oval 23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4"/>
            <p:cNvSpPr/>
            <p:nvPr/>
          </p:nvSpPr>
          <p:spPr>
            <a:xfrm>
              <a:off x="7620120" y="1524240"/>
              <a:ext cx="76212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5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3" name="Oval 26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7"/>
            <p:cNvSpPr/>
            <p:nvPr/>
          </p:nvSpPr>
          <p:spPr>
            <a:xfrm>
              <a:off x="304920" y="3657600"/>
              <a:ext cx="10792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6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66" name="Text Box 14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5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3B18-2404-46CC-8723-B3E0E0717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tod-kopilka.ru/page-soft.html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a2e7f"/>
                </a:solidFill>
                <a:latin typeface="Arial"/>
              </a:rPr>
              <a:t>Решаем задачи «Домашняя аптечка»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28760" y="5143680"/>
            <a:ext cx="428616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пухина Ирина Степ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химии МБОУ СОШ № 3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 Новосибир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Dima\Рабочий стол\ира\клепарты\ппь.jpg"/>
          <p:cNvPicPr/>
          <p:nvPr/>
        </p:nvPicPr>
        <p:blipFill>
          <a:blip r:embed="rId1"/>
          <a:stretch/>
        </p:blipFill>
        <p:spPr>
          <a:xfrm>
            <a:off x="285840" y="0"/>
            <a:ext cx="1095120" cy="135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Documents and Settings\Dima\Рабочий стол\ира\Новая папка\super_smilies090.gif"/>
          <p:cNvPicPr/>
          <p:nvPr/>
        </p:nvPicPr>
        <p:blipFill>
          <a:blip r:embed="rId2"/>
          <a:stretch/>
        </p:blipFill>
        <p:spPr>
          <a:xfrm>
            <a:off x="7786800" y="500040"/>
            <a:ext cx="561960" cy="49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Dima\Рабочий стол\ира\фото\PICT0153.JPG"/>
          <p:cNvPicPr/>
          <p:nvPr/>
        </p:nvPicPr>
        <p:blipFill>
          <a:blip r:embed="rId3"/>
          <a:stretch/>
        </p:blipFill>
        <p:spPr>
          <a:xfrm>
            <a:off x="6286680" y="4786200"/>
            <a:ext cx="235728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2e7f"/>
                </a:solidFill>
                <a:latin typeface="Arial"/>
              </a:rPr>
              <a:t>Задача № 7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олторы тысячи лет до н. э. египетские жрецы уже умели извлекать из верблюжьего навоза бесцветные кристаллы, названные «нушадир». Позднее это слово превратилось в «нашатырь»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объем аммиака (при н. у.) может быть выделен таким способом из 25 г хлорида аммо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429000" y="3000240"/>
            <a:ext cx="1049400" cy="5000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Хлорид аммония: химическая формула"/>
          <p:cNvPicPr/>
          <p:nvPr/>
        </p:nvPicPr>
        <p:blipFill>
          <a:blip r:embed="rId2"/>
          <a:stretch/>
        </p:blipFill>
        <p:spPr>
          <a:xfrm>
            <a:off x="6786720" y="4500720"/>
            <a:ext cx="1904760" cy="1952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2e7f"/>
                </a:solidFill>
                <a:latin typeface="Arial"/>
              </a:rPr>
              <a:t>Используемая литератур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икберова Л. Ю., Рукк Н. С. «Полезная химия: задачи и истор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бриелян  О. С. «Химия 8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http://www.metod-kopilka.ru/page-sof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C:\Documents and Settings\Dima\Рабочий стол\ира\клепарты\ро.jpg"/>
          <p:cNvPicPr/>
          <p:nvPr/>
        </p:nvPicPr>
        <p:blipFill>
          <a:blip r:embed="rId2"/>
          <a:stretch/>
        </p:blipFill>
        <p:spPr>
          <a:xfrm>
            <a:off x="4000680" y="4429080"/>
            <a:ext cx="179676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2e7f"/>
                </a:solidFill>
                <a:latin typeface="Arial"/>
              </a:rPr>
              <a:t>Цель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иться решать за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омнить формулы веществ лежащих в аптечк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шить кругозор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сить интерес к хим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8" descr="original_pencil_w"/>
          <p:cNvPicPr/>
          <p:nvPr/>
        </p:nvPicPr>
        <p:blipFill>
          <a:blip r:embed="rId1"/>
          <a:stretch/>
        </p:blipFill>
        <p:spPr>
          <a:xfrm>
            <a:off x="6715080" y="3214800"/>
            <a:ext cx="1600200" cy="119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book_w"/>
          <p:cNvPicPr/>
          <p:nvPr/>
        </p:nvPicPr>
        <p:blipFill>
          <a:blip r:embed="rId2"/>
          <a:stretch/>
        </p:blipFill>
        <p:spPr>
          <a:xfrm>
            <a:off x="571680" y="5143680"/>
            <a:ext cx="1523880" cy="1215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2e7f"/>
                </a:solidFill>
                <a:latin typeface="Arial"/>
              </a:rPr>
              <a:t>Задача № 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манганатом калия можно лечить змеиные укусы. Если нет специальной сыворотки, точно по месту укуса делают инъекцию 0,5-1 мл1% раств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йте массу перманганата калия и объем воды, необходимые для приготовления 75 мл такого раствора, имеющего плотность 1,006 г/м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3714840" y="2428920"/>
            <a:ext cx="1174680" cy="500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Documents and Settings\Dima\Рабочий стол\ира\клепарты\свы.jpg"/>
          <p:cNvPicPr/>
          <p:nvPr/>
        </p:nvPicPr>
        <p:blipFill>
          <a:blip r:embed="rId2"/>
          <a:stretch/>
        </p:blipFill>
        <p:spPr>
          <a:xfrm>
            <a:off x="7143840" y="5072040"/>
            <a:ext cx="1019160" cy="115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0" descr="3D_17"/>
          <p:cNvPicPr/>
          <p:nvPr/>
        </p:nvPicPr>
        <p:blipFill>
          <a:blip r:embed="rId3"/>
          <a:stretch/>
        </p:blipFill>
        <p:spPr>
          <a:xfrm>
            <a:off x="357120" y="5214960"/>
            <a:ext cx="144792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пользуй формул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lackadder ITC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lackadder ITC"/>
              </a:rPr>
              <a:t>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Blackadder ITC"/>
              </a:rPr>
              <a:t>W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=p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3429000" y="2786040"/>
            <a:ext cx="2290680" cy="8571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0" y="98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Dima\Рабочий стол\ира\клепарты\96.jpg"/>
          <p:cNvPicPr/>
          <p:nvPr/>
        </p:nvPicPr>
        <p:blipFill>
          <a:blip r:embed="rId2"/>
          <a:stretch/>
        </p:blipFill>
        <p:spPr>
          <a:xfrm>
            <a:off x="7715160" y="1643040"/>
            <a:ext cx="1104840" cy="175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020"/>
          <p:cNvPicPr/>
          <p:nvPr/>
        </p:nvPicPr>
        <p:blipFill>
          <a:blip r:embed="rId3"/>
          <a:stretch/>
        </p:blipFill>
        <p:spPr>
          <a:xfrm>
            <a:off x="571680" y="4714920"/>
            <a:ext cx="1542960" cy="1309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7358040" y="5429160"/>
            <a:ext cx="1038240" cy="819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2e7f"/>
                </a:solidFill>
                <a:latin typeface="Arial"/>
              </a:rPr>
              <a:t>Задача № 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004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оксид водорода как лекарственное средство чаще всего используют в виде 3% водного раствора, который продается в аптеке. В медицине используют еще 30% раствор           (пергидро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объем воды надо добавить к 5мл 30% раствора           , чтобы получить 3% раство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2428920" y="2928960"/>
            <a:ext cx="714240" cy="4158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762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2"/>
          <a:stretch/>
        </p:blipFill>
        <p:spPr>
          <a:xfrm>
            <a:off x="2571840" y="3857760"/>
            <a:ext cx="714240" cy="41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Dima\Рабочий стол\ира\клепарты\щш.jpg"/>
          <p:cNvPicPr/>
          <p:nvPr/>
        </p:nvPicPr>
        <p:blipFill>
          <a:blip r:embed="rId3"/>
          <a:stretch/>
        </p:blipFill>
        <p:spPr>
          <a:xfrm>
            <a:off x="7286760" y="5072040"/>
            <a:ext cx="1009440" cy="1276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2e7f"/>
                </a:solidFill>
                <a:latin typeface="Arial"/>
              </a:rPr>
              <a:t>Задача № 3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ловеческом организме в общей сложности содержится около 25 мл иода, причем половина всей массы иода находится в щитовидной желе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читайте, сколько атомов иода находи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в щитовидной желез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в человеческом организ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6" descr="200"/>
          <p:cNvPicPr/>
          <p:nvPr/>
        </p:nvPicPr>
        <p:blipFill>
          <a:blip r:embed="rId1"/>
          <a:stretch/>
        </p:blipFill>
        <p:spPr>
          <a:xfrm>
            <a:off x="7215120" y="5000760"/>
            <a:ext cx="1524240" cy="1355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http://im3-tub.yandex.net/i?id=112069851-00"/>
          <p:cNvPicPr/>
          <p:nvPr/>
        </p:nvPicPr>
        <p:blipFill>
          <a:blip r:embed="rId2"/>
          <a:stretch/>
        </p:blipFill>
        <p:spPr>
          <a:xfrm>
            <a:off x="571680" y="5429160"/>
            <a:ext cx="133344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2e7f"/>
                </a:solidFill>
                <a:latin typeface="Arial"/>
              </a:rPr>
              <a:t>Задача № 4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ХХ в. появился раствор Люголя, содержащий в 17 мл воды 1 г иода и 2 г иодида ка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м раствором смазывали слизистую оболочку горла и полости рта при воспалениях (ангине , стоматите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йте массовые доли иодида калия и иода в растворе Люг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050"/>
          <p:cNvPicPr/>
          <p:nvPr/>
        </p:nvPicPr>
        <p:blipFill>
          <a:blip r:embed="rId1"/>
          <a:stretch/>
        </p:blipFill>
        <p:spPr>
          <a:xfrm>
            <a:off x="428760" y="5072040"/>
            <a:ext cx="118260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7643880" y="55008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im0-tub.yandex.net/i?id=78068382-00"/>
          <p:cNvPicPr/>
          <p:nvPr/>
        </p:nvPicPr>
        <p:blipFill>
          <a:blip r:embed="rId3"/>
          <a:stretch/>
        </p:blipFill>
        <p:spPr>
          <a:xfrm>
            <a:off x="7858080" y="2143080"/>
            <a:ext cx="98100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2e7f"/>
                </a:solidFill>
                <a:latin typeface="Arial"/>
              </a:rPr>
              <a:t>Задача № 5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распространенных средств лечения при нервном истощении, повышенной возбудимости, аллергии - теплые водно-солевые ванны, содержащие 1-3% хлорида нат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йте массу хлорида натрия для приготовления такой ванны, содержащей 1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 объем воды равен 300 л. Плотность раствора 1,0053 г/м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6" descr="047"/>
          <p:cNvPicPr/>
          <p:nvPr/>
        </p:nvPicPr>
        <p:blipFill>
          <a:blip r:embed="rId1"/>
          <a:stretch/>
        </p:blipFill>
        <p:spPr>
          <a:xfrm>
            <a:off x="7572240" y="514368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226"/>
          <p:cNvPicPr/>
          <p:nvPr/>
        </p:nvPicPr>
        <p:blipFill>
          <a:blip r:embed="rId2"/>
          <a:stretch/>
        </p:blipFill>
        <p:spPr>
          <a:xfrm>
            <a:off x="428760" y="5143680"/>
            <a:ext cx="83484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2e7f"/>
                </a:solidFill>
                <a:latin typeface="Arial"/>
              </a:rPr>
              <a:t>Задача №6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травлениях ляписом (нитратом серебра) желудок промывают 2% р-ром поваренной соли; при этом образуется нерастворимый хлорид сереб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читайте массу хлорида серебра, которая получится при реакции 0,1 г нитрата серебра с избытком хлорида нат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7215120" y="5143680"/>
            <a:ext cx="1047960" cy="1047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09:05:30Z</dcterms:created>
  <dc:creator>Dima</dc:creator>
  <dc:description/>
  <dc:language>en-US</dc:language>
  <cp:lastModifiedBy>Dima</cp:lastModifiedBy>
  <dcterms:modified xsi:type="dcterms:W3CDTF">2010-05-24T13:03:45Z</dcterms:modified>
  <cp:revision>17</cp:revision>
  <dc:subject/>
  <dc:title>Слайд 1</dc:title>
</cp:coreProperties>
</file>