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7DB-2826-4D66-BD38-8BF4DC0A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49E-C610-46C6-B643-658B1302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BE2-0E22-4010-BC09-9693FED6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EF8-832F-4CCF-AF64-9BD6495E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1F37-1E7C-45F8-A07C-4BC1DEF6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5513-729D-4046-B755-62236857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58F4-D2A6-460E-AB9A-0A23CB0F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AB6A-E8B9-4672-B3DE-8667958A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0DBE-577C-43C9-BDF1-E08F4825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9B27-308D-4144-9BFB-74763708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9571-A09D-463D-A9BC-3E7767D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3BB-087B-4744-BA18-19DC3190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BA17-4B4B-4A83-8A4A-ABE74450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0105-1C4C-4E71-838B-9E0D91D9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4C53-6663-41DA-9E87-C91D9E47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1906-C400-4622-8C1E-9022BDB3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0796-7C7F-456A-8C76-3517CBB7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331-E191-4FA2-AB19-D148EE32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726-FC95-451C-B48B-B96D4685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9D9-6236-4186-9E3C-1F819670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129-AD61-49DB-87C8-9432623B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480-F3B6-4506-975F-FBF408C4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279-DF78-4A4F-8DD7-57323C58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ED0-A500-4A25-8B37-0712E0CF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797A-7B47-47F3-A985-839BB4DE24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D7CE-EC70-4EE7-A4FF-2FBFB6DA74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81080" y="762120"/>
            <a:ext cx="5486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икторина </a:t>
            </a:r>
            <a:endParaRPr b="1" lang="en-US" sz="40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 творчеству </a:t>
            </a:r>
            <a:endParaRPr b="1" lang="en-US" sz="40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.-К.Андерсена</a:t>
            </a:r>
            <a:endParaRPr b="1" lang="en-US" sz="40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-4 классы</a:t>
            </a:r>
            <a:endParaRPr b="1" lang="en-US" sz="40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14600" y="4876920"/>
            <a:ext cx="518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алышева Наталья Андреевна</a:t>
            </a:r>
            <a:endParaRPr b="1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Заведующая библиотекой</a:t>
            </a:r>
            <a:endParaRPr b="1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С(К)ОУ С(К)ОШИ VIII вида</a:t>
            </a:r>
            <a:endParaRPr b="1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город Лысьва, Пермский край</a:t>
            </a:r>
            <a:endParaRPr b="1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Виктор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               </a:t>
            </a:r>
            <a:r>
              <a:rPr b="1" lang="en-US" sz="2000" spc="-1" strike="noStrike" u="sng">
                <a:solidFill>
                  <a:srgbClr val="703dff"/>
                </a:solidFill>
                <a:uFillTx/>
                <a:latin typeface="Comic Sans MS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1.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Назови сказку Андерсена, в которой  героиня не могла уснуть на 20 тюфяках и 20 пуховиках, так как под ними лежала горошина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(2 класс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2.Назовите  сказку, которая  не принадлежи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Х. К. Андерсену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Дикие лебед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Гадкий утёно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Золотой гус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(3 класс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3. Назови предмет, который не относится к сказке «Огниво» (выбрать правильный ответ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медные монет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сабл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оловянный солдати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(4 класс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2965320" cy="4038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270036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52680" y="8380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«Дикие лебед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Виктор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2 ту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Кто был сыном старой оловянной ложк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Кем на самом деле был человек,пасший свиней в сказке «Свинопас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        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Как звали мальчика и девочку в сказке «Снежная королева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       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Свинопа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2784600" cy="422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Викторина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3808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3 ту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Узнай сказку по отрывку из неё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«Боже мой, на что она была похожа! Вода бежала с её волос и платья прямо в башмаки, а она всё таки уверяла, что она принцесса»   2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«Шёл солдат по дороге, раз-два! Ранец за спиной . Сабля на боку. Он шёл домой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                   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«Было когда-то 25 солдатов, родных братьев по матери –старой оловянной ложки. На последнего солдатика не хватило олова, и он был одноногим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                    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4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Огни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057560" cy="541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4 ту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Узнай героя по описани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«В самой чашечке тюльпана на зелёном стульчике сидела девочка, совсем крошечная, и такая была хорошенькая, и росточком всего-то с дюйм»  2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«Он некрасив, но у него доброе сердце, а плавает он лучше других, со временем, я думаю, он выровняется и станет поменьше»  3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«Это было тогда, когда на наших окнах зацветали прекрасные розы. Мы жили дружно и весело, но однажды мне в глаз попал осколок зеркала, и я стал видеть всё злым и безобразным» 4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Дюймовочк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048120" cy="415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Отгадай к какой сказке относится иллюстр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2214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143160" cy="2257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62120" y="4114800"/>
            <a:ext cx="312408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dff"/>
                </a:solidFill>
                <a:uFillTx/>
                <a:latin typeface="Comic Sans MS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Нравятся ли вам сказки Андерсен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Какие герои сказок запомнили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Вам бы хотелось прочитать и другие сказки Х. К. Андерсен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4114800"/>
            <a:ext cx="3047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В мире много книжек</a:t>
            </a:r>
            <a:br>
              <a:rPr sz="32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Грустных и смешных,</a:t>
            </a:r>
            <a:br>
              <a:rPr sz="32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И прожить на свете </a:t>
            </a:r>
            <a:br>
              <a:rPr sz="32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Нам нельзя без них.</a:t>
            </a:r>
            <a:br>
              <a:rPr sz="32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В книге может все случиться,</a:t>
            </a:r>
            <a:br>
              <a:rPr sz="32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Наша книга впереди,</a:t>
            </a:r>
            <a:br>
              <a:rPr sz="32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Книга в двери к нам стучится.</a:t>
            </a:r>
            <a:br>
              <a:rPr sz="32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Скажем гостье: «Заходи!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Книга – наш друг, большой и умный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Не даст скучать и унывать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Затеет спор – весёлый, шумны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может новое узн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Расскажет книжка про герое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На юг, на север поведё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С ней даже космос как-то ближ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Она на всё ответ найдё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И пусть девчонки и мальчишк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ся озорная детвор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Сегодня скажут звонко-звонк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«Спасибо,  книжная страна!»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07068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219320" y="38088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2 апреля – Международный день детской кни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400800" cy="1371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Великий сказочник</a:t>
            </a: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Андерсен Х. К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5943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1805 - 18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38360" cy="42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556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703dff"/>
                </a:solidFill>
                <a:uFillTx/>
                <a:latin typeface="Comic Sans MS"/>
              </a:rPr>
              <a:t>Биография сказочн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Родился в Дани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Отец был сапожник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Мать - прачк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Первые сказки услыша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от от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С детства сам начал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писать пьесы и сказ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Портрет Х.С. Андерсена акварелью, написан 20 ноября 1845 г., автор — немецкий художник Карл Хартманн (1718-1857). Картина находится в замке Грестен, Дания."/>
          <p:cNvPicPr/>
          <p:nvPr/>
        </p:nvPicPr>
        <p:blipFill>
          <a:blip r:embed="rId1"/>
          <a:stretch/>
        </p:blipFill>
        <p:spPr>
          <a:xfrm>
            <a:off x="5791320" y="2286000"/>
            <a:ext cx="294624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Дания </a:t>
            </a:r>
            <a:br>
              <a:rPr sz="4400"/>
            </a:b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(Родина Андерсен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400800" cy="425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Любимые сказ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2305080" cy="3243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828800" y="1523880"/>
            <a:ext cx="2700360" cy="373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2876400" cy="4257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248520" y="2438280"/>
            <a:ext cx="2736720" cy="41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Любимые сказ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3333600" cy="358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86400" y="2438280"/>
            <a:ext cx="2895480" cy="410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Памятник Андерсену в Копенгаген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29320" cy="510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G</cp:lastModifiedBy>
  <dcterms:modified xsi:type="dcterms:W3CDTF">2010-05-25T08:01:2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