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gif" ContentType="image/gif"/>
  <Override PartName="/ppt/media/image10.png" ContentType="image/png"/>
  <Override PartName="/ppt/media/chimes.wav" ContentType="audio/x-wav"/>
  <Override PartName="/ppt/media/image4.gif" ContentType="image/gif"/>
  <Override PartName="/ppt/media/image2.gif" ContentType="image/gif"/>
  <Override PartName="/ppt/media/image3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5C6-EAC1-4C74-BA4F-A791A4AB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0F0-6CA0-4047-AB55-3C04531F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D15-8A0C-4E55-9E47-7F411627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F26-2659-4552-A4C8-FA01B01B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FE9E-23B1-4579-8A13-A125F622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1921-9629-4576-83E1-6179142F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9C96-12C9-41B2-A34F-97E9CA80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F88F-C3DB-4D77-A9D7-1C966607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0A02-0761-4DA6-A259-8E9B8B0F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11FA-B9AF-4CB2-A602-70F03D79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5CA7-1B47-417F-BE17-55C2E9FA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08A-11AE-45C7-8E91-940AEC26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6731-F52F-4535-8EDF-8E2E746A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5D53-A0BF-4F0C-94C9-AB8E4E5D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C390-35AC-413D-86AE-CE4858D7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D3BD-F4A1-48E5-9152-056B06D3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9962-747A-45FD-B36A-A344E866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7C110-9C82-4373-BFB1-2799E4CF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7214B-73D2-4ACD-9A7E-366B5ABE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8A3C3-066D-429F-9DF8-E19C50A7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38934-819E-4558-8B37-9A7E04E9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1E53C-C4FB-438D-9F4C-E2435E2C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F0C-6007-45FF-8EC3-55CAFC60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64FCB-782C-4394-9A2A-77D7CFB9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0A03F-7824-4846-9ADC-AF172A61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B6635-CB5F-42E2-8B72-40627FFC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72556-8A6E-4C19-A0E0-6121462D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CCFB5-0AEB-47F0-8F4D-C083AD90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F8303-0749-4148-AC9E-5A747648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A973A-13E8-4B51-A54F-4361119E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E2F01-1E44-4677-B5A7-0BBD1E55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28833-F480-4504-AAE8-094B6257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98EE0-1D1B-4CFB-A2E4-060EA12B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233-A6D0-46EE-B8A4-741BCCB7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D58B8-1006-4540-8CB2-51CD7BEA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43CB7-1378-4272-A6FE-E1466097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18ACE-D57D-4F36-B36E-8E1F099E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2E0B4-5C0C-42B2-9C0A-60A8CEC6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7541C-CE54-46F0-B40E-C3A5B4D6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6B763-1DD0-4F38-BB63-518D37CB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4FBB9-D9C4-47EE-B22B-B7F8D545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E44F8-CD1B-4413-AB65-D976E17E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60AF3-4561-406B-B829-0B96718F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88FCD-6F87-41BF-8DBB-F92CC43F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242F-E380-407B-A314-331DCF4E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9E1F1-19D3-4869-8755-1325AF1C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00AED-FD65-4963-929F-06E66B0E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EC12A-89CB-4F4F-8577-712444C9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6A6E4-1B64-4A9A-8BD3-78E22348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75FB7-1F91-492F-AE04-6C4A9BE0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7D3E7-4702-4DE1-B923-58A8BAD0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659E0-5D26-4580-B310-1F001F08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C3210-293B-4DC8-8FED-6E985156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BE356-A130-4AF9-B60C-2D8ED5D6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5D6F7-EF27-4160-8022-0FF82D64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2F1D-6CC8-4552-9FF6-8598D4E5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6B2B1-8C16-4C32-9DD4-E61314DD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60FE2-75FD-4D74-8661-E2F8B23E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6D751-0971-4C4B-AD05-DFC5F208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235C9-B012-480F-BC35-D8AEA32E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6DA7A-BC3F-4629-8CF9-8AD7FEB2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5B095-9E00-49A3-B60A-CB8F0B10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29881-BF11-47E0-953E-57E737BD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BF3BC-C427-455A-A809-58ADD960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506EA-CDDD-423C-81BA-09390AEB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3A295-C40B-4FA6-AC74-62EBDE5D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FF8A-090F-4868-AC5B-A40A83E3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2BB86-0340-47F2-A8E6-D83ADCEE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2A387-9E38-46D8-BFEF-E042F706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4AC32-591E-4240-85F3-FEACC5BF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6074E-761A-4B56-87C3-944CD26D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DE765-0333-405C-AAAB-B74ACC17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84C49-28E8-48C2-8E13-1B731567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E3AFF-A2E8-480F-85D2-567558DA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004E9-10E6-4D91-890C-AA6C50CD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4A4FC-983A-41AF-8CFC-E320C2ED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D8D59-DDD8-4B1B-BCE7-742A7E9E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FCD-3869-4FC2-A209-4E8832A4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47885-30BE-4365-9488-315F9441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1E981-9C5A-43F5-A196-281B063B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60F73-EB2E-4E00-97F1-903C0D56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904A2-EDE7-41E5-AB36-AEE647F6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3EBEA-6702-43CF-8C76-9064D20D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022FC-4C24-414A-B91F-657D54AF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4A4F4-79B3-4B10-8944-425FA885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DFACD-F36B-450E-A5BD-03701235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C5A3D-AA5C-491F-9EF1-C0558320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4B125-DC4A-44BE-95C3-7E41F1A6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02B6-4C54-43E3-81B4-9A98D846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119E2-D2DA-4FE8-80D6-68661D91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E4355-249F-4CE4-93A0-9D40F6CE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C870E-0208-44EE-BFCC-30C2088B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F49E1-DB3B-413A-A937-D63EBAA8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CFC1D-16AD-4280-A511-AE1858D1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ABB93-9071-44EB-9B73-4357D0BF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FAD55-E1FE-432E-BBA2-97B723B2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D198-CBE4-4C36-B2F2-1E9F5835F26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4523-5EF9-4AB1-8736-83C40A6AF89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5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5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78E5-3F83-4661-A62B-CD2FA4416D7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0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14F7-D54C-41A9-A761-F3684D9DD70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DB46-149C-4F33-A43B-16E1C970BC7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51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93A9-9A9A-44D3-A39D-72A8E2FF602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24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3CDA-703F-4082-86AF-A027307D50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4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4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332D-A17D-4ED6-95D4-08BB54765A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2;&#1086;&#1083;&#1086;&#1082;&#1086;&#1083;&#1100;&#1095;&#1080;&#1082;.WAV" TargetMode="External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ожение и вычитание десятичных дробей.</a:t>
            </a:r>
            <a:br>
              <a:rPr sz="4400"/>
            </a:b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Математика 5 класс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рок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066920" y="3860640"/>
            <a:ext cx="43146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ОУ СОШ № 1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Лахман Татьяна Федоров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3059280" y="6237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. Новопавловка 20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042920" y="2933640"/>
            <a:ext cx="2376720" cy="223848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Тема:</a:t>
            </a: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Сложение и вычитание десятичных дробей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Цели урока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учить складывать и вычитать десятичные дроб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Развивать внимание, память, логическое мышление, настойчивость, умение действовать самостоятельн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Воспитывать трудолюбие и аккуратнос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7093080" y="4797360"/>
            <a:ext cx="1763640" cy="180036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Comic Sans MS"/>
              </a:rPr>
              <a:t>Устный счёт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3995640" y="5013360"/>
            <a:ext cx="1513080" cy="165564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Сравнит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,089 и  5,1            0,64 и 6,3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,1 и 8,097            0,529 и 0,5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33ff"/>
                </a:solidFill>
                <a:latin typeface="Arial"/>
              </a:rPr>
              <a:t>        </a:t>
            </a:r>
            <a:r>
              <a:rPr b="1" lang="en-US" sz="3900" spc="-1" strike="noStrike">
                <a:solidFill>
                  <a:srgbClr val="9933ff"/>
                </a:solidFill>
                <a:latin typeface="Arial"/>
              </a:rPr>
              <a:t>Заполни пропуски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8м3дм =        м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    6м8см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=        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т2ц =         т          54ц =    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7,2       = 7т2 ц        11м7дм=    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  м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411280" y="1700280"/>
            <a:ext cx="865440" cy="649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43640" y="1700280"/>
            <a:ext cx="86364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050920" y="3068640"/>
            <a:ext cx="863640" cy="57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724360" y="2997360"/>
            <a:ext cx="648000" cy="504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476360" y="4508640"/>
            <a:ext cx="720720" cy="502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227640" y="4365720"/>
            <a:ext cx="782640" cy="6634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340000" y="170028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Comic Sans MS"/>
              </a:rPr>
              <a:t>8,3</a:t>
            </a: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24000" y="3068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Comic Sans MS"/>
              </a:rPr>
              <a:t>2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58920" y="4508640"/>
            <a:ext cx="108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443640" y="1628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Comic Sans MS"/>
              </a:rPr>
              <a:t>6,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651640" y="30686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Comic Sans MS"/>
              </a:rPr>
              <a:t>5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368360" cy="158436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ahoma"/>
              </a:rPr>
              <a:t>Логическая задача.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Ученики пошли в кино. Они построились тройками. Одна тройка ребят заметила, что их тройка седьмая спереди и пятая сзади. Сколько учеников пошли в кино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Варианты отве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1619280" y="4869000"/>
            <a:ext cx="1584360" cy="108108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4067280" y="4869000"/>
            <a:ext cx="1584360" cy="10810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6516720" y="4869000"/>
            <a:ext cx="1584360" cy="108108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1979640" y="5084640"/>
            <a:ext cx="1081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  <a:hlinkClick r:id="rId4" action="ppaction://hlinksldjump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500720" y="5084640"/>
            <a:ext cx="865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  <a:hlinkClick r:id="rId5" action="ppaction://hlinksldjump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948360" y="5084640"/>
            <a:ext cx="1079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  <a:hlinkClick r:id="rId6" action="ppaction://hlinksldjump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7" name="chimes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399"/>
                </a:solidFill>
                <a:latin typeface="Comic Sans MS"/>
              </a:rPr>
              <a:t>Блиц – турнир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Тетрадь стоит 2 рубля. Сколько заплатили за 4 таких тетрадк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За 2 билета заплатили 20 рублей. Сколько стоит один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У рака 10 ног, а у пчелы на 4 меньше. Сколько ног у пчелы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Как называют числа при умножении? Делени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1398600" cy="12970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6084720" y="5013360"/>
            <a:ext cx="1398600" cy="129708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60093"/>
                </a:solidFill>
                <a:latin typeface="Arial"/>
              </a:rPr>
              <a:t>Задача.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68360" y="1651320"/>
            <a:ext cx="727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узнечик прыгает в дли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 расстояние в 4 раза больше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чем в выс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 какое расстояние прыг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узнечик в длину, если  выс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н берет 50 сантиметр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5724360" y="3500280"/>
            <a:ext cx="2664000" cy="313236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990720" y="170496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ариант 1                     Вариант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0,9+3,1                      1)3,8+0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16+1,8                       2)6,7+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10,4-7,18                   3)2,9-О,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18-3,78                       4)81-9,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3,2-2,124                   5)7,4-3,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Самостоятельная работа.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6084720" y="5013360"/>
            <a:ext cx="1398600" cy="12970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7086600" y="1981080"/>
            <a:ext cx="1398600" cy="12970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990720" y="4648320"/>
            <a:ext cx="139860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mic Sans MS"/>
              </a:rPr>
              <a:t>Домашнее задание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255,№1256,№1247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0" y="249228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 txBox="1"/>
          <p:nvPr/>
        </p:nvSpPr>
        <p:spPr>
          <a:xfrm>
            <a:off x="755640" y="3068640"/>
            <a:ext cx="7129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10800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5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2767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ас</cp:lastModifiedBy>
  <dcterms:modified xsi:type="dcterms:W3CDTF">2010-06-05T07:27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