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ECD-08A1-46FA-84CB-2196FA6F92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D8B6-E63B-4866-94A2-76CF5B845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520-D9EE-45D8-9CCD-2CB669BF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F9C-BE75-4B9B-A468-E1922CC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55C7A-0A04-4EBB-8FCF-518C1E2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1E58C-34BE-493B-8A1E-1694718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5DB53-D590-45E3-9E0A-5D5A7EA6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5245F-487D-4414-9352-08E4415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92C32-046C-44E2-ADE4-328D13D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A204-75A0-499E-B973-BA8C5AC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A158-4C2E-4937-B0A5-7A41D5F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E8BF4-54BE-4A9D-AB81-7A60731F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A53D8-B501-4436-ACE6-4FC6A1BB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60C43-7D68-493A-AFD0-E386604D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DED-ADA0-4F2E-B103-A7689164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0C999-E87A-43EE-BBD3-31B3FAA7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2F75-2EA4-4F18-B8CD-C9EA4D8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6136A-9675-4248-BB4F-227E99A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8327-E5E7-4C38-8996-D8DA7805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461B1-3CD6-48A4-AED0-04F32028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A04FE-F102-4516-8E06-6DCDE52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633A-98AF-4F5D-913C-A30C7F0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E1E65-1918-4738-AA9B-A305A09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F66AA-B053-4195-9A63-7CFE7E6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F9E3-ABC7-44FE-B0CB-DF5C907C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0FC-87FB-4A8D-AFF3-30DAFB06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F951-182F-4123-B13C-035ACA3E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5DE91-B656-4905-9CDE-8948638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03B8-89E5-461D-8874-DAE3E74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2395-EB11-4F5A-91E8-0B19316B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E102-1ACE-4AB3-B90D-E31319AB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C5F7-37DF-4613-84AF-A95889A6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3DE12-D645-478F-AF68-0B286B6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3253F-F594-4DEA-B8A7-98B78F3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5290-A1C9-4DEB-8F89-4C1DC91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8245-772E-4854-AD84-7AB4AC7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7904-4DD4-466A-A02F-3AD660CD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A8EE-8739-4699-977D-5B06FB9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D10CD-7092-40C3-82C1-CBF90BF6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AF7B-4BA0-453E-BF1E-EEF1B4FE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B3F52-79FB-4848-A32F-1E0F576C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53758-77B5-4023-9C77-0455894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460BC-EF85-4143-B073-C0F06C1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486E5-8F64-4D11-8DDB-F4117FC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4A90F-9B28-429F-ADA2-8B042DBB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B5401-543F-4F54-BDEB-C4219AA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87AA6-E3D2-40BE-867D-28A2AEAB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7A49-E935-4FCB-9C05-8B0BE07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E9AB-83A4-459D-AD6D-7B693A3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51C26-E6F2-40AC-9BB4-AB0BCC8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3449-B7D8-48B4-984B-9987EAF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EBDAC-C4ED-45E6-9657-6785F405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205C1-00A2-498D-ABED-D974D6DF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C1F5-8192-43A2-804C-EA92C7D7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8AC-0454-47FB-888F-F2D27F59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BE37-9241-4037-A7A2-2B913C4E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CC6A-B90E-43CB-B2C0-5BA11374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04D-8FD0-4018-BAAD-73CF081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0D3-8DAF-42DF-B74C-E24A6846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6E1F-9F94-43EF-8DB1-D19B3D6C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24E0-CE7F-4461-8428-3EA0FFE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C4A3-55F3-4E04-9FAB-2A8956B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5A2F-BC04-44C6-8701-779F4ED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3CF-DA00-43BF-BB68-35AC14CC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EA7D-D5B1-4BC5-9710-5913B50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3944-D806-4B81-B3ED-8878617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1034-473C-4BBC-B239-DDBA684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2AF3-AF90-4133-87EB-EFA3DC61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107C-19DC-46DE-A698-2A50307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E0F-44EF-470E-A52A-F264448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3BDF-5E0F-4A02-864E-74206263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2A98-2AE3-47A7-8ACD-4319617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89B4-C0EE-4EC9-8E9D-A7794A1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C115-F0D4-440F-8D78-B2F05AB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21C5-48F9-4E02-935E-0334BEB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075F-056E-41F0-9CBA-ABA4635C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DF75-2E0D-4D8B-AB2A-C88EC978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69C7-92C3-4A67-8DB7-591F8276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8971-F1E4-4380-9F07-B6622928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06D6-D3F0-48E0-8CC8-CD4A712D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B50-6A46-446A-BADF-0591EB2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AC6D-367C-47C6-B4AF-3000B54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B27D-730A-469D-B745-271B328F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A5C1-EB73-44AF-9B5F-8113FA2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3BC7-F7C6-4BA4-9572-6AF8D72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A86E-0C21-409B-AE8D-80B1778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6476-D330-48F9-9FB5-43C10F6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A052-DF0F-4820-8BEC-61D4F217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5288-3A25-40F7-AB55-BDDD6F7F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2D86-AB2D-4137-8C59-2EFFFD05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4D66-CB20-4B5C-93DC-687A5AD9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ABA-F88E-411F-9D07-76BDDEE0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D16C-D21A-4EA6-A3B2-30098B98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0A64-9B69-4667-8074-8C96BE7C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F162-6BA2-408B-B3E8-3B034FB3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3A5B-BD01-4EE1-A30F-0F59F5A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534D-A28D-4858-8D14-301164C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6837-E90B-4509-A0B2-B6A84BF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75CC-F4C0-4A4C-8D31-52DD026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705A-A60E-4E56-BA6D-5A5CD79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78F1-FEBD-4775-AB2F-6E830B4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5864-E843-4DAA-A328-BDDA81B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92D-8455-4B66-BDCD-1441ADB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29A5-FBBD-4440-99A0-FEA4A1AB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1E279-EB34-4FF7-AF45-8CEFD8A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8B102-3064-41EC-A871-8EB49D4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70CB4-5183-4F38-807D-119DDF3B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ABC16B-CF30-4B02-B461-7EFF77F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FA5C8-56B8-4B0B-B9F1-9D6DEE6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96160-027A-4BD1-BC8F-929983B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90C1D-AD1E-4B93-B3D6-6097DA4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DAB4F-9B17-41F0-8E7E-8E7CE18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C6B9A-9486-4A8F-8201-2DC36BB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2A4-AEF4-425C-BC67-CD558CF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B835F-96FA-4DAE-9BEC-56ED0A1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E01C1-1C0F-49DD-8A30-454E9F5E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D1D60-FA6C-4088-889B-BD1E1EFC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539B-1F68-4A2C-B154-539E9CE2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91BC-65E4-4E2F-B7B1-C11F8E64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9D64-DE37-465C-8132-8B34D7E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98AAA-CC37-4973-93D9-FC35EA81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A209-9482-499B-8810-23068D7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6989-F60A-4697-80B0-7346E7E7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19A3-4822-4E0C-BD3E-EA2DDE5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4EE-8F0B-4AC1-ABD7-C3E41D5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A505-1781-4834-9A90-A712F0D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ADD1-25C0-4440-A827-2D428C36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F09A-BF6B-4DDB-A19E-C7E09BF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D8C8-88AB-4C68-9B11-70037C13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4E6C-157C-4172-94A4-4FFD33A2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A8FE8-952B-48B1-9DE4-D27BA12D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CCE2-FC90-4490-BBF7-60D7388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EC70-34D2-4EFF-88D0-C0BD56A3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2175-1795-4833-957B-BB96983A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83786-9C58-4201-8993-34505B3F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A11-371F-47AB-84D8-6D01433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2AD9-0AEE-4BED-BE3C-568695E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F683-B53B-4B73-AD4D-C5C750F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3483-D9F4-446B-B78F-B515ABC3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353D-E0DC-401E-BEAE-5823119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2F5E-0582-4E57-9F6D-0F352703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8837-9053-4AD8-B4C4-CC46BCD1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6128C-2F79-4376-8060-F610503E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45620-CF62-426B-8A98-793119B6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195A9-55B8-4ADB-8EE7-74B14DD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1CF57-3AB9-49BF-9AD5-29EFFC5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D183-992C-4531-9AF7-9B0C90D3104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D9FE-A7BE-4474-90AB-DFC6FA8EA7B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075-5FE0-40CA-9552-57202A9AF10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D9B-662F-4FA5-94AC-737ADC065FF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3DF1-E47B-4BA0-BD4A-019271042D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CBD-48B4-4A86-8E39-41E409F7B26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402-5A95-4AAE-A540-8463936A25E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9C21-E858-4511-8FE7-EED0F540DE4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D8A5-4359-4EE5-A923-F2A42CF9ED2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E7D4-6F45-48A1-843C-9A502FCA43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7B5-90B9-4B38-AEF8-D5813E9B46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b641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526-B271-4EAC-9F9B-813CD6C1298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3581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«Помнить, чтобы жить»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Georgia"/>
                <a:ea typeface="Times New Roman"/>
              </a:rPr>
              <a:t>(Тема Памяти  в рассказе  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Georgia"/>
                <a:ea typeface="Times New Roman"/>
              </a:rPr>
              <a:t>Е. И. Носова «Живое пламя») 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667" name="Рисунок 5" descr="65_letie_pobedy-2-.jpg"/>
          <p:cNvPicPr/>
          <p:nvPr/>
        </p:nvPicPr>
        <p:blipFill>
          <a:blip r:embed="rId2"/>
          <a:stretch/>
        </p:blipFill>
        <p:spPr>
          <a:xfrm>
            <a:off x="2786040" y="2428920"/>
            <a:ext cx="3249720" cy="3476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4"/>
          <p:cNvSpPr/>
          <p:nvPr/>
        </p:nvSpPr>
        <p:spPr>
          <a:xfrm>
            <a:off x="285840" y="607392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Стефанова Лариса Михайловна, 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Гв(с) ОУ «Республиканский центр образования» (г. Сыктывкар, Республика Ко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Евгений Иванович Носов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71520" y="1285560"/>
            <a:ext cx="60721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Основные этапы жизн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1825 год – родился в селе Толмачёве  Курской обла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1941 – 1945 годы – пережил  фашистскую оккупацию, летом  1943 года ушёл на фронт;  участвовал в операции «Багратион», в боях на Рогачёвском плацдарме, воевал в Польше. В боях под Кёнигсбергом в феврале 1945 был тяжело ранен и 9 мая 1945 года встретил в госпитале в Серпухове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После войны учился на Высших литературных курсах при Литературном институте им. М.Горького. Произведения Носова печатаются в журналах  «Новый мир», «Наш современник», «Огонек», занимая достойное место в русской литератур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Умер 13 июня 2002 года, похоронен в Курск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spcBef>
                <a:spcPts val="300"/>
              </a:spcBef>
              <a:buClr>
                <a:srgbClr val="eb641b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Рисунок 4" descr="608.jpg"/>
          <p:cNvPicPr/>
          <p:nvPr/>
        </p:nvPicPr>
        <p:blipFill>
          <a:blip r:embed="rId2"/>
          <a:stretch/>
        </p:blipFill>
        <p:spPr>
          <a:xfrm>
            <a:off x="0" y="1571760"/>
            <a:ext cx="3143160" cy="44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Рассказ «Живое пламя»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673" name="Рисунок 4" descr="1235301067_68961-margo.jpg"/>
          <p:cNvPicPr/>
          <p:nvPr/>
        </p:nvPicPr>
        <p:blipFill>
          <a:blip r:embed="rId2"/>
          <a:stretch/>
        </p:blipFill>
        <p:spPr>
          <a:xfrm>
            <a:off x="1643040" y="1857240"/>
            <a:ext cx="59054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Цитатный план: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75" name="Rectangle 1"/>
          <p:cNvSpPr/>
          <p:nvPr/>
        </p:nvSpPr>
        <p:spPr>
          <a:xfrm>
            <a:off x="1500120" y="14364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1)«Ну, какой из мака цв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2)«Клумба стояла неузнаваем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3)«Два дня буйно пламенели ма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4)«И у людей так бывае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eorgia"/>
                <a:ea typeface="Times New Roman"/>
              </a:rPr>
              <a:t>5)«... не дать погаснуть живому огн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Рисунок 6" descr="50143045_1256101976_img1186129102.jpg"/>
          <p:cNvPicPr/>
          <p:nvPr/>
        </p:nvPicPr>
        <p:blipFill>
          <a:blip r:embed="rId2"/>
          <a:stretch/>
        </p:blipFill>
        <p:spPr>
          <a:xfrm>
            <a:off x="2643120" y="3429000"/>
            <a:ext cx="41007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Рисунок 10" descr="48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 3" descr="E:\0_4113c_27053aeb_L.jpeg"/>
          <p:cNvPicPr/>
          <p:nvPr/>
        </p:nvPicPr>
        <p:blipFill>
          <a:blip r:embed="rId3"/>
          <a:stretch/>
        </p:blipFill>
        <p:spPr>
          <a:xfrm>
            <a:off x="3643200" y="2928960"/>
            <a:ext cx="1793880" cy="2367000"/>
          </a:xfrm>
          <a:prstGeom prst="rect">
            <a:avLst/>
          </a:prstGeom>
          <a:ln w="0">
            <a:noFill/>
          </a:ln>
        </p:spPr>
      </p:pic>
      <p:sp>
        <p:nvSpPr>
          <p:cNvPr id="682" name="Прямоугольник 10"/>
          <p:cNvSpPr/>
          <p:nvPr/>
        </p:nvSpPr>
        <p:spPr>
          <a:xfrm>
            <a:off x="3357720" y="5429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. Б. Алексее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Рисунок 2" descr="E:\0_1c37f_11b37403_L.jpeg"/>
          <p:cNvPicPr/>
          <p:nvPr/>
        </p:nvPicPr>
        <p:blipFill>
          <a:blip r:embed="rId4"/>
          <a:stretch/>
        </p:blipFill>
        <p:spPr>
          <a:xfrm>
            <a:off x="1143000" y="2928960"/>
            <a:ext cx="1582560" cy="2357280"/>
          </a:xfrm>
          <a:prstGeom prst="rect">
            <a:avLst/>
          </a:prstGeom>
          <a:ln w="0">
            <a:noFill/>
          </a:ln>
        </p:spPr>
      </p:pic>
      <p:sp>
        <p:nvSpPr>
          <p:cNvPr id="684" name="Прямоугольник 12"/>
          <p:cNvSpPr/>
          <p:nvPr/>
        </p:nvSpPr>
        <p:spPr>
          <a:xfrm>
            <a:off x="214200" y="535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. Д. Бар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Рисунок 2" descr="E:\0_2719f_c8bd8df1_L.jpeg"/>
          <p:cNvPicPr/>
          <p:nvPr/>
        </p:nvPicPr>
        <p:blipFill>
          <a:blip r:embed="rId5"/>
          <a:stretch/>
        </p:blipFill>
        <p:spPr>
          <a:xfrm>
            <a:off x="6357960" y="2928960"/>
            <a:ext cx="1596960" cy="235728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14"/>
          <p:cNvSpPr/>
          <p:nvPr/>
        </p:nvSpPr>
        <p:spPr>
          <a:xfrm>
            <a:off x="6290640" y="54291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. С. Пол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2" descr="E:\0_2735b_77bc8f3e_L.jpeg"/>
          <p:cNvPicPr/>
          <p:nvPr/>
        </p:nvPicPr>
        <p:blipFill>
          <a:blip r:embed="rId6"/>
          <a:stretch/>
        </p:blipFill>
        <p:spPr>
          <a:xfrm>
            <a:off x="3643200" y="2928960"/>
            <a:ext cx="1785960" cy="2376360"/>
          </a:xfrm>
          <a:prstGeom prst="rect">
            <a:avLst/>
          </a:prstGeom>
          <a:ln w="0">
            <a:noFill/>
          </a:ln>
        </p:spPr>
      </p:pic>
      <p:sp>
        <p:nvSpPr>
          <p:cNvPr id="688" name="Прямоугольник 16"/>
          <p:cNvSpPr/>
          <p:nvPr/>
        </p:nvSpPr>
        <p:spPr>
          <a:xfrm>
            <a:off x="3724200" y="6488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. Н. Чех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Рисунок 2" descr="E:\0_273f4_de4238df_L.jpeg"/>
          <p:cNvPicPr/>
          <p:nvPr/>
        </p:nvPicPr>
        <p:blipFill>
          <a:blip r:embed="rId7"/>
          <a:stretch/>
        </p:blipFill>
        <p:spPr>
          <a:xfrm>
            <a:off x="1143000" y="2928960"/>
            <a:ext cx="1619280" cy="2363760"/>
          </a:xfrm>
          <a:prstGeom prst="rect">
            <a:avLst/>
          </a:prstGeom>
          <a:ln w="0">
            <a:noFill/>
          </a:ln>
        </p:spPr>
      </p:pic>
      <p:sp>
        <p:nvSpPr>
          <p:cNvPr id="690" name="Прямоугольник 19"/>
          <p:cNvSpPr/>
          <p:nvPr/>
        </p:nvSpPr>
        <p:spPr>
          <a:xfrm>
            <a:off x="1080720" y="64882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. И.  Ляп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Рисунок 2" descr="E:\0_3df43_c4e416f5_L.jpeg"/>
          <p:cNvPicPr/>
          <p:nvPr/>
        </p:nvPicPr>
        <p:blipFill>
          <a:blip r:embed="rId8"/>
          <a:stretch/>
        </p:blipFill>
        <p:spPr>
          <a:xfrm>
            <a:off x="6357960" y="2913120"/>
            <a:ext cx="1643040" cy="237312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28"/>
          <p:cNvSpPr/>
          <p:nvPr/>
        </p:nvSpPr>
        <p:spPr>
          <a:xfrm>
            <a:off x="5929200" y="6492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. Ф. Мяс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Kristalinskaya_-_Nejnost.mp3" descr=""/>
          <p:cNvPicPr/>
          <p:nvPr/>
        </p:nvPicPr>
        <p:blipFill>
          <a:blip r:embed="rId9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4" name="Рисунок 18" descr="yak_fw190.jpg"/>
          <p:cNvPicPr/>
          <p:nvPr/>
        </p:nvPicPr>
        <p:blipFill>
          <a:blip r:embed="rId10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8" dur="5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1" dur="5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2" dur="5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0"/>
                            </p:stCondLst>
                            <p:childTnLst>
                              <p:par>
                                <p:cTn id="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5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0"/>
                            </p:stCondLst>
                            <p:childTnLst>
                              <p:par>
                                <p:cTn id="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6" dur="5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9" dur="5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0"/>
                            </p:stCondLst>
                            <p:childTnLst>
                              <p:par>
                                <p:cTn id="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-0.00416 0.16018 E">
                                      <p:cBhvr>
                                        <p:cTn id="60" dur="5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12477 L 0.01077 0.16319 E">
                                      <p:cBhvr>
                                        <p:cTn id="71" dur="5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0.00937 0.15439 E">
                                      <p:cBhvr>
                                        <p:cTn id="82" dur="5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85191" fill="hold"/>
                                        <p:tgtEl>
                                          <p:spTgt spid="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Красный мак – символ Памяти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696" name="Рисунок 3" descr="e96bd726c18c.jpg"/>
          <p:cNvPicPr/>
          <p:nvPr/>
        </p:nvPicPr>
        <p:blipFill>
          <a:blip r:embed="rId2"/>
          <a:stretch/>
        </p:blipFill>
        <p:spPr>
          <a:xfrm>
            <a:off x="285840" y="1785960"/>
            <a:ext cx="3162240" cy="418464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4"/>
          <p:cNvSpPr/>
          <p:nvPr/>
        </p:nvSpPr>
        <p:spPr>
          <a:xfrm>
            <a:off x="3571920" y="1664640"/>
            <a:ext cx="5357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О происхождении мака существует много легенд. В христианской мифологии происхождение мака связывают с кровью невинно убитого человека. Впервые будто бы мак вырос из крови распятого на кресте Христа и с тех пор растет там, где пролилось много человеческой кро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А в Англии существует национальный праздник – День Маков – дань памяти погибшим солда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11 ноября - День Памяти всех павших на полях сражений, дата которого знаменует годовщину окончания 1-й мировой войны. Символом Дня Памяти во многих странах является красный м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Рисунок 1" descr="0_6a51_bcc3b6e9_XL.jpg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699" name="krmak_(mp3cut.ru).mp3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3" descr="1df89947f40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4" descr="153876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702" name="Рисунок 5" descr="2123207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3" name="Рисунок 6" descr="1235301020_315d40709ce1302a81f6f3c3e723f8c1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4" name="Рисунок 7" descr="800px-Poppy2004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5" name="Рисунок 11" descr="2749738_c568d3bd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9" descr="Рисунок2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34905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и создании презентации использованы материалы               Интернет – сайтов: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318400"/>
            <a:ext cx="91440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http://ru.wikipedia.org/wiki/Евгений_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http://www.tuladnt.ru/htmlpage/Akimova.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http://www.just-so-site.com/stories/rememb/mccra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http://dreamworlds.ru/intersnosti/page,1,1,13469-cvetok-grez-ma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http://img-fotki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3:34:56Z</dcterms:created>
  <dc:creator>c1</dc:creator>
  <dc:description/>
  <dc:language>en-US</dc:language>
  <cp:lastModifiedBy>Катенок</cp:lastModifiedBy>
  <dcterms:modified xsi:type="dcterms:W3CDTF">2010-04-22T17:48:33Z</dcterms:modified>
  <cp:revision>80</cp:revision>
  <dc:subject/>
  <dc:title>Астрид Анна Эмилия Линдгрен </dc:title>
</cp:coreProperties>
</file>