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318-A2D1-4ADF-BBAA-A54F50B0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D8D-D54D-4E01-8FEF-9C4A62B2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68A-8669-45D0-A4D7-D4250871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E3F-AF58-437C-9EE2-E8D44488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5C2-7F3B-4F71-827C-C633A5E8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108-3975-494F-9B87-1A1422EC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170-9A80-48B4-8FDE-9CEB93E2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730-3589-47B0-83CB-16CB2EB4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5D4-1C04-4483-ABE4-CA895D79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45C-A1BE-4002-92A9-98C003E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3B0-CE52-46D8-88A1-6935016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947-6BE0-47A6-AFB6-D7E82049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4EDC-03A8-42DE-8E99-2E7B74CDB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1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вал 185" descr=""/>
          <p:cNvPicPr/>
          <p:nvPr/>
        </p:nvPicPr>
        <p:blipFill>
          <a:blip r:embed="rId1"/>
          <a:stretch/>
        </p:blipFill>
        <p:spPr>
          <a:xfrm>
            <a:off x="4657680" y="1311120"/>
            <a:ext cx="2865600" cy="2359080"/>
          </a:xfrm>
          <a:prstGeom prst="rect">
            <a:avLst/>
          </a:prstGeom>
          <a:ln w="0">
            <a:noFill/>
          </a:ln>
        </p:spPr>
      </p:pic>
      <p:pic>
        <p:nvPicPr>
          <p:cNvPr id="42" name="Овал 182" descr=""/>
          <p:cNvPicPr/>
          <p:nvPr/>
        </p:nvPicPr>
        <p:blipFill>
          <a:blip r:embed="rId2"/>
          <a:stretch/>
        </p:blipFill>
        <p:spPr>
          <a:xfrm>
            <a:off x="4730760" y="3949560"/>
            <a:ext cx="2859120" cy="2365560"/>
          </a:xfrm>
          <a:prstGeom prst="rect">
            <a:avLst/>
          </a:prstGeom>
          <a:ln w="0">
            <a:noFill/>
          </a:ln>
        </p:spPr>
      </p:pic>
      <p:grpSp>
        <p:nvGrpSpPr>
          <p:cNvPr id="43" name="Скругленный прямоугольник 5"/>
          <p:cNvGrpSpPr/>
          <p:nvPr/>
        </p:nvGrpSpPr>
        <p:grpSpPr>
          <a:xfrm>
            <a:off x="225360" y="176040"/>
            <a:ext cx="8613720" cy="1109880"/>
            <a:chOff x="225360" y="176040"/>
            <a:chExt cx="8613720" cy="1109880"/>
          </a:xfrm>
        </p:grpSpPr>
        <p:pic>
          <p:nvPicPr>
            <p:cNvPr id="44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25360" y="176040"/>
              <a:ext cx="86137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6720" y="325440"/>
              <a:ext cx="827892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omic Sans MS"/>
                </a:rPr>
                <a:t>Питание лишайнико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Группа 184"/>
          <p:cNvGrpSpPr/>
          <p:nvPr/>
        </p:nvGrpSpPr>
        <p:grpSpPr>
          <a:xfrm>
            <a:off x="4877280" y="2214720"/>
            <a:ext cx="2316960" cy="1326960"/>
            <a:chOff x="4877280" y="2214720"/>
            <a:chExt cx="2316960" cy="1326960"/>
          </a:xfrm>
        </p:grpSpPr>
        <p:sp>
          <p:nvSpPr>
            <p:cNvPr id="47" name="Полилиния 178"/>
            <p:cNvSpPr/>
            <p:nvPr/>
          </p:nvSpPr>
          <p:spPr>
            <a:xfrm rot="20404800">
              <a:off x="5304960" y="2286000"/>
              <a:ext cx="583920" cy="943200"/>
            </a:xfrm>
            <a:prstGeom prst="pi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Полилиния 177"/>
            <p:cNvSpPr/>
            <p:nvPr/>
          </p:nvSpPr>
          <p:spPr>
            <a:xfrm rot="5776200">
              <a:off x="5601240" y="2434320"/>
              <a:ext cx="797040" cy="877680"/>
            </a:xfrm>
            <a:prstGeom prst="pi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олилиния 117"/>
            <p:cNvSpPr/>
            <p:nvPr/>
          </p:nvSpPr>
          <p:spPr>
            <a:xfrm rot="18406200">
              <a:off x="5070240" y="2323800"/>
              <a:ext cx="687600" cy="826920"/>
            </a:xfrm>
            <a:prstGeom prst="pi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7"/>
            <p:cNvSpPr/>
            <p:nvPr/>
          </p:nvSpPr>
          <p:spPr>
            <a:xfrm rot="8461200">
              <a:off x="6287400" y="2531520"/>
              <a:ext cx="261720" cy="190440"/>
            </a:xfrm>
            <a:prstGeom prst="pi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олилиния 142"/>
            <p:cNvSpPr/>
            <p:nvPr/>
          </p:nvSpPr>
          <p:spPr>
            <a:xfrm rot="5776200">
              <a:off x="6315840" y="2505960"/>
              <a:ext cx="797040" cy="877680"/>
            </a:xfrm>
            <a:prstGeom prst="pi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олилиния 148"/>
            <p:cNvSpPr/>
            <p:nvPr/>
          </p:nvSpPr>
          <p:spPr>
            <a:xfrm rot="19257600">
              <a:off x="6207120" y="2509560"/>
              <a:ext cx="796680" cy="879480"/>
            </a:xfrm>
            <a:prstGeom prst="pi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Группа 183"/>
          <p:cNvGrpSpPr/>
          <p:nvPr/>
        </p:nvGrpSpPr>
        <p:grpSpPr>
          <a:xfrm>
            <a:off x="5357880" y="5143680"/>
            <a:ext cx="1447560" cy="880920"/>
            <a:chOff x="5357880" y="5143680"/>
            <a:chExt cx="1447560" cy="880920"/>
          </a:xfrm>
        </p:grpSpPr>
        <p:grpSp>
          <p:nvGrpSpPr>
            <p:cNvPr id="54" name="Овал 170"/>
            <p:cNvGrpSpPr/>
            <p:nvPr/>
          </p:nvGrpSpPr>
          <p:grpSpPr>
            <a:xfrm>
              <a:off x="5357880" y="5261400"/>
              <a:ext cx="480600" cy="392760"/>
              <a:chOff x="5357880" y="5261400"/>
              <a:chExt cx="480600" cy="392760"/>
            </a:xfrm>
          </p:grpSpPr>
          <p:pic>
            <p:nvPicPr>
              <p:cNvPr id="55" name="Овал 170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5261400"/>
                <a:ext cx="480600" cy="39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7184400">
                <a:off x="5519160" y="5292720"/>
                <a:ext cx="1659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Овал 171"/>
            <p:cNvGrpSpPr/>
            <p:nvPr/>
          </p:nvGrpSpPr>
          <p:grpSpPr>
            <a:xfrm>
              <a:off x="5706720" y="5469120"/>
              <a:ext cx="360360" cy="499320"/>
              <a:chOff x="5706720" y="5469120"/>
              <a:chExt cx="360360" cy="499320"/>
            </a:xfrm>
          </p:grpSpPr>
          <p:pic>
            <p:nvPicPr>
              <p:cNvPr id="58" name="Овал 171" descr=""/>
              <p:cNvPicPr/>
              <p:nvPr/>
            </p:nvPicPr>
            <p:blipFill>
              <a:blip r:embed="rId5"/>
              <a:stretch/>
            </p:blipFill>
            <p:spPr>
              <a:xfrm>
                <a:off x="5706720" y="5469120"/>
                <a:ext cx="360360" cy="49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583800">
                <a:off x="5803920" y="5556600"/>
                <a:ext cx="169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172"/>
            <p:cNvGrpSpPr/>
            <p:nvPr/>
          </p:nvGrpSpPr>
          <p:grpSpPr>
            <a:xfrm>
              <a:off x="5844240" y="5570280"/>
              <a:ext cx="417600" cy="454320"/>
              <a:chOff x="5844240" y="5570280"/>
              <a:chExt cx="417600" cy="454320"/>
            </a:xfrm>
          </p:grpSpPr>
          <p:pic>
            <p:nvPicPr>
              <p:cNvPr id="61" name="Овал 172" descr=""/>
              <p:cNvPicPr/>
              <p:nvPr/>
            </p:nvPicPr>
            <p:blipFill>
              <a:blip r:embed="rId6"/>
              <a:stretch/>
            </p:blipFill>
            <p:spPr>
              <a:xfrm>
                <a:off x="5844240" y="5570280"/>
                <a:ext cx="417600" cy="4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19404600">
                <a:off x="5973120" y="5636160"/>
                <a:ext cx="169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173"/>
            <p:cNvGrpSpPr/>
            <p:nvPr/>
          </p:nvGrpSpPr>
          <p:grpSpPr>
            <a:xfrm>
              <a:off x="6078960" y="5429880"/>
              <a:ext cx="348840" cy="499320"/>
              <a:chOff x="6078960" y="5429880"/>
              <a:chExt cx="348840" cy="499320"/>
            </a:xfrm>
          </p:grpSpPr>
          <p:pic>
            <p:nvPicPr>
              <p:cNvPr id="64" name="Овал 173" descr=""/>
              <p:cNvPicPr/>
              <p:nvPr/>
            </p:nvPicPr>
            <p:blipFill>
              <a:blip r:embed="rId7"/>
              <a:stretch/>
            </p:blipFill>
            <p:spPr>
              <a:xfrm>
                <a:off x="6078960" y="5429880"/>
                <a:ext cx="348840" cy="49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6170760" y="5519160"/>
                <a:ext cx="169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Овал 174"/>
            <p:cNvGrpSpPr/>
            <p:nvPr/>
          </p:nvGrpSpPr>
          <p:grpSpPr>
            <a:xfrm>
              <a:off x="6313320" y="5525280"/>
              <a:ext cx="492120" cy="375840"/>
              <a:chOff x="6313320" y="5525280"/>
              <a:chExt cx="492120" cy="375840"/>
            </a:xfrm>
          </p:grpSpPr>
          <p:pic>
            <p:nvPicPr>
              <p:cNvPr id="67" name="Овал 174" descr=""/>
              <p:cNvPicPr/>
              <p:nvPr/>
            </p:nvPicPr>
            <p:blipFill>
              <a:blip r:embed="rId8"/>
              <a:stretch/>
            </p:blipFill>
            <p:spPr>
              <a:xfrm>
                <a:off x="6313320" y="5525280"/>
                <a:ext cx="492120" cy="37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 rot="3945600">
                <a:off x="6478920" y="5550840"/>
                <a:ext cx="1659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Овал 175"/>
            <p:cNvGrpSpPr/>
            <p:nvPr/>
          </p:nvGrpSpPr>
          <p:grpSpPr>
            <a:xfrm>
              <a:off x="6399360" y="5143680"/>
              <a:ext cx="406080" cy="465840"/>
              <a:chOff x="6399360" y="5143680"/>
              <a:chExt cx="406080" cy="465840"/>
            </a:xfrm>
          </p:grpSpPr>
          <p:pic>
            <p:nvPicPr>
              <p:cNvPr id="70" name="Овал 175" descr=""/>
              <p:cNvPicPr/>
              <p:nvPr/>
            </p:nvPicPr>
            <p:blipFill>
              <a:blip r:embed="rId9"/>
              <a:stretch/>
            </p:blipFill>
            <p:spPr>
              <a:xfrm>
                <a:off x="6399360" y="5143680"/>
                <a:ext cx="406080" cy="46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 rot="19663800">
                <a:off x="6521760" y="5216400"/>
                <a:ext cx="169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TextBox 186"/>
          <p:cNvSpPr/>
          <p:nvPr/>
        </p:nvSpPr>
        <p:spPr>
          <a:xfrm>
            <a:off x="5000760" y="41702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летки водорос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8"/>
          <p:cNvSpPr/>
          <p:nvPr/>
        </p:nvSpPr>
        <p:spPr>
          <a:xfrm>
            <a:off x="5000760" y="1500120"/>
            <a:ext cx="20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Гифы гри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илиния 198"/>
          <p:cNvSpPr/>
          <p:nvPr/>
        </p:nvSpPr>
        <p:spPr>
          <a:xfrm>
            <a:off x="7358040" y="3000240"/>
            <a:ext cx="428760" cy="1454400"/>
          </a:xfrm>
          <a:prstGeom prst="pie">
            <a:avLst/>
          </a:prstGeom>
          <a:noFill/>
          <a:ln w="127080">
            <a:solidFill>
              <a:srgbClr val="ffffff"/>
            </a:solidFill>
            <a:miter/>
            <a:tailEnd len="med" type="stealth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илиния 199"/>
          <p:cNvSpPr/>
          <p:nvPr/>
        </p:nvSpPr>
        <p:spPr>
          <a:xfrm>
            <a:off x="3071880" y="1857240"/>
            <a:ext cx="1571400" cy="311400"/>
          </a:xfrm>
          <a:prstGeom prst="pie">
            <a:avLst/>
          </a:prstGeom>
          <a:noFill/>
          <a:ln w="127080">
            <a:solidFill>
              <a:srgbClr val="ffffff"/>
            </a:solidFill>
            <a:miter/>
            <a:tailEnd len="med" type="stealth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лилиния 200"/>
          <p:cNvSpPr/>
          <p:nvPr/>
        </p:nvSpPr>
        <p:spPr>
          <a:xfrm flipV="1">
            <a:off x="3071880" y="2402640"/>
            <a:ext cx="1571400" cy="311400"/>
          </a:xfrm>
          <a:prstGeom prst="pie">
            <a:avLst/>
          </a:prstGeom>
          <a:noFill/>
          <a:ln w="127080">
            <a:solidFill>
              <a:srgbClr val="ffffff"/>
            </a:solidFill>
            <a:miter/>
            <a:tailEnd len="med" type="stealth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илиния 201"/>
          <p:cNvSpPr/>
          <p:nvPr/>
        </p:nvSpPr>
        <p:spPr>
          <a:xfrm rot="10800000">
            <a:off x="4357800" y="3071520"/>
            <a:ext cx="428400" cy="1454040"/>
          </a:xfrm>
          <a:prstGeom prst="pie">
            <a:avLst/>
          </a:prstGeom>
          <a:noFill/>
          <a:ln w="127080">
            <a:solidFill>
              <a:srgbClr val="ffffff"/>
            </a:solidFill>
            <a:miter/>
            <a:tailEnd len="med" type="stealth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илиния 203"/>
          <p:cNvSpPr/>
          <p:nvPr/>
        </p:nvSpPr>
        <p:spPr>
          <a:xfrm rot="5066400">
            <a:off x="673560" y="2724480"/>
            <a:ext cx="3606840" cy="4259160"/>
          </a:xfrm>
          <a:prstGeom prst="pie">
            <a:avLst/>
          </a:prstGeom>
          <a:noFill/>
          <a:ln w="127080">
            <a:solidFill>
              <a:srgbClr val="ffffff"/>
            </a:solidFill>
            <a:miter/>
            <a:tailEnd len="med" type="stealth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Скругленный прямоугольник 204"/>
          <p:cNvGrpSpPr/>
          <p:nvPr/>
        </p:nvGrpSpPr>
        <p:grpSpPr>
          <a:xfrm>
            <a:off x="1195560" y="4340160"/>
            <a:ext cx="2242800" cy="457200"/>
            <a:chOff x="1195560" y="4340160"/>
            <a:chExt cx="2242800" cy="457200"/>
          </a:xfrm>
        </p:grpSpPr>
        <p:pic>
          <p:nvPicPr>
            <p:cNvPr id="80" name="Скругленный прямоугольник 204" descr=""/>
            <p:cNvPicPr/>
            <p:nvPr/>
          </p:nvPicPr>
          <p:blipFill>
            <a:blip r:embed="rId10"/>
            <a:stretch/>
          </p:blipFill>
          <p:spPr>
            <a:xfrm>
              <a:off x="1195560" y="4340160"/>
              <a:ext cx="2242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233360" y="4376880"/>
              <a:ext cx="21765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Образу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Скругленный прямоугольник 210"/>
          <p:cNvGrpSpPr/>
          <p:nvPr/>
        </p:nvGrpSpPr>
        <p:grpSpPr>
          <a:xfrm>
            <a:off x="237960" y="1596960"/>
            <a:ext cx="3054600" cy="981000"/>
            <a:chOff x="237960" y="1596960"/>
            <a:chExt cx="3054600" cy="981000"/>
          </a:xfrm>
        </p:grpSpPr>
        <p:pic>
          <p:nvPicPr>
            <p:cNvPr id="83" name="Скругленный прямоугольник 210" descr=""/>
            <p:cNvPicPr/>
            <p:nvPr/>
          </p:nvPicPr>
          <p:blipFill>
            <a:blip r:embed="rId11"/>
            <a:stretch/>
          </p:blipFill>
          <p:spPr>
            <a:xfrm>
              <a:off x="237960" y="1596960"/>
              <a:ext cx="3054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14280" y="1671480"/>
              <a:ext cx="25862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b0f0"/>
                  </a:solidFill>
                  <a:latin typeface="Comic Sans MS"/>
                </a:rPr>
                <a:t>В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211"/>
          <p:cNvGrpSpPr/>
          <p:nvPr/>
        </p:nvGrpSpPr>
        <p:grpSpPr>
          <a:xfrm>
            <a:off x="237960" y="2309760"/>
            <a:ext cx="3054600" cy="982800"/>
            <a:chOff x="237960" y="2309760"/>
            <a:chExt cx="3054600" cy="982800"/>
          </a:xfrm>
        </p:grpSpPr>
        <p:pic>
          <p:nvPicPr>
            <p:cNvPr id="86" name="Скругленный прямоугольник 211" descr=""/>
            <p:cNvPicPr/>
            <p:nvPr/>
          </p:nvPicPr>
          <p:blipFill>
            <a:blip r:embed="rId12"/>
            <a:stretch/>
          </p:blipFill>
          <p:spPr>
            <a:xfrm>
              <a:off x="237960" y="2309760"/>
              <a:ext cx="30546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14280" y="2386080"/>
              <a:ext cx="25862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46c0a"/>
                  </a:solidFill>
                  <a:latin typeface="Comic Sans MS"/>
                </a:rPr>
                <a:t>Минеральные со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Скругленный прямоугольник 212"/>
          <p:cNvGrpSpPr/>
          <p:nvPr/>
        </p:nvGrpSpPr>
        <p:grpSpPr>
          <a:xfrm>
            <a:off x="878040" y="4809960"/>
            <a:ext cx="3419280" cy="987480"/>
            <a:chOff x="878040" y="4809960"/>
            <a:chExt cx="3419280" cy="987480"/>
          </a:xfrm>
        </p:grpSpPr>
        <p:pic>
          <p:nvPicPr>
            <p:cNvPr id="89" name="Скругленный прямоугольник 212" descr=""/>
            <p:cNvPicPr/>
            <p:nvPr/>
          </p:nvPicPr>
          <p:blipFill>
            <a:blip r:embed="rId13"/>
            <a:stretch/>
          </p:blipFill>
          <p:spPr>
            <a:xfrm>
              <a:off x="878040" y="4809960"/>
              <a:ext cx="34192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57240" y="4886280"/>
              <a:ext cx="29433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Comic Sans MS"/>
                </a:rPr>
                <a:t>Органические 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213"/>
          <p:cNvGrpSpPr/>
          <p:nvPr/>
        </p:nvGrpSpPr>
        <p:grpSpPr>
          <a:xfrm>
            <a:off x="1195560" y="5553000"/>
            <a:ext cx="2242800" cy="457200"/>
            <a:chOff x="1195560" y="5553000"/>
            <a:chExt cx="2242800" cy="457200"/>
          </a:xfrm>
        </p:grpSpPr>
        <p:pic>
          <p:nvPicPr>
            <p:cNvPr id="92" name="Скругленный прямоугольник 213" descr=""/>
            <p:cNvPicPr/>
            <p:nvPr/>
          </p:nvPicPr>
          <p:blipFill>
            <a:blip r:embed="rId14"/>
            <a:stretch/>
          </p:blipFill>
          <p:spPr>
            <a:xfrm>
              <a:off x="1195560" y="5553000"/>
              <a:ext cx="2242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233360" y="5591160"/>
              <a:ext cx="21765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mic Sans MS"/>
                </a:rPr>
                <a:t>в процессе фотосинт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Овал 214"/>
          <p:cNvGrpSpPr/>
          <p:nvPr/>
        </p:nvGrpSpPr>
        <p:grpSpPr>
          <a:xfrm>
            <a:off x="3024360" y="1596960"/>
            <a:ext cx="841320" cy="841320"/>
            <a:chOff x="3024360" y="1596960"/>
            <a:chExt cx="841320" cy="841320"/>
          </a:xfrm>
        </p:grpSpPr>
        <p:pic>
          <p:nvPicPr>
            <p:cNvPr id="95" name="Овал 214" descr=""/>
            <p:cNvPicPr/>
            <p:nvPr/>
          </p:nvPicPr>
          <p:blipFill>
            <a:blip r:embed="rId15"/>
            <a:stretch/>
          </p:blipFill>
          <p:spPr>
            <a:xfrm>
              <a:off x="3024360" y="159696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13524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15"/>
          <p:cNvGrpSpPr/>
          <p:nvPr/>
        </p:nvGrpSpPr>
        <p:grpSpPr>
          <a:xfrm>
            <a:off x="3024360" y="2451240"/>
            <a:ext cx="841320" cy="841320"/>
            <a:chOff x="3024360" y="2451240"/>
            <a:chExt cx="841320" cy="841320"/>
          </a:xfrm>
        </p:grpSpPr>
        <p:pic>
          <p:nvPicPr>
            <p:cNvPr id="98" name="Овал 215" descr=""/>
            <p:cNvPicPr/>
            <p:nvPr/>
          </p:nvPicPr>
          <p:blipFill>
            <a:blip r:embed="rId16"/>
            <a:stretch/>
          </p:blipFill>
          <p:spPr>
            <a:xfrm>
              <a:off x="3024360" y="24512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135240" y="25639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6"/>
          <p:cNvGrpSpPr/>
          <p:nvPr/>
        </p:nvGrpSpPr>
        <p:grpSpPr>
          <a:xfrm>
            <a:off x="5668920" y="5162400"/>
            <a:ext cx="1268280" cy="1274760"/>
            <a:chOff x="5668920" y="5162400"/>
            <a:chExt cx="1268280" cy="1274760"/>
          </a:xfrm>
        </p:grpSpPr>
        <p:pic>
          <p:nvPicPr>
            <p:cNvPr id="101" name="Овал 216" descr=""/>
            <p:cNvPicPr/>
            <p:nvPr/>
          </p:nvPicPr>
          <p:blipFill>
            <a:blip r:embed="rId17"/>
            <a:stretch/>
          </p:blipFill>
          <p:spPr>
            <a:xfrm>
              <a:off x="5668920" y="5162400"/>
              <a:ext cx="12682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40280" y="5340240"/>
              <a:ext cx="6066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217"/>
          <p:cNvGrpSpPr/>
          <p:nvPr/>
        </p:nvGrpSpPr>
        <p:grpSpPr>
          <a:xfrm>
            <a:off x="7437600" y="5962680"/>
            <a:ext cx="1620720" cy="828720"/>
            <a:chOff x="7437600" y="5962680"/>
            <a:chExt cx="1620720" cy="828720"/>
          </a:xfrm>
        </p:grpSpPr>
        <p:pic>
          <p:nvPicPr>
            <p:cNvPr id="104" name="Скругленный прямоугольник 217" descr=""/>
            <p:cNvPicPr/>
            <p:nvPr/>
          </p:nvPicPr>
          <p:blipFill>
            <a:blip r:embed="rId18"/>
            <a:stretch/>
          </p:blipFill>
          <p:spPr>
            <a:xfrm>
              <a:off x="7437600" y="5962680"/>
              <a:ext cx="1620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580160" y="6080040"/>
              <a:ext cx="1341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Показать проце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34"/>
          <p:cNvSpPr/>
          <p:nvPr/>
        </p:nvSpPr>
        <p:spPr>
          <a:xfrm>
            <a:off x="0" y="6572160"/>
            <a:ext cx="59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жмите на пустые поля, чтобы появились названия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600"/>
                            </p:stCondLst>
                            <p:childTnLst>
                              <p:par>
                                <p:cTn id="7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6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1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6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1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-3.33333E-006 C 0.01251 0.00162 0.04931 0.00186 0.07501 0.00949 C 0.1007 0.01713 0.11546 0.02593 0.15348 0.04607 C 0.19115 0.06621 0.25209 0.11088 0.30191 0.1301 C 0.35261 0.14931 0.42257 0.13843 0.45469 0.16181 C 0.48716 0.18519 0.49757 0.2338 0.49653 0.26968 C 0.49549 0.30556 0.479 0.33519 0.44879 0.37778 C 0.41841 0.42037 0.3415 0.51644 0.3132 0.55301 E">
                                      <p:cBhvr>
                                        <p:cTn id="103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-3.33333E-006 C 0.01129 -0.00162 0.04132 -0.00254 0.06771 -0.00949 C 0.0941 -0.01759 0.1191 -0.03981 0.15973 -0.04189 C 0.19983 -0.04398 0.2606 -0.00902 0.31129 -0.00231 C 0.36216 0.0044 0.42049 -0.00902 0.45643 0.01551 C 0.49254 0.04005 0.51615 0.08681 0.51494 0.13426 C 0.51355 0.18449 0.47969 0.24121 0.44428 0.2919 C 0.40851 0.3426 0.34132 0.40139 0.31424 0.4301 E">
                                      <p:cBhvr>
                                        <p:cTn id="105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3.33333E-006 C -0.03368 -0.04561 -0.2073 -0.12547 -0.20244 -0.27338 C -0.19757 -0.4213 -0.04982 -0.37871 -0.00972 -0.40648 E">
                                      <p:cBhvr>
                                        <p:cTn id="118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2:02:03Z</dcterms:created>
  <dc:creator>Балабонина Ольга Александровна</dc:creator>
  <dc:description/>
  <dc:language>en-US</dc:language>
  <cp:lastModifiedBy>Ольга</cp:lastModifiedBy>
  <dcterms:modified xsi:type="dcterms:W3CDTF">2010-05-02T10:38:38Z</dcterms:modified>
  <cp:revision>16</cp:revision>
  <dc:subject/>
  <dc:title>Слайд 1</dc:title>
</cp:coreProperties>
</file>