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B2A0-B7AA-4348-8DCE-5D04F0AB7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248C-06D3-4A7B-9BDF-4C188C12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4A4F-620F-4DD2-BE2D-F15B1A49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BAEC-3403-43E5-B20E-81965F5D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402F-5F01-4B23-8794-FB4EA3923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820D-38D5-4633-A003-FD19F0D1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1596-E9D5-47E8-9649-96B432CD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EE94-3EEE-4A42-B44F-1FF27017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7EAA-926A-4311-B3CF-2DA17F04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AF1C-48B2-468E-831E-44947C18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8AB0-6ECA-43B4-878A-E43B94F3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B849-5FCD-44E9-BB83-C93564B3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AA42-A831-4D65-A450-9494C87B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84AA-6DDF-4F08-9AC7-8D521CF5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E865-D29E-49E2-9656-A5237037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3D19-247E-4FE0-B17A-FFFA45368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3B94-8E99-4E6E-A1D6-C8FFF8522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74CB-189B-4B5F-9747-85DFF718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B581-6849-4567-BCD0-D02901DF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FACF-1A1B-4EC0-9C44-49A980E3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9DCA-72EB-40B8-9F82-C70AF5A0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7519-DACE-4056-A1A3-CC93EF86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A1C0-ED0B-48D8-BA3F-2B33AF66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9324-3FA5-41C7-9949-F68DD5DE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416E-74CD-426E-B7FF-CAC064E65E4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0750-C525-4B91-8E58-6BA3B5D64E4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Bookman Old Style"/>
              </a:rPr>
              <a:t>МОУ Соколовская СОШ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Bookman Old Style"/>
              </a:rPr>
              <a:t>Зонального района Алтайского края</a:t>
            </a:r>
            <a:br>
              <a:rPr sz="1600"/>
            </a:br>
            <a:br>
              <a:rPr sz="1600"/>
            </a:br>
            <a:br>
              <a:rPr sz="2000"/>
            </a:br>
            <a:r>
              <a:rPr b="1" i="1" lang="en-US" sz="5400" spc="-1" strike="noStrike">
                <a:solidFill>
                  <a:srgbClr val="00cc00"/>
                </a:solidFill>
                <a:latin typeface="Bookman Old Style"/>
              </a:rPr>
              <a:t>«Ах, </a:t>
            </a:r>
            <a:br>
              <a:rPr sz="5400"/>
            </a:br>
            <a:r>
              <a:rPr b="1" i="1" lang="en-US" sz="5400" spc="-1" strike="noStrike">
                <a:solidFill>
                  <a:srgbClr val="00cc00"/>
                </a:solidFill>
                <a:latin typeface="Bookman Old Style"/>
              </a:rPr>
              <a:t>что за прелесть эти сказки...»</a:t>
            </a:r>
            <a:br>
              <a:rPr sz="5400"/>
            </a:br>
            <a:r>
              <a:rPr b="1" i="1" lang="en-US" sz="2800" spc="-1" strike="noStrike">
                <a:solidFill>
                  <a:srgbClr val="00cc00"/>
                </a:solidFill>
                <a:latin typeface="Bookman Old Style"/>
              </a:rPr>
              <a:t>(Литературная игра в форме «Поле чудес» по сказкам Х.К.Андерсена)</a:t>
            </a:r>
            <a:br>
              <a:rPr sz="2800"/>
            </a:br>
            <a:br>
              <a:rPr sz="28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en-US" sz="1600" spc="-1" strike="noStrike">
                <a:solidFill>
                  <a:srgbClr val="ffffff"/>
                </a:solidFill>
                <a:latin typeface="Bookman Old Style"/>
              </a:rPr>
              <a:t>Горст Ольга Александровна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Bookman Old Style"/>
              </a:rPr>
              <a:t>учитель русского языка и литературы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5690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273e"/>
                </a:solidFill>
                <a:latin typeface="Bookman Old Style"/>
              </a:rPr>
              <a:t>«Посадим-ка её на самую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273e"/>
                </a:solidFill>
                <a:latin typeface="Bookman Old Style"/>
              </a:rPr>
              <a:t>середину реки, на широкий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273e"/>
                </a:solidFill>
                <a:latin typeface="Bookman Old Style"/>
              </a:rPr>
              <a:t>лист                       , - это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273e"/>
                </a:solidFill>
                <a:latin typeface="Bookman Old Style"/>
              </a:rPr>
              <a:t>целый остров для такой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273e"/>
                </a:solidFill>
                <a:latin typeface="Bookman Old Style"/>
              </a:rPr>
              <a:t>крошки»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273e"/>
                </a:solidFill>
                <a:latin typeface="Bookman Old Style"/>
              </a:rPr>
              <a:t>Назовите цветок, о котором идёт речь в цитате </a:t>
            </a:r>
            <a:r>
              <a:rPr b="1" i="1" lang="ru-RU" sz="2000" spc="-1" strike="noStrike">
                <a:solidFill>
                  <a:srgbClr val="af273e"/>
                </a:solidFill>
                <a:latin typeface="Bookman Old Style"/>
              </a:rPr>
              <a:t>(в косвенном падеже)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"/>
          <p:cNvSpPr/>
          <p:nvPr/>
        </p:nvSpPr>
        <p:spPr>
          <a:xfrm rot="5400000">
            <a:off x="1655280" y="166536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К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5400000">
            <a:off x="2015640" y="166536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У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5400000">
            <a:off x="2376000" y="166536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rot="5400000">
            <a:off x="2734920" y="166536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Ш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rot="5400000">
            <a:off x="3095280" y="166536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И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3455640" y="166536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Н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5400000">
            <a:off x="3816000" y="166536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К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5400000">
            <a:off x="4176360" y="166536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И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rot="5400000">
            <a:off x="122364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А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5400000">
            <a:off x="158400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Б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5400000">
            <a:off x="194256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5400000">
            <a:off x="266328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Д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5400000">
            <a:off x="230292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5400000">
            <a:off x="302364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Е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rot="5400000">
            <a:off x="338400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Ё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5400000">
            <a:off x="374292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Ж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rot="5400000">
            <a:off x="410328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З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5400000">
            <a:off x="446364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И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5400000">
            <a:off x="482400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Й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5400000">
            <a:off x="518436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К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5400000">
            <a:off x="554328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Л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rot="5400000">
            <a:off x="590364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М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rot="5400000">
            <a:off x="626400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Н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rot="5400000">
            <a:off x="662436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О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rot="5400000">
            <a:off x="698472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П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rot="5400000">
            <a:off x="302364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Х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rot="5400000">
            <a:off x="266328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Ф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rot="5400000">
            <a:off x="230292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У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5400000">
            <a:off x="194256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Т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rot="5400000">
            <a:off x="158400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С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rot="5400000">
            <a:off x="122364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Р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rot="5400000">
            <a:off x="518436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Ы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rot="5400000">
            <a:off x="482400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Ь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5400000">
            <a:off x="446364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Щ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rot="5400000">
            <a:off x="410328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Ш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5400000">
            <a:off x="374292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Ч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rot="5400000">
            <a:off x="338400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Ц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5400000">
            <a:off x="626400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Ю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5400000">
            <a:off x="590364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Э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rot="5400000">
            <a:off x="554328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Ъ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5400000">
            <a:off x="662436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Я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rot="5400000">
            <a:off x="3095280" y="166536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5400000">
            <a:off x="2734920" y="166536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5400000">
            <a:off x="2376000" y="166536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4" y="0"/>
                </a:lnTo>
                <a:lnTo>
                  <a:pt x="21600" y="10800"/>
                </a:lnTo>
                <a:lnTo>
                  <a:pt x="16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rot="5400000">
            <a:off x="2015640" y="166536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rot="5400000">
            <a:off x="1655280" y="166536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5400000">
            <a:off x="4176360" y="166536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rot="5400000">
            <a:off x="3816000" y="166536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rot="5400000">
            <a:off x="3455640" y="166536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19640" y="2565360"/>
            <a:ext cx="1635120" cy="914400"/>
          </a:xfrm>
          <a:custGeom>
            <a:avLst/>
            <a:gdLst>
              <a:gd name="textAreaLeft" fmla="*/ 0 w 1635120"/>
              <a:gd name="textAreaRight" fmla="*/ 1635480 w 163512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af27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f273e"/>
                </a:solidFill>
                <a:latin typeface="Bookman Old Style"/>
              </a:rPr>
              <a:t>Есть такая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f273e"/>
                </a:solidFill>
                <a:latin typeface="Bookman Old Style"/>
              </a:rPr>
              <a:t>      </a:t>
            </a:r>
            <a:r>
              <a:rPr b="1" i="1" lang="en-US" sz="1800" spc="-1" strike="noStrike">
                <a:solidFill>
                  <a:srgbClr val="af273e"/>
                </a:solidFill>
                <a:latin typeface="Bookman Old Style"/>
              </a:rPr>
              <a:t>буква!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219640" y="2565360"/>
            <a:ext cx="1635120" cy="914400"/>
          </a:xfrm>
          <a:custGeom>
            <a:avLst/>
            <a:gdLst>
              <a:gd name="textAreaLeft" fmla="*/ 0 w 1635120"/>
              <a:gd name="textAreaRight" fmla="*/ 1635480 w 163512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af27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f273e"/>
                </a:solidFill>
                <a:latin typeface="Bookman Old Style"/>
              </a:rPr>
              <a:t>Нет такой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f273e"/>
                </a:solidFill>
                <a:latin typeface="Bookman Old Style"/>
              </a:rPr>
              <a:t>      </a:t>
            </a:r>
            <a:r>
              <a:rPr b="1" i="1" lang="en-US" sz="1800" spc="-1" strike="noStrike">
                <a:solidFill>
                  <a:srgbClr val="af273e"/>
                </a:solidFill>
                <a:latin typeface="Bookman Old Style"/>
              </a:rPr>
              <a:t>буквы!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612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8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7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638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1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1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3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654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7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4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6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667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9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680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6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0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693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3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706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9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000"/>
                            </p:stCondLst>
                            <p:childTnLst>
                              <p:par>
                                <p:cTn id="7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6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8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719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9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1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732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5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1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4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0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751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4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000"/>
                            </p:stCondLst>
                            <p:childTnLst>
                              <p:par>
                                <p:cTn id="7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1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3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764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6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2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783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6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000"/>
                            </p:stCondLst>
                            <p:childTnLst>
                              <p:par>
                                <p:cTn id="7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3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5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796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6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8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809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8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2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4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825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000"/>
                            </p:stCondLst>
                            <p:childTnLst>
                              <p:par>
                                <p:cTn id="8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5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7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838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1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"/>
                            </p:stCondLst>
                            <p:childTnLst>
                              <p:par>
                                <p:cTn id="8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8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851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000"/>
                            </p:stCondLst>
                            <p:childTnLst>
                              <p:par>
                                <p:cTn id="8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1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3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864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4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6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877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9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890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3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9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3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5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906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9" dur="10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6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8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919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1000"/>
                            </p:stCondLst>
                            <p:childTnLst>
                              <p:par>
                                <p:cTn id="9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9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1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932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000"/>
                            </p:stCondLst>
                            <p:childTnLst>
                              <p:par>
                                <p:cTn id="9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2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4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945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8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000"/>
                            </p:stCondLst>
                            <p:childTnLst>
                              <p:par>
                                <p:cTn id="9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5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7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958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1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7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1000"/>
                            </p:stCondLst>
                            <p:childTnLst>
                              <p:par>
                                <p:cTn id="9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1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3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974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000"/>
                            </p:stCondLst>
                            <p:childTnLst>
                              <p:par>
                                <p:cTn id="9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4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6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987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9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1000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0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2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1013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6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3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5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1026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6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8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1039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2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9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1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1052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2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684360" y="76464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af273e"/>
                </a:solidFill>
                <a:latin typeface="Arial Black"/>
              </a:rPr>
              <a:t>3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af273e"/>
                </a:solidFill>
                <a:latin typeface="Arial Black"/>
              </a:rPr>
              <a:t>отборочный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af273e"/>
                </a:solidFill>
                <a:latin typeface="Arial Black"/>
              </a:rPr>
              <a:t>тур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0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10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2900"/>
                            </p:stCondLst>
                            <p:childTnLst>
                              <p:par>
                                <p:cTn id="108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5690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"/>
          <p:cNvSpPr/>
          <p:nvPr/>
        </p:nvSpPr>
        <p:spPr>
          <a:xfrm>
            <a:off x="250920" y="907920"/>
            <a:ext cx="7343640" cy="5616720"/>
          </a:xfrm>
          <a:custGeom>
            <a:avLst/>
            <a:gdLst>
              <a:gd name="textAreaLeft" fmla="*/ 661680 w 7343640"/>
              <a:gd name="textAreaRight" fmla="*/ 6681960 w 73436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2824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4641" y="21600"/>
                </a:lnTo>
                <a:arcTo wR="3600" hR="3600" stAng="10800000" swAng="5400000"/>
                <a:lnTo>
                  <a:pt x="28241" y="3600"/>
                </a:lnTo>
                <a:arcTo wR="3600" hR="3600" stAng="5400000" swAng="5400000"/>
                <a:close/>
              </a:path>
            </a:pathLst>
          </a:custGeom>
          <a:solidFill>
            <a:srgbClr val="ff8b1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af273e"/>
                </a:solidFill>
                <a:latin typeface="Bookman Old Style"/>
              </a:rPr>
              <a:t>Чьи слова?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af273e"/>
                </a:solidFill>
                <a:latin typeface="Bookman Old Style"/>
              </a:rPr>
              <a:t>«Песнями сыт 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af273e"/>
                </a:solidFill>
                <a:latin typeface="Bookman Old Style"/>
              </a:rPr>
              <a:t>не будешь, 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af273e"/>
                </a:solidFill>
                <a:latin typeface="Bookman Old Style"/>
              </a:rPr>
              <a:t>чириканьем зимой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af273e"/>
                </a:solidFill>
                <a:latin typeface="Bookman Old Style"/>
              </a:rPr>
              <a:t>не согреешься».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f273e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0920" y="907920"/>
            <a:ext cx="7345440" cy="5545440"/>
          </a:xfrm>
          <a:custGeom>
            <a:avLst/>
            <a:gdLst>
              <a:gd name="textAreaLeft" fmla="*/ 653400 w 7345440"/>
              <a:gd name="textAreaRight" fmla="*/ 6692040 w 7345440"/>
              <a:gd name="textAreaTop" fmla="*/ 653400 h 5545440"/>
              <a:gd name="textAreaBottom" fmla="*/ 4892040 h 5545440"/>
            </a:gdLst>
            <a:ahLst/>
            <a:rect l="textAreaLeft" t="textAreaTop" r="textAreaRight" b="textAreaBottom"/>
            <a:pathLst>
              <a:path w="2861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011" y="21600"/>
                </a:lnTo>
                <a:arcTo wR="3600" hR="3600" stAng="10800000" swAng="5400000"/>
                <a:lnTo>
                  <a:pt x="28611" y="3600"/>
                </a:lnTo>
                <a:arcTo wR="3600" hR="3600" stAng="5400000" swAng="5400000"/>
                <a:close/>
              </a:path>
            </a:pathLst>
          </a:custGeom>
          <a:solidFill>
            <a:srgbClr val="ff8b1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af273e"/>
                </a:solidFill>
                <a:latin typeface="Arial Black"/>
              </a:rPr>
              <a:t>ПОЛЕВОЙ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af273e"/>
                </a:solidFill>
                <a:latin typeface="Arial Black"/>
              </a:rPr>
              <a:t>МЫШИ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50920" y="907920"/>
            <a:ext cx="7345440" cy="5616720"/>
          </a:xfrm>
          <a:custGeom>
            <a:avLst/>
            <a:gdLst>
              <a:gd name="textAreaLeft" fmla="*/ 661680 w 7345440"/>
              <a:gd name="textAreaRight" fmla="*/ 6683760 w 7345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2824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4648" y="21600"/>
                </a:lnTo>
                <a:arcTo wR="3600" hR="3600" stAng="10800000" swAng="5400000"/>
                <a:lnTo>
                  <a:pt x="28248" y="3600"/>
                </a:lnTo>
                <a:arcTo wR="3600" hR="3600" stAng="5400000" swAng="5400000"/>
                <a:close/>
              </a:path>
            </a:pathLst>
          </a:custGeom>
          <a:solidFill>
            <a:srgbClr val="ff8b1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af273e"/>
                </a:solidFill>
                <a:latin typeface="Bookman Old Style"/>
              </a:rPr>
              <a:t>Чьи слова?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f273e"/>
                </a:solidFill>
                <a:latin typeface="Arial Black"/>
              </a:rPr>
              <a:t>«..выбери себе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f273e"/>
                </a:solidFill>
                <a:latin typeface="Arial Black"/>
              </a:rPr>
              <a:t>самый красивый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f273e"/>
                </a:solidFill>
                <a:latin typeface="Arial Black"/>
              </a:rPr>
              <a:t>цветок, я посажу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f273e"/>
                </a:solidFill>
                <a:latin typeface="Arial Black"/>
              </a:rPr>
              <a:t>тебя туда, и ты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f273e"/>
                </a:solidFill>
                <a:latin typeface="Arial Black"/>
              </a:rPr>
              <a:t>заживешь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f273e"/>
                </a:solidFill>
                <a:latin typeface="Arial Black"/>
              </a:rPr>
              <a:t>прекрасно!»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f273e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50920" y="907920"/>
            <a:ext cx="7345440" cy="5616720"/>
          </a:xfrm>
          <a:custGeom>
            <a:avLst/>
            <a:gdLst>
              <a:gd name="textAreaLeft" fmla="*/ 661680 w 7345440"/>
              <a:gd name="textAreaRight" fmla="*/ 6683760 w 7345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2824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4648" y="21600"/>
                </a:lnTo>
                <a:arcTo wR="3600" hR="3600" stAng="10800000" swAng="5400000"/>
                <a:lnTo>
                  <a:pt x="28248" y="3600"/>
                </a:lnTo>
                <a:arcTo wR="3600" hR="3600" stAng="5400000" swAng="5400000"/>
                <a:close/>
              </a:path>
            </a:pathLst>
          </a:custGeom>
          <a:solidFill>
            <a:srgbClr val="ff8b1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af273e"/>
                </a:solidFill>
                <a:latin typeface="Arial Black"/>
              </a:rPr>
              <a:t>Эти слова 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af273e"/>
                </a:solidFill>
                <a:latin typeface="Arial Black"/>
              </a:rPr>
              <a:t>произнесла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af273e"/>
                </a:solidFill>
                <a:latin typeface="Arial Black"/>
              </a:rPr>
              <a:t>ласточка.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50920" y="907920"/>
            <a:ext cx="7345440" cy="5616720"/>
          </a:xfrm>
          <a:custGeom>
            <a:avLst/>
            <a:gdLst>
              <a:gd name="textAreaLeft" fmla="*/ 661680 w 7345440"/>
              <a:gd name="textAreaRight" fmla="*/ 6683760 w 7345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2824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4648" y="21600"/>
                </a:lnTo>
                <a:arcTo wR="3600" hR="3600" stAng="10800000" swAng="5400000"/>
                <a:lnTo>
                  <a:pt x="28248" y="3600"/>
                </a:lnTo>
                <a:arcTo wR="3600" hR="3600" stAng="5400000" swAng="5400000"/>
                <a:close/>
              </a:path>
            </a:pathLst>
          </a:custGeom>
          <a:solidFill>
            <a:srgbClr val="ff8b1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af273e"/>
                </a:solidFill>
                <a:latin typeface="Bookman Old Style"/>
              </a:rPr>
              <a:t>Чьи слова?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f273e"/>
                </a:solidFill>
                <a:latin typeface="Arial Black"/>
              </a:rPr>
              <a:t>«Как светло,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f273e"/>
                </a:solidFill>
                <a:latin typeface="Arial Black"/>
              </a:rPr>
              <a:t>как хорошо тут,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f273e"/>
                </a:solidFill>
                <a:latin typeface="Arial Black"/>
              </a:rPr>
              <a:t>на воле». 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50920" y="907920"/>
            <a:ext cx="7345440" cy="5616720"/>
          </a:xfrm>
          <a:custGeom>
            <a:avLst/>
            <a:gdLst>
              <a:gd name="textAreaLeft" fmla="*/ 661680 w 7345440"/>
              <a:gd name="textAreaRight" fmla="*/ 6683760 w 7345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2824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4648" y="21600"/>
                </a:lnTo>
                <a:arcTo wR="3600" hR="3600" stAng="10800000" swAng="5400000"/>
                <a:lnTo>
                  <a:pt x="28248" y="3600"/>
                </a:lnTo>
                <a:arcTo wR="3600" hR="3600" stAng="5400000" swAng="5400000"/>
                <a:close/>
              </a:path>
            </a:pathLst>
          </a:custGeom>
          <a:solidFill>
            <a:srgbClr val="ff8b1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f273e"/>
                </a:solidFill>
                <a:latin typeface="Arial Black"/>
              </a:rPr>
              <a:t>Эти слова 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f273e"/>
                </a:solidFill>
                <a:latin typeface="Arial Black"/>
              </a:rPr>
              <a:t>произнесла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f273e"/>
                </a:solidFill>
                <a:latin typeface="Arial Black"/>
              </a:rPr>
              <a:t>Дюймовочка.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0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684360" y="76464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0" spc="-1" strike="noStrike">
                <a:solidFill>
                  <a:srgbClr val="af273e"/>
                </a:solidFill>
                <a:latin typeface="Bookman Old Style"/>
              </a:rPr>
              <a:t>III</a:t>
            </a:r>
            <a:endParaRPr b="0" lang="en-US" sz="1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af273e"/>
                </a:solidFill>
                <a:latin typeface="Bookman Old Style"/>
              </a:rPr>
              <a:t>полуфинал</a:t>
            </a:r>
            <a:endParaRPr b="0" lang="en-US" sz="9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0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5690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273e"/>
                </a:solidFill>
                <a:latin typeface="Bookman Old Style"/>
              </a:rPr>
              <a:t>Кто «рассказал»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273e"/>
                </a:solidFill>
                <a:latin typeface="Bookman Old Style"/>
              </a:rPr>
              <a:t>автору историю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273e"/>
                </a:solidFill>
                <a:latin typeface="Bookman Old Style"/>
              </a:rPr>
              <a:t>про Дюймовочку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2" name=""/>
          <p:cNvSpPr/>
          <p:nvPr/>
        </p:nvSpPr>
        <p:spPr>
          <a:xfrm rot="5400000">
            <a:off x="502560" y="3537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Л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5400000">
            <a:off x="934560" y="3537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А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rot="5400000">
            <a:off x="1368000" y="3537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С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5400000">
            <a:off x="1799640" y="3537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rot="5400000">
            <a:off x="2231640" y="3537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О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rot="5400000">
            <a:off x="2663280" y="3537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Ч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rot="5400000">
            <a:off x="3095280" y="3537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К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rot="5400000">
            <a:off x="3526920" y="3537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А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rot="5400000">
            <a:off x="122364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А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rot="5400000">
            <a:off x="158400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Б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rot="5400000">
            <a:off x="194256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rot="5400000">
            <a:off x="266328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Д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rot="5400000">
            <a:off x="230292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rot="5400000">
            <a:off x="302364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Е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5400000">
            <a:off x="338400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Ё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5400000">
            <a:off x="374292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Ж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rot="5400000">
            <a:off x="410328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З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5400000">
            <a:off x="446364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И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5400000">
            <a:off x="482400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Й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5400000">
            <a:off x="518436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К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5400000">
            <a:off x="554328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Л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590364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М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5400000">
            <a:off x="626400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Н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rot="5400000">
            <a:off x="662436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О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5400000">
            <a:off x="698472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П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5400000">
            <a:off x="302364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Х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5400000">
            <a:off x="266328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Ф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5400000">
            <a:off x="230292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У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rot="5400000">
            <a:off x="194256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Т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rot="5400000">
            <a:off x="158400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С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rot="5400000">
            <a:off x="122364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Р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rot="5400000">
            <a:off x="518436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Ы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rot="5400000">
            <a:off x="482400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Ь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rot="5400000">
            <a:off x="446364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Щ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rot="5400000">
            <a:off x="410328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Ш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rot="5400000">
            <a:off x="374292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Ч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rot="5400000">
            <a:off x="338400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Ц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rot="5400000">
            <a:off x="626400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Ю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rot="5400000">
            <a:off x="590364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Э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rot="5400000">
            <a:off x="554328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Ъ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rot="5400000">
            <a:off x="662436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Я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rot="5400000">
            <a:off x="2231640" y="3537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rot="5400000">
            <a:off x="1799640" y="3537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rot="5400000">
            <a:off x="1368000" y="3537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4" y="0"/>
                </a:lnTo>
                <a:lnTo>
                  <a:pt x="21600" y="10800"/>
                </a:lnTo>
                <a:lnTo>
                  <a:pt x="16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rot="5400000">
            <a:off x="934560" y="3537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rot="5400000">
            <a:off x="502560" y="3537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5400000">
            <a:off x="3526920" y="3537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rot="5400000">
            <a:off x="3095280" y="3537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5400000">
            <a:off x="2663280" y="3537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219640" y="2565360"/>
            <a:ext cx="1635120" cy="914400"/>
          </a:xfrm>
          <a:custGeom>
            <a:avLst/>
            <a:gdLst>
              <a:gd name="textAreaLeft" fmla="*/ 0 w 1635120"/>
              <a:gd name="textAreaRight" fmla="*/ 1635480 w 163512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af27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f273e"/>
                </a:solidFill>
                <a:latin typeface="Bookman Old Style"/>
              </a:rPr>
              <a:t>Есть такая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f273e"/>
                </a:solidFill>
                <a:latin typeface="Bookman Old Style"/>
              </a:rPr>
              <a:t>      </a:t>
            </a:r>
            <a:r>
              <a:rPr b="1" i="1" lang="en-US" sz="1800" spc="-1" strike="noStrike">
                <a:solidFill>
                  <a:srgbClr val="af273e"/>
                </a:solidFill>
                <a:latin typeface="Bookman Old Style"/>
              </a:rPr>
              <a:t>буква!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732720" y="3645000"/>
            <a:ext cx="1635120" cy="914400"/>
          </a:xfrm>
          <a:custGeom>
            <a:avLst/>
            <a:gdLst>
              <a:gd name="textAreaLeft" fmla="*/ 0 w 1635120"/>
              <a:gd name="textAreaRight" fmla="*/ 1635480 w 163512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af27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f273e"/>
                </a:solidFill>
                <a:latin typeface="Bookman Old Style"/>
              </a:rPr>
              <a:t>Нет такой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f273e"/>
                </a:solidFill>
                <a:latin typeface="Bookman Old Style"/>
              </a:rPr>
              <a:t>      </a:t>
            </a:r>
            <a:r>
              <a:rPr b="1" i="1" lang="en-US" sz="1800" spc="-1" strike="noStrike">
                <a:solidFill>
                  <a:srgbClr val="af273e"/>
                </a:solidFill>
                <a:latin typeface="Bookman Old Style"/>
              </a:rPr>
              <a:t>буквы!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3" dur="indefinite" restart="never" nodeType="tmRoot">
          <p:childTnLst>
            <p:seq>
              <p:cTn id="1144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1145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8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4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7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1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3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1164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7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4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6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1177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0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7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9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1190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3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0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2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1203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6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5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1216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9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6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8" restart="whenNotActive" nodeType="interactiveSeq" fill="hold">
                <p:stCondLst>
                  <p:cond evt="onClick">
                    <p:tgtEl>
                      <p:spTgt spid="496"/>
                    </p:tgtEl>
                  </p:cond>
                </p:stCondLst>
                <p:childTnLst>
                  <p:par>
                    <p:cTn id="1229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2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9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1" restart="whenNotActive" nodeType="interactiveSeq" fill="hold">
                <p:stCondLst>
                  <p:cond evt="onClick">
                    <p:tgtEl>
                      <p:spTgt spid="497"/>
                    </p:tgtEl>
                  </p:cond>
                </p:stCondLst>
                <p:childTnLst>
                  <p:par>
                    <p:cTn id="1242" fill="hold">
                      <p:stCondLst>
                        <p:cond evt="onClick">
                          <p:tgtEl>
                            <p:spTgt spid="497"/>
                          </p:tgtEl>
                        </p:cond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5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4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1255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8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5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7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1268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1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8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0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1281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4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1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3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1294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7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3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7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9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1310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3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9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5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1326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9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6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8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1339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2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9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1" restart="whenNotActive" nodeType="interactiveSeq" fill="hold">
                <p:stCondLst>
                  <p:cond evt="onClick">
                    <p:tgtEl>
                      <p:spTgt spid="505"/>
                    </p:tgtEl>
                  </p:cond>
                </p:stCondLst>
                <p:childTnLst>
                  <p:par>
                    <p:cTn id="1352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5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5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7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1368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1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8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0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1381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1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3" restart="whenNotActive" nodeType="interactiveSeq" fill="hold">
                <p:stCondLst>
                  <p:cond evt="onClick">
                    <p:tgtEl>
                      <p:spTgt spid="511"/>
                    </p:tgtEl>
                  </p:cond>
                </p:stCondLst>
                <p:childTnLst>
                  <p:par>
                    <p:cTn id="1394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7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3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7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9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1410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3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9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5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1426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9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6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8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1439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2" dur="10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9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1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1452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2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4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1465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8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5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7" restart="whenNotActive" nodeType="interactiveSeq" fill="hold">
                <p:stCondLst>
                  <p:cond evt="onClick">
                    <p:tgtEl>
                      <p:spTgt spid="517"/>
                    </p:tgtEl>
                  </p:cond>
                </p:stCondLst>
                <p:childTnLst>
                  <p:par>
                    <p:cTn id="1478" fill="hold">
                      <p:stCondLst>
                        <p:cond evt="onClick">
                          <p:tgtEl>
                            <p:spTgt spid="517"/>
                          </p:tgtEl>
                        </p:cond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1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3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1494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4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6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1507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0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7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9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1520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0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2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1533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5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1546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6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8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1559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2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9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1" restart="whenNotActive" nodeType="interactiveSeq" fill="hold">
                <p:stCondLst>
                  <p:cond evt="onClick">
                    <p:tgtEl>
                      <p:spTgt spid="519"/>
                    </p:tgtEl>
                  </p:cond>
                </p:stCondLst>
                <p:childTnLst>
                  <p:par>
                    <p:cTn id="1572" fill="hold">
                      <p:stCondLst>
                        <p:cond evt="onClick">
                          <p:tgtEl>
                            <p:spTgt spid="519"/>
                          </p:tgtEl>
                        </p:cond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2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4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1585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8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5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5690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af273e"/>
                </a:solidFill>
                <a:latin typeface="Bookman Old Style"/>
              </a:rPr>
              <a:t>Финальная</a:t>
            </a:r>
            <a:endParaRPr b="0" lang="en-US" sz="9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af273e"/>
                </a:solidFill>
                <a:latin typeface="Bookman Old Style"/>
              </a:rPr>
              <a:t>игра</a:t>
            </a:r>
            <a:endParaRPr b="0" lang="en-US" sz="9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7" dur="indefinite" restart="never" nodeType="tmRoot">
          <p:childTnLst>
            <p:seq>
              <p:cTn id="1598" dur="indefinite" nodeType="mainSeq">
                <p:childTnLst>
                  <p:par>
                    <p:cTn id="1599" fill="hold">
                      <p:stCondLst>
                        <p:cond delay="0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3" dur="2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7" dur="20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5690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f273e"/>
                </a:solidFill>
                <a:latin typeface="Bookman Old Style"/>
              </a:rPr>
              <a:t>Назовите самый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f273e"/>
                </a:solidFill>
                <a:latin typeface="Bookman Old Style"/>
              </a:rPr>
              <a:t>лучший подарок,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f273e"/>
                </a:solidFill>
                <a:latin typeface="Bookman Old Style"/>
              </a:rPr>
              <a:t>который получила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f273e"/>
                </a:solidFill>
                <a:latin typeface="Bookman Old Style"/>
              </a:rPr>
              <a:t>Дюймовочка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5" name=""/>
          <p:cNvSpPr/>
          <p:nvPr/>
        </p:nvSpPr>
        <p:spPr>
          <a:xfrm rot="5400000">
            <a:off x="575640" y="3537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К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5400000">
            <a:off x="1078920" y="3537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Р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rot="5400000">
            <a:off x="1584000" y="3537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Ы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rot="5400000">
            <a:off x="2087280" y="3537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Л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rot="5400000">
            <a:off x="2592000" y="3537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Ы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5400000">
            <a:off x="3095280" y="3537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Ш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rot="5400000">
            <a:off x="3600000" y="3537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К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rot="5400000">
            <a:off x="4103280" y="3537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И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rot="5400000">
            <a:off x="122364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А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158400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Б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rot="5400000">
            <a:off x="194256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rot="5400000">
            <a:off x="266328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Д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rot="5400000">
            <a:off x="230292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rot="5400000">
            <a:off x="302364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Е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rot="5400000">
            <a:off x="338400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Ё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rot="5400000">
            <a:off x="374292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Ж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rot="5400000">
            <a:off x="410328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З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rot="5400000">
            <a:off x="446364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И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rot="5400000">
            <a:off x="482400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Й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5400000">
            <a:off x="518436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К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rot="5400000">
            <a:off x="554328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Л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rot="5400000">
            <a:off x="590364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М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rot="5400000">
            <a:off x="626400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Н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rot="5400000">
            <a:off x="662436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О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rot="5400000">
            <a:off x="698472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П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rot="5400000">
            <a:off x="302364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Х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rot="5400000">
            <a:off x="266328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Ф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rot="5400000">
            <a:off x="230292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У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rot="5400000">
            <a:off x="194256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Т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rot="5400000">
            <a:off x="158400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С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rot="5400000">
            <a:off x="122364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Р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5400000">
            <a:off x="518436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Ы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rot="5400000">
            <a:off x="482400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Ь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5400000">
            <a:off x="446364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Щ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rot="5400000">
            <a:off x="410328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Ш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rot="5400000">
            <a:off x="374292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Ч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rot="5400000">
            <a:off x="338400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Ц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rot="5400000">
            <a:off x="626400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Ю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rot="5400000">
            <a:off x="590364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Э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rot="5400000">
            <a:off x="554328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Ъ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rot="5400000">
            <a:off x="662436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Я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rot="5400000">
            <a:off x="2592000" y="3537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rot="5400000">
            <a:off x="2087280" y="3537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rot="5400000">
            <a:off x="1584000" y="3537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4" y="0"/>
                </a:lnTo>
                <a:lnTo>
                  <a:pt x="21600" y="10800"/>
                </a:lnTo>
                <a:lnTo>
                  <a:pt x="16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rot="5400000">
            <a:off x="1078920" y="3537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4" y="0"/>
                </a:lnTo>
                <a:lnTo>
                  <a:pt x="21600" y="10800"/>
                </a:lnTo>
                <a:lnTo>
                  <a:pt x="16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rot="5400000">
            <a:off x="575640" y="3537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rot="5400000">
            <a:off x="4103280" y="3537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rot="5400000">
            <a:off x="3600000" y="3537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rot="5400000">
            <a:off x="3095280" y="3537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219640" y="2565360"/>
            <a:ext cx="1635120" cy="914400"/>
          </a:xfrm>
          <a:custGeom>
            <a:avLst/>
            <a:gdLst>
              <a:gd name="textAreaLeft" fmla="*/ 0 w 1635120"/>
              <a:gd name="textAreaRight" fmla="*/ 1635480 w 163512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af27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f273e"/>
                </a:solidFill>
                <a:latin typeface="Bookman Old Style"/>
              </a:rPr>
              <a:t>Есть такая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f273e"/>
                </a:solidFill>
                <a:latin typeface="Bookman Old Style"/>
              </a:rPr>
              <a:t>      </a:t>
            </a:r>
            <a:r>
              <a:rPr b="1" i="1" lang="en-US" sz="1800" spc="-1" strike="noStrike">
                <a:solidFill>
                  <a:srgbClr val="af273e"/>
                </a:solidFill>
                <a:latin typeface="Bookman Old Style"/>
              </a:rPr>
              <a:t>буква!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148360" y="3645000"/>
            <a:ext cx="1635120" cy="914400"/>
          </a:xfrm>
          <a:custGeom>
            <a:avLst/>
            <a:gdLst>
              <a:gd name="textAreaLeft" fmla="*/ 0 w 1635120"/>
              <a:gd name="textAreaRight" fmla="*/ 1635480 w 163512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af27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f273e"/>
                </a:solidFill>
                <a:latin typeface="Bookman Old Style"/>
              </a:rPr>
              <a:t>Нет такой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f273e"/>
                </a:solidFill>
                <a:latin typeface="Bookman Old Style"/>
              </a:rPr>
              <a:t>      </a:t>
            </a:r>
            <a:r>
              <a:rPr b="1" i="1" lang="en-US" sz="1800" spc="-1" strike="noStrike">
                <a:solidFill>
                  <a:srgbClr val="af273e"/>
                </a:solidFill>
                <a:latin typeface="Bookman Old Style"/>
              </a:rPr>
              <a:t>буквы!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8" dur="indefinite" restart="never" nodeType="tmRoot">
          <p:childTnLst>
            <p:seq>
              <p:cTn id="1609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1610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0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2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1623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6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3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5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1636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9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2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3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6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8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1649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6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9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1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1662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8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9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2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4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1675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8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5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7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1688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1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8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0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1701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1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3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1714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0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1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4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6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1727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0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6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0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2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1743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6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9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0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3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5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1756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9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5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8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2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4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1775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8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4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8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0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1791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4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1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3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1804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4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6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1817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0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3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7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9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1830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3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6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7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0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2" restart="whenNotActive" nodeType="interactiveSeq" fill="hold">
                <p:stCondLst>
                  <p:cond evt="onClick">
                    <p:tgtEl>
                      <p:spTgt spid="565"/>
                    </p:tgtEl>
                  </p:cond>
                </p:stCondLst>
                <p:childTnLst>
                  <p:par>
                    <p:cTn id="1843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9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2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6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8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1859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2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9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1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1872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5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2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4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1885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1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2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5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7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1898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1" dur="10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8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0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1911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4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7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8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1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3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1924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7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4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6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1937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0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7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9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1950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3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6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7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0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4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6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1967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0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3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7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9" restart="whenNotActive" nodeType="interactiveSeq" fill="hold">
                <p:stCondLst>
                  <p:cond evt="onClick">
                    <p:tgtEl>
                      <p:spTgt spid="567"/>
                    </p:tgtEl>
                  </p:cond>
                </p:stCondLst>
                <p:childTnLst>
                  <p:par>
                    <p:cTn id="1980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3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0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2" restart="whenNotActive" nodeType="interactiveSeq" fill="hold">
                <p:stCondLst>
                  <p:cond evt="onClick">
                    <p:tgtEl>
                      <p:spTgt spid="566"/>
                    </p:tgtEl>
                  </p:cond>
                </p:stCondLst>
                <p:childTnLst>
                  <p:par>
                    <p:cTn id="1993" fill="hold">
                      <p:stCondLst>
                        <p:cond evt="onClick">
                          <p:tgtEl>
                            <p:spTgt spid="566"/>
                          </p:tgtEl>
                        </p:cond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6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9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2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5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9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1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2012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5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8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9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2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4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2025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8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1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2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5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7" restart="whenNotActive" nodeType="interactiveSeq" fill="hold">
                <p:stCondLst>
                  <p:cond evt="onClick">
                    <p:tgtEl>
                      <p:spTgt spid="572"/>
                    </p:tgtEl>
                  </p:cond>
                </p:stCondLst>
                <p:childTnLst>
                  <p:par>
                    <p:cTn id="2038" fill="hold">
                      <p:stCondLst>
                        <p:cond evt="onClick">
                          <p:tgtEl>
                            <p:spTgt spid="572"/>
                          </p:tgtEl>
                        </p:cond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1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8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0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2051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4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7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8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1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5690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af273e"/>
                </a:solidFill>
                <a:latin typeface="Bookman Old Style"/>
              </a:rPr>
              <a:t>Суперигра</a:t>
            </a:r>
            <a:endParaRPr b="0" lang="en-US" sz="9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3" dur="indefinite" restart="never" nodeType="tmRoot">
          <p:childTnLst>
            <p:seq>
              <p:cTn id="2064" dur="indefinite" nodeType="mainSeq">
                <p:childTnLst>
                  <p:par>
                    <p:cTn id="2065" fill="hold">
                      <p:stCondLst>
                        <p:cond delay="0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9" dur="20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 rot="5400000">
            <a:off x="2663280" y="360828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Д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rot="5400000">
            <a:off x="70560" y="425772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К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rot="5400000">
            <a:off x="502560" y="425772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О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rot="5400000">
            <a:off x="934560" y="425772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П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rot="5400000">
            <a:off x="2663280" y="6200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Я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rot="5400000">
            <a:off x="1368000" y="425772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Е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rot="5400000">
            <a:off x="502560" y="425772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rot="5400000">
            <a:off x="1368000" y="425772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rot="5400000">
            <a:off x="934560" y="425772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rot="5400000">
            <a:off x="71640" y="4256640"/>
            <a:ext cx="574560" cy="360360"/>
          </a:xfrm>
          <a:custGeom>
            <a:avLst/>
            <a:gdLst>
              <a:gd name="textAreaLeft" fmla="*/ 0 w 574560"/>
              <a:gd name="textAreaRight" fmla="*/ 574920 w 5745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rot="5400000">
            <a:off x="2663280" y="360828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rot="5400000">
            <a:off x="1368000" y="360828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Д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rot="5400000">
            <a:off x="3958920" y="425772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Н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rot="5400000">
            <a:off x="3526920" y="425772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Е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rot="5400000">
            <a:off x="3095280" y="425772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rot="5400000">
            <a:off x="2663280" y="425772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А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rot="5400000">
            <a:off x="2231640" y="425772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rot="5400000">
            <a:off x="1799640" y="425772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Н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rot="5400000">
            <a:off x="2663280" y="490536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Н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rot="5400000">
            <a:off x="1368000" y="5553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С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rot="5400000">
            <a:off x="1368000" y="490536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Н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1368000" y="296064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О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rot="5400000">
            <a:off x="2663280" y="5553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И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1368000" y="296064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rot="5400000">
            <a:off x="1368000" y="360828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rot="5400000">
            <a:off x="2231640" y="425772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rot="5400000">
            <a:off x="1368000" y="5553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rot="5400000">
            <a:off x="1368000" y="490536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rot="5400000">
            <a:off x="1799640" y="425772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rot="5400000">
            <a:off x="3526920" y="425772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rot="5400000">
            <a:off x="3095280" y="425772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rot="5400000">
            <a:off x="2663280" y="425772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rot="5400000">
            <a:off x="2663280" y="5553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rot="5400000">
            <a:off x="2663280" y="490536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rot="5400000">
            <a:off x="3958920" y="425772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5400000">
            <a:off x="2663280" y="6200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79280" y="189000"/>
            <a:ext cx="6408720" cy="1944720"/>
          </a:xfrm>
          <a:custGeom>
            <a:avLst/>
            <a:gdLst>
              <a:gd name="textAreaLeft" fmla="*/ 109800 w 6408720"/>
              <a:gd name="textAreaRight" fmla="*/ 6298920 w 6408720"/>
              <a:gd name="textAreaTop" fmla="*/ 109800 h 1944720"/>
              <a:gd name="textAreaBottom" fmla="*/ 1834920 h 1944720"/>
            </a:gdLst>
            <a:ahLst/>
            <a:rect l="textAreaLeft" t="textAreaTop" r="textAreaRight" b="textAreaBottom"/>
            <a:pathLst>
              <a:path w="71172" h="21600">
                <a:moveTo>
                  <a:pt x="1729" y="0"/>
                </a:moveTo>
                <a:arcTo wR="1729" hR="1729" stAng="0" swAng="5400000"/>
                <a:lnTo>
                  <a:pt x="0" y="19871"/>
                </a:lnTo>
                <a:arcTo wR="1729" hR="1729" stAng="16200000" swAng="5400000"/>
                <a:lnTo>
                  <a:pt x="69443" y="21600"/>
                </a:lnTo>
                <a:arcTo wR="1729" hR="1729" stAng="10800000" swAng="5400000"/>
                <a:lnTo>
                  <a:pt x="71172" y="1729"/>
                </a:lnTo>
                <a:arcTo wR="1729" hR="1729" stAng="5400000" swAng="5400000"/>
                <a:close/>
              </a:path>
            </a:pathLst>
          </a:custGeom>
          <a:solidFill>
            <a:srgbClr val="af273e">
              <a:alpha val="59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По вертикали: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1. На окраине какого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города 2 апреля 1805 года родился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Х.К.Андерсен?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2. Назовите страну, которая подарила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миру великого сказочника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788000" y="4581360"/>
            <a:ext cx="4176720" cy="2089440"/>
          </a:xfrm>
          <a:custGeom>
            <a:avLst/>
            <a:gdLst>
              <a:gd name="textAreaLeft" fmla="*/ 153720 w 4176720"/>
              <a:gd name="textAreaRight" fmla="*/ 4023000 w 4176720"/>
              <a:gd name="textAreaTop" fmla="*/ 153720 h 2089440"/>
              <a:gd name="textAreaBottom" fmla="*/ 1935720 h 2089440"/>
            </a:gdLst>
            <a:ahLst/>
            <a:rect l="textAreaLeft" t="textAreaTop" r="textAreaRight" b="textAreaBottom"/>
            <a:pathLst>
              <a:path w="43174" h="21600">
                <a:moveTo>
                  <a:pt x="2249" y="0"/>
                </a:moveTo>
                <a:arcTo wR="2249" hR="2249" stAng="0" swAng="5400000"/>
                <a:lnTo>
                  <a:pt x="0" y="19351"/>
                </a:lnTo>
                <a:arcTo wR="2249" hR="2249" stAng="16200000" swAng="5400000"/>
                <a:lnTo>
                  <a:pt x="40925" y="21600"/>
                </a:lnTo>
                <a:arcTo wR="2249" hR="2249" stAng="10800000" swAng="5400000"/>
                <a:lnTo>
                  <a:pt x="43174" y="2249"/>
                </a:lnTo>
                <a:arcTo wR="2249" hR="2249" stAng="5400000" swAng="5400000"/>
                <a:close/>
              </a:path>
            </a:pathLst>
          </a:custGeom>
          <a:solidFill>
            <a:srgbClr val="af273e">
              <a:alpha val="59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По горизонтали: 1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. Город,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в котором был поставлен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памятник Х.К.Андерсену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с надписью: «Воздвигнут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датским народом»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rot="5400000">
            <a:off x="3743280" y="2816280"/>
            <a:ext cx="433440" cy="2174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1" y="0"/>
                </a:lnTo>
                <a:lnTo>
                  <a:pt x="21600" y="10800"/>
                </a:lnTo>
                <a:lnTo>
                  <a:pt x="189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а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rot="5400000">
            <a:off x="3959280" y="2816280"/>
            <a:ext cx="433440" cy="2174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1" y="0"/>
                </a:lnTo>
                <a:lnTo>
                  <a:pt x="21600" y="10800"/>
                </a:lnTo>
                <a:lnTo>
                  <a:pt x="189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б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rot="5400000">
            <a:off x="4176720" y="2816280"/>
            <a:ext cx="433440" cy="2174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1" y="0"/>
                </a:lnTo>
                <a:lnTo>
                  <a:pt x="21600" y="10800"/>
                </a:lnTo>
                <a:lnTo>
                  <a:pt x="189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в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rot="5400000">
            <a:off x="4392720" y="2816280"/>
            <a:ext cx="433440" cy="2174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1" y="0"/>
                </a:lnTo>
                <a:lnTo>
                  <a:pt x="21600" y="10800"/>
                </a:lnTo>
                <a:lnTo>
                  <a:pt x="189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г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rot="5400000">
            <a:off x="4608360" y="2816280"/>
            <a:ext cx="433440" cy="2174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1" y="0"/>
                </a:lnTo>
                <a:lnTo>
                  <a:pt x="21600" y="10800"/>
                </a:lnTo>
                <a:lnTo>
                  <a:pt x="189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д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rot="5400000">
            <a:off x="4824360" y="2816280"/>
            <a:ext cx="433440" cy="2174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1" y="0"/>
                </a:lnTo>
                <a:lnTo>
                  <a:pt x="21600" y="10800"/>
                </a:lnTo>
                <a:lnTo>
                  <a:pt x="189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5400000">
            <a:off x="5040360" y="2816280"/>
            <a:ext cx="433440" cy="2174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1" y="0"/>
                </a:lnTo>
                <a:lnTo>
                  <a:pt x="21600" y="10800"/>
                </a:lnTo>
                <a:lnTo>
                  <a:pt x="189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ё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5400000">
            <a:off x="5255640" y="2815920"/>
            <a:ext cx="433440" cy="217800"/>
          </a:xfrm>
          <a:custGeom>
            <a:avLst/>
            <a:gdLst>
              <a:gd name="textAreaLeft" fmla="*/ 0 w 433440"/>
              <a:gd name="textAreaRight" fmla="*/ 433800 w 433440"/>
              <a:gd name="textAreaTop" fmla="*/ 0 h 217800"/>
              <a:gd name="textAreaBottom" fmla="*/ 218160 h 21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1" y="0"/>
                </a:lnTo>
                <a:lnTo>
                  <a:pt x="21600" y="10800"/>
                </a:lnTo>
                <a:lnTo>
                  <a:pt x="189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ж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rot="5400000">
            <a:off x="5472000" y="2816280"/>
            <a:ext cx="433440" cy="2174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1" y="0"/>
                </a:lnTo>
                <a:lnTo>
                  <a:pt x="21600" y="10800"/>
                </a:lnTo>
                <a:lnTo>
                  <a:pt x="189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з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rot="5400000">
            <a:off x="5688000" y="2816280"/>
            <a:ext cx="433440" cy="2174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1" y="0"/>
                </a:lnTo>
                <a:lnTo>
                  <a:pt x="21600" y="10800"/>
                </a:lnTo>
                <a:lnTo>
                  <a:pt x="189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и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rot="5400000">
            <a:off x="5904000" y="2816280"/>
            <a:ext cx="433440" cy="2174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1" y="0"/>
                </a:lnTo>
                <a:lnTo>
                  <a:pt x="21600" y="10800"/>
                </a:lnTo>
                <a:lnTo>
                  <a:pt x="189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й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rot="5400000">
            <a:off x="6119640" y="2816280"/>
            <a:ext cx="433440" cy="2174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1" y="0"/>
                </a:lnTo>
                <a:lnTo>
                  <a:pt x="21600" y="10800"/>
                </a:lnTo>
                <a:lnTo>
                  <a:pt x="189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к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rot="5400000">
            <a:off x="6335640" y="2816280"/>
            <a:ext cx="433440" cy="2174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1" y="0"/>
                </a:lnTo>
                <a:lnTo>
                  <a:pt x="21600" y="10800"/>
                </a:lnTo>
                <a:lnTo>
                  <a:pt x="189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л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rot="5400000">
            <a:off x="6551640" y="2816280"/>
            <a:ext cx="433440" cy="2174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1" y="0"/>
                </a:lnTo>
                <a:lnTo>
                  <a:pt x="21600" y="10800"/>
                </a:lnTo>
                <a:lnTo>
                  <a:pt x="189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м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rot="5400000">
            <a:off x="6769080" y="2816280"/>
            <a:ext cx="433440" cy="2174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1" y="0"/>
                </a:lnTo>
                <a:lnTo>
                  <a:pt x="21600" y="10800"/>
                </a:lnTo>
                <a:lnTo>
                  <a:pt x="189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н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rot="5400000">
            <a:off x="6985080" y="2816280"/>
            <a:ext cx="433440" cy="2174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1" y="0"/>
                </a:lnTo>
                <a:lnTo>
                  <a:pt x="21600" y="10800"/>
                </a:lnTo>
                <a:lnTo>
                  <a:pt x="189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о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rot="5400000">
            <a:off x="7200720" y="2816280"/>
            <a:ext cx="433440" cy="2174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1" y="0"/>
                </a:lnTo>
                <a:lnTo>
                  <a:pt x="21600" y="10800"/>
                </a:lnTo>
                <a:lnTo>
                  <a:pt x="189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п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rot="5400000">
            <a:off x="3743280" y="3392640"/>
            <a:ext cx="433440" cy="2174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1" y="0"/>
                </a:lnTo>
                <a:lnTo>
                  <a:pt x="21600" y="10800"/>
                </a:lnTo>
                <a:lnTo>
                  <a:pt x="189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р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rot="5400000">
            <a:off x="3959280" y="3392640"/>
            <a:ext cx="433440" cy="2174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1" y="0"/>
                </a:lnTo>
                <a:lnTo>
                  <a:pt x="21600" y="10800"/>
                </a:lnTo>
                <a:lnTo>
                  <a:pt x="189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с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5400000">
            <a:off x="4176720" y="3392640"/>
            <a:ext cx="433440" cy="2174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1" y="0"/>
                </a:lnTo>
                <a:lnTo>
                  <a:pt x="21600" y="10800"/>
                </a:lnTo>
                <a:lnTo>
                  <a:pt x="189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т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rot="5400000">
            <a:off x="4392720" y="3392640"/>
            <a:ext cx="433440" cy="2174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1" y="0"/>
                </a:lnTo>
                <a:lnTo>
                  <a:pt x="21600" y="10800"/>
                </a:lnTo>
                <a:lnTo>
                  <a:pt x="189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у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rot="5400000">
            <a:off x="4608360" y="3392640"/>
            <a:ext cx="433440" cy="2174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1" y="0"/>
                </a:lnTo>
                <a:lnTo>
                  <a:pt x="21600" y="10800"/>
                </a:lnTo>
                <a:lnTo>
                  <a:pt x="189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ф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rot="5400000">
            <a:off x="4824360" y="3392640"/>
            <a:ext cx="433440" cy="2174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1" y="0"/>
                </a:lnTo>
                <a:lnTo>
                  <a:pt x="21600" y="10800"/>
                </a:lnTo>
                <a:lnTo>
                  <a:pt x="189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х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rot="5400000">
            <a:off x="5040360" y="3392640"/>
            <a:ext cx="433440" cy="2174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1" y="0"/>
                </a:lnTo>
                <a:lnTo>
                  <a:pt x="21600" y="10800"/>
                </a:lnTo>
                <a:lnTo>
                  <a:pt x="189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ц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rot="5400000">
            <a:off x="6335640" y="3392640"/>
            <a:ext cx="433440" cy="2174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1" y="0"/>
                </a:lnTo>
                <a:lnTo>
                  <a:pt x="21600" y="10800"/>
                </a:lnTo>
                <a:lnTo>
                  <a:pt x="189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ъ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rot="5400000">
            <a:off x="6119640" y="3392640"/>
            <a:ext cx="433440" cy="2174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1" y="0"/>
                </a:lnTo>
                <a:lnTo>
                  <a:pt x="21600" y="10800"/>
                </a:lnTo>
                <a:lnTo>
                  <a:pt x="189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ы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rot="5400000">
            <a:off x="5904000" y="3392640"/>
            <a:ext cx="433440" cy="2174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1" y="0"/>
                </a:lnTo>
                <a:lnTo>
                  <a:pt x="21600" y="10800"/>
                </a:lnTo>
                <a:lnTo>
                  <a:pt x="189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ь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rot="5400000">
            <a:off x="5688000" y="3392640"/>
            <a:ext cx="433440" cy="2174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1" y="0"/>
                </a:lnTo>
                <a:lnTo>
                  <a:pt x="21600" y="10800"/>
                </a:lnTo>
                <a:lnTo>
                  <a:pt x="189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щ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rot="5400000">
            <a:off x="5472000" y="3392640"/>
            <a:ext cx="433440" cy="2174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1" y="0"/>
                </a:lnTo>
                <a:lnTo>
                  <a:pt x="21600" y="10800"/>
                </a:lnTo>
                <a:lnTo>
                  <a:pt x="189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ш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rot="5400000">
            <a:off x="5255640" y="3392280"/>
            <a:ext cx="433440" cy="217800"/>
          </a:xfrm>
          <a:custGeom>
            <a:avLst/>
            <a:gdLst>
              <a:gd name="textAreaLeft" fmla="*/ 0 w 433440"/>
              <a:gd name="textAreaRight" fmla="*/ 433800 w 433440"/>
              <a:gd name="textAreaTop" fmla="*/ 0 h 217800"/>
              <a:gd name="textAreaBottom" fmla="*/ 218160 h 21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1" y="0"/>
                </a:lnTo>
                <a:lnTo>
                  <a:pt x="21600" y="10800"/>
                </a:lnTo>
                <a:lnTo>
                  <a:pt x="189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ч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rot="5400000">
            <a:off x="6985080" y="3392640"/>
            <a:ext cx="433440" cy="2174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1" y="0"/>
                </a:lnTo>
                <a:lnTo>
                  <a:pt x="21600" y="10800"/>
                </a:lnTo>
                <a:lnTo>
                  <a:pt x="189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я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rot="5400000">
            <a:off x="6769080" y="3392640"/>
            <a:ext cx="433440" cy="2174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1" y="0"/>
                </a:lnTo>
                <a:lnTo>
                  <a:pt x="21600" y="10800"/>
                </a:lnTo>
                <a:lnTo>
                  <a:pt x="189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ю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rot="5400000">
            <a:off x="6551640" y="3392640"/>
            <a:ext cx="433440" cy="2174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1" y="0"/>
                </a:lnTo>
                <a:lnTo>
                  <a:pt x="21600" y="10800"/>
                </a:lnTo>
                <a:lnTo>
                  <a:pt x="189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э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971640" y="2205000"/>
            <a:ext cx="4248000" cy="360360"/>
          </a:xfrm>
          <a:custGeom>
            <a:avLst/>
            <a:gdLst>
              <a:gd name="textAreaLeft" fmla="*/ 20160 w 4248000"/>
              <a:gd name="textAreaRight" fmla="*/ 4227840 w 424800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54393" h="21600">
                <a:moveTo>
                  <a:pt x="1729" y="0"/>
                </a:moveTo>
                <a:arcTo wR="1729" hR="1729" stAng="0" swAng="5400000"/>
                <a:lnTo>
                  <a:pt x="0" y="19871"/>
                </a:lnTo>
                <a:arcTo wR="1729" hR="1729" stAng="16200000" swAng="5400000"/>
                <a:lnTo>
                  <a:pt x="252664" y="21600"/>
                </a:lnTo>
                <a:arcTo wR="1729" hR="1729" stAng="10800000" swAng="5400000"/>
                <a:lnTo>
                  <a:pt x="254393" y="1729"/>
                </a:lnTo>
                <a:arcTo wR="1729" hR="1729" stAng="5400000" swAng="5400000"/>
                <a:close/>
              </a:path>
            </a:pathLst>
          </a:custGeom>
          <a:solidFill>
            <a:srgbClr val="af273e">
              <a:alpha val="59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Вы можете назвать 5 букв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0" dur="indefinite" restart="never" nodeType="tmRoot">
          <p:childTnLst>
            <p:seq>
              <p:cTn id="2071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2072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5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6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8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2079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82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3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5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2086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89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2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2093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6" dur="5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7" dur="5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9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2100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03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4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6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2107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0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1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3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2114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2115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7" dur="5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8" dur="5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0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2121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24" dur="5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5" dur="5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7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2128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1" dur="50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2" dur="50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4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2135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8" dur="5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9" dur="5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1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2142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45" dur="5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6" dur="5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8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2149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2150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2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3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5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2156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9" dur="5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0" dur="5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2" restart="whenNotActive" nodeType="interactiveSeq" fill="hold">
                <p:stCondLst>
                  <p:cond evt="onClick">
                    <p:tgtEl>
                      <p:spTgt spid="619"/>
                    </p:tgtEl>
                  </p:cond>
                </p:stCondLst>
                <p:childTnLst>
                  <p:par>
                    <p:cTn id="2163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6" dur="5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7" dur="5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9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2170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3" dur="5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4" dur="5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6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2177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0" dur="5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1" dur="5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3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2184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7" dur="500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8" dur="500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0" restart="whenNotActive" nodeType="interactiveSeq" fill="hold">
                <p:stCondLst>
                  <p:cond evt="onClick">
                    <p:tgtEl>
                      <p:spTgt spid="621"/>
                    </p:tgtEl>
                  </p:cond>
                </p:stCondLst>
                <p:childTnLst>
                  <p:par>
                    <p:cTn id="2191" fill="hold">
                      <p:stCondLst>
                        <p:cond evt="onClick">
                          <p:tgtEl>
                            <p:spTgt spid="621"/>
                          </p:tgtEl>
                        </p:cond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4" dur="5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5" dur="5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7" restart="whenNotActive" nodeType="interactiveSeq" fill="hold">
                <p:stCondLst>
                  <p:cond evt="onClick">
                    <p:tgtEl>
                      <p:spTgt spid="625"/>
                    </p:tgtEl>
                  </p:cond>
                </p:stCondLst>
                <p:childTnLst>
                  <p:par>
                    <p:cTn id="2198" fill="hold">
                      <p:stCondLst>
                        <p:cond evt="onClick">
                          <p:tgtEl>
                            <p:spTgt spid="625"/>
                          </p:tgtEl>
                        </p:cond>
                      </p:stCondLst>
                      <p:childTnLst>
                        <p:par>
                          <p:cTn id="2199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1" dur="2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fill="hold">
                      <p:stCondLst>
                        <p:cond evt="onClick">
                          <p:tgtEl>
                            <p:spTgt spid="625"/>
                          </p:tgtEl>
                        </p:cond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5" dur="5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6" dur="5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8" restart="whenNotActive" nodeType="interactiveSeq" fill="hold">
                <p:stCondLst>
                  <p:cond evt="onClick">
                    <p:tgtEl>
                      <p:spTgt spid="628"/>
                    </p:tgtEl>
                  </p:cond>
                </p:stCondLst>
                <p:childTnLst>
                  <p:par>
                    <p:cTn id="2209" fill="hold">
                      <p:stCondLst>
                        <p:cond evt="onClick">
                          <p:tgtEl>
                            <p:spTgt spid="628"/>
                          </p:tgtEl>
                        </p:cond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2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4" dur="5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5" dur="5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8" dur="5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9" dur="5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1" restart="whenNotActive" nodeType="interactiveSeq" fill="hold">
                <p:stCondLst>
                  <p:cond evt="onClick">
                    <p:tgtEl>
                      <p:spTgt spid="629"/>
                    </p:tgtEl>
                  </p:cond>
                </p:stCondLst>
                <p:childTnLst>
                  <p:par>
                    <p:cTn id="2222" fill="hold">
                      <p:stCondLst>
                        <p:cond evt="onClick">
                          <p:tgtEl>
                            <p:spTgt spid="629"/>
                          </p:tgtEl>
                        </p:cond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5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7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8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1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2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4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2235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8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0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1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4" dur="500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5" dur="500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7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2248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1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53" dur="5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4" dur="5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6" restart="whenNotActive" nodeType="interactiveSeq" fill="hold">
                <p:stCondLst>
                  <p:cond evt="onClick">
                    <p:tgtEl>
                      <p:spTgt spid="636"/>
                    </p:tgtEl>
                  </p:cond>
                </p:stCondLst>
                <p:childTnLst>
                  <p:par>
                    <p:cTn id="2257" fill="hold">
                      <p:stCondLst>
                        <p:cond evt="onClick">
                          <p:tgtEl>
                            <p:spTgt spid="636"/>
                          </p:tgtEl>
                        </p:cond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0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62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3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5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2266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9" dur="2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71" dur="50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2" dur="50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75" dur="5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6" dur="5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79" dur="5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0" dur="5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3" dur="5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4" dur="5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6" restart="whenNotActive" nodeType="interactiveSeq" fill="hold">
                <p:stCondLst>
                  <p:cond evt="onClick">
                    <p:tgtEl>
                      <p:spTgt spid="640"/>
                    </p:tgtEl>
                  </p:cond>
                </p:stCondLst>
                <p:childTnLst>
                  <p:par>
                    <p:cTn id="2287" fill="hold">
                      <p:stCondLst>
                        <p:cond evt="onClick">
                          <p:tgtEl>
                            <p:spTgt spid="640"/>
                          </p:tgtEl>
                        </p:cond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0" dur="2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92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3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96" dur="5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7" dur="5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9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2300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3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5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6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8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2309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2" dur="2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4" dur="5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5" dur="5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7" restart="whenNotActive" nodeType="interactiveSeq" fill="hold">
                <p:stCondLst>
                  <p:cond evt="onClick">
                    <p:tgtEl>
                      <p:spTgt spid="655"/>
                    </p:tgtEl>
                  </p:cond>
                </p:stCondLst>
                <p:childTnLst>
                  <p:par>
                    <p:cTn id="2318" fill="hold">
                      <p:stCondLst>
                        <p:cond evt="onClick">
                          <p:tgtEl>
                            <p:spTgt spid="655"/>
                          </p:tgtEl>
                        </p:cond>
                      </p:stCondLst>
                      <p:childTnLst>
                        <p:par>
                          <p:cTn id="2319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1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3" dur="5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4" dur="5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6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2327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0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2" restart="whenNotActive" nodeType="interactiveSeq" fill="hold">
                <p:stCondLst>
                  <p:cond evt="onClick">
                    <p:tgtEl>
                      <p:spTgt spid="627"/>
                    </p:tgtEl>
                  </p:cond>
                </p:stCondLst>
                <p:childTnLst>
                  <p:par>
                    <p:cTn id="2333" fill="hold">
                      <p:stCondLst>
                        <p:cond evt="onClick">
                          <p:tgtEl>
                            <p:spTgt spid="627"/>
                          </p:tgtEl>
                        </p:cond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6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8" restart="whenNotActive" nodeType="interactiveSeq" fill="hold">
                <p:stCondLst>
                  <p:cond evt="onClick">
                    <p:tgtEl>
                      <p:spTgt spid="631"/>
                    </p:tgtEl>
                  </p:cond>
                </p:stCondLst>
                <p:childTnLst>
                  <p:par>
                    <p:cTn id="2339" fill="hold">
                      <p:stCondLst>
                        <p:cond evt="onClick">
                          <p:tgtEl>
                            <p:spTgt spid="631"/>
                          </p:tgtEl>
                        </p:cond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2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4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2345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8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0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2351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4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6" restart="whenNotActive" nodeType="interactiveSeq" fill="hold">
                <p:stCondLst>
                  <p:cond evt="onClick">
                    <p:tgtEl>
                      <p:spTgt spid="635"/>
                    </p:tgtEl>
                  </p:cond>
                </p:stCondLst>
                <p:childTnLst>
                  <p:par>
                    <p:cTn id="2357" fill="hold">
                      <p:stCondLst>
                        <p:cond evt="onClick">
                          <p:tgtEl>
                            <p:spTgt spid="635"/>
                          </p:tgtEl>
                        </p:cond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0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2" restart="whenNotActive" nodeType="interactiveSeq" fill="hold">
                <p:stCondLst>
                  <p:cond evt="onClick">
                    <p:tgtEl>
                      <p:spTgt spid="637"/>
                    </p:tgtEl>
                  </p:cond>
                </p:stCondLst>
                <p:childTnLst>
                  <p:par>
                    <p:cTn id="2363" fill="hold">
                      <p:stCondLst>
                        <p:cond evt="onClick">
                          <p:tgtEl>
                            <p:spTgt spid="637"/>
                          </p:tgtEl>
                        </p:cond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6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8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2369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2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4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2375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8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0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2381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4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6" restart="whenNotActive" nodeType="interactiveSeq" fill="hold">
                <p:stCondLst>
                  <p:cond evt="onClick">
                    <p:tgtEl>
                      <p:spTgt spid="645"/>
                    </p:tgtEl>
                  </p:cond>
                </p:stCondLst>
                <p:childTnLst>
                  <p:par>
                    <p:cTn id="2387" fill="hold">
                      <p:stCondLst>
                        <p:cond evt="onClick">
                          <p:tgtEl>
                            <p:spTgt spid="645"/>
                          </p:tgtEl>
                        </p:cond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0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2" restart="whenNotActive" nodeType="interactiveSeq" fill="hold">
                <p:stCondLst>
                  <p:cond evt="onClick">
                    <p:tgtEl>
                      <p:spTgt spid="646"/>
                    </p:tgtEl>
                  </p:cond>
                </p:stCondLst>
                <p:childTnLst>
                  <p:par>
                    <p:cTn id="2393" fill="hold">
                      <p:stCondLst>
                        <p:cond evt="onClick">
                          <p:tgtEl>
                            <p:spTgt spid="646"/>
                          </p:tgtEl>
                        </p:cond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6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8" restart="whenNotActive" nodeType="interactiveSeq" fill="hold">
                <p:stCondLst>
                  <p:cond evt="onClick">
                    <p:tgtEl>
                      <p:spTgt spid="647"/>
                    </p:tgtEl>
                  </p:cond>
                </p:stCondLst>
                <p:childTnLst>
                  <p:par>
                    <p:cTn id="2399" fill="hold">
                      <p:stCondLst>
                        <p:cond evt="onClick">
                          <p:tgtEl>
                            <p:spTgt spid="647"/>
                          </p:tgtEl>
                        </p:cond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2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4" restart="whenNotActive" nodeType="interactiveSeq" fill="hold">
                <p:stCondLst>
                  <p:cond evt="onClick">
                    <p:tgtEl>
                      <p:spTgt spid="648"/>
                    </p:tgtEl>
                  </p:cond>
                </p:stCondLst>
                <p:childTnLst>
                  <p:par>
                    <p:cTn id="2405" fill="hold">
                      <p:stCondLst>
                        <p:cond evt="onClick">
                          <p:tgtEl>
                            <p:spTgt spid="648"/>
                          </p:tgtEl>
                        </p:cond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8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0" restart="whenNotActive" nodeType="interactiveSeq" fill="hold">
                <p:stCondLst>
                  <p:cond evt="onClick">
                    <p:tgtEl>
                      <p:spTgt spid="654"/>
                    </p:tgtEl>
                  </p:cond>
                </p:stCondLst>
                <p:childTnLst>
                  <p:par>
                    <p:cTn id="2411" fill="hold">
                      <p:stCondLst>
                        <p:cond evt="onClick">
                          <p:tgtEl>
                            <p:spTgt spid="654"/>
                          </p:tgtEl>
                        </p:cond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4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6" restart="whenNotActive" nodeType="interactiveSeq" fill="hold">
                <p:stCondLst>
                  <p:cond evt="onClick">
                    <p:tgtEl>
                      <p:spTgt spid="653"/>
                    </p:tgtEl>
                  </p:cond>
                </p:stCondLst>
                <p:childTnLst>
                  <p:par>
                    <p:cTn id="2417" fill="hold">
                      <p:stCondLst>
                        <p:cond evt="onClick">
                          <p:tgtEl>
                            <p:spTgt spid="653"/>
                          </p:tgtEl>
                        </p:cond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0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2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2423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6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8" restart="whenNotActive" nodeType="interactiveSeq" fill="hold">
                <p:stCondLst>
                  <p:cond evt="onClick">
                    <p:tgtEl>
                      <p:spTgt spid="651"/>
                    </p:tgtEl>
                  </p:cond>
                </p:stCondLst>
                <p:childTnLst>
                  <p:par>
                    <p:cTn id="2429" fill="hold">
                      <p:stCondLst>
                        <p:cond evt="onClick">
                          <p:tgtEl>
                            <p:spTgt spid="651"/>
                          </p:tgtEl>
                        </p:cond>
                      </p:stCondLst>
                      <p:childTnLst>
                        <p:par>
                          <p:cTn id="2430" fill="hold">
                            <p:stCondLst>
                              <p:cond delay="0"/>
                            </p:stCondLst>
                            <p:childTnLst>
                              <p:par>
                                <p:cTn id="24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2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4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2435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2436" fill="hold">
                            <p:stCondLst>
                              <p:cond delay="0"/>
                            </p:stCondLst>
                            <p:childTnLst>
                              <p:par>
                                <p:cTn id="24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8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0" restart="whenNotActive" nodeType="interactiveSeq" fill="hold">
                <p:stCondLst>
                  <p:cond evt="onClick">
                    <p:tgtEl>
                      <p:spTgt spid="657"/>
                    </p:tgtEl>
                  </p:cond>
                </p:stCondLst>
                <p:childTnLst>
                  <p:par>
                    <p:cTn id="2441" fill="hold">
                      <p:stCondLst>
                        <p:cond evt="onClick">
                          <p:tgtEl>
                            <p:spTgt spid="657"/>
                          </p:tgtEl>
                        </p:cond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4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6" restart="whenNotActive" nodeType="interactiveSeq" fill="hold">
                <p:stCondLst>
                  <p:cond evt="onClick">
                    <p:tgtEl>
                      <p:spTgt spid="656"/>
                    </p:tgtEl>
                  </p:cond>
                </p:stCondLst>
                <p:childTnLst>
                  <p:par>
                    <p:cTn id="2447" fill="hold">
                      <p:stCondLst>
                        <p:cond evt="onClick">
                          <p:tgtEl>
                            <p:spTgt spid="656"/>
                          </p:tgtEl>
                        </p:cond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0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2" restart="whenNotActive" nodeType="interactiveSeq" fill="hold">
                <p:stCondLst>
                  <p:cond evt="onClick">
                    <p:tgtEl>
                      <p:spTgt spid="649"/>
                    </p:tgtEl>
                  </p:cond>
                </p:stCondLst>
                <p:childTnLst>
                  <p:par>
                    <p:cTn id="2453" fill="hold">
                      <p:stCondLst>
                        <p:cond evt="onClick">
                          <p:tgtEl>
                            <p:spTgt spid="649"/>
                          </p:tgtEl>
                        </p:cond>
                      </p:stCondLst>
                      <p:childTnLst>
                        <p:par>
                          <p:cTn id="2454" fill="hold">
                            <p:stCondLst>
                              <p:cond delay="0"/>
                            </p:stCondLst>
                            <p:childTnLst>
                              <p:par>
                                <p:cTn id="24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6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8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2459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62" dur="5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3" dur="5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5690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af273e"/>
                </a:solidFill>
                <a:latin typeface="Bookman Old Style"/>
              </a:rPr>
              <a:t>Поздравляем победителя!</a:t>
            </a: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205840" cy="61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f273e"/>
                </a:solidFill>
                <a:latin typeface="Bookman Old Style"/>
              </a:rPr>
              <a:t>Дорогие ребята!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af273e"/>
                </a:solidFill>
                <a:latin typeface="Bookman Old Style"/>
              </a:rPr>
              <a:t>   </a:t>
            </a:r>
            <a:r>
              <a:rPr b="1" lang="ru-RU" sz="3000" spc="-1" strike="noStrike">
                <a:solidFill>
                  <a:srgbClr val="af273e"/>
                </a:solidFill>
                <a:latin typeface="Bookman Old Style"/>
              </a:rPr>
              <a:t>Вам представляется 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af273e"/>
                </a:solidFill>
                <a:latin typeface="Bookman Old Style"/>
              </a:rPr>
              <a:t>возможность еще раз окунуться 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af273e"/>
                </a:solidFill>
                <a:latin typeface="Bookman Old Style"/>
              </a:rPr>
              <a:t>в атмосферу сказки Х.К.Андерсена «Дюймовочка».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af273e"/>
                </a:solidFill>
                <a:latin typeface="Bookman Old Style"/>
              </a:rPr>
              <a:t>Литературная игра проходит в форме «Поля чудес». Вас ждут отборочные туры, полуфинальные и финальные игры, суперигра. 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af273e"/>
                </a:solidFill>
                <a:latin typeface="Bookman Old Style"/>
              </a:rPr>
              <a:t>   </a:t>
            </a:r>
            <a:r>
              <a:rPr b="1" lang="ru-RU" sz="3000" spc="-1" strike="noStrike">
                <a:solidFill>
                  <a:srgbClr val="af273e"/>
                </a:solidFill>
                <a:latin typeface="Bookman Old Style"/>
              </a:rPr>
              <a:t>Переход от задания к заданию по щелчку.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af273e"/>
                </a:solidFill>
                <a:latin typeface="Bookman Old Style"/>
              </a:rPr>
              <a:t>   </a:t>
            </a:r>
            <a:r>
              <a:rPr b="1" lang="ru-RU" sz="3000" spc="-1" strike="noStrike">
                <a:solidFill>
                  <a:srgbClr val="af273e"/>
                </a:solidFill>
                <a:latin typeface="Bookman Old Style"/>
              </a:rPr>
              <a:t>Желаю вам удачи!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5690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af273e"/>
                </a:solidFill>
                <a:latin typeface="Bookman Old Style"/>
              </a:rPr>
              <a:t>Использованная 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af273e"/>
                </a:solidFill>
                <a:latin typeface="Bookman Old Style"/>
              </a:rPr>
              <a:t>литература: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f273e"/>
                </a:solidFill>
                <a:latin typeface="Bookman Old Style"/>
              </a:rPr>
              <a:t>1.</a:t>
            </a:r>
            <a:r>
              <a:rPr b="1" i="1" lang="ru-RU" sz="3400" spc="-1" strike="noStrike">
                <a:solidFill>
                  <a:srgbClr val="af273e"/>
                </a:solidFill>
                <a:latin typeface="Bookman Old Style"/>
              </a:rPr>
              <a:t> Андерсен Х.К. Сказки. - Ф.: Мектеп, 1988. – 624 с.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684360" y="76464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af273e"/>
                </a:solidFill>
                <a:latin typeface="Arial Black"/>
              </a:rPr>
              <a:t>1 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af273e"/>
                </a:solidFill>
                <a:latin typeface="Arial Black"/>
              </a:rPr>
              <a:t>отборочный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af273e"/>
                </a:solidFill>
                <a:latin typeface="Arial Black"/>
              </a:rPr>
              <a:t>тур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9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5690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" name=""/>
          <p:cNvSpPr/>
          <p:nvPr/>
        </p:nvSpPr>
        <p:spPr>
          <a:xfrm>
            <a:off x="250920" y="907920"/>
            <a:ext cx="7343640" cy="5616720"/>
          </a:xfrm>
          <a:custGeom>
            <a:avLst/>
            <a:gdLst>
              <a:gd name="textAreaLeft" fmla="*/ 661680 w 7343640"/>
              <a:gd name="textAreaRight" fmla="*/ 6681960 w 73436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2824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4641" y="21600"/>
                </a:lnTo>
                <a:arcTo wR="3600" hR="3600" stAng="10800000" swAng="5400000"/>
                <a:lnTo>
                  <a:pt x="28241" y="3600"/>
                </a:lnTo>
                <a:arcTo wR="3600" hR="3600" stAng="5400000" swAng="5400000"/>
                <a:close/>
              </a:path>
            </a:pathLst>
          </a:custGeom>
          <a:solidFill>
            <a:srgbClr val="ff8b1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af273e"/>
                </a:solidFill>
                <a:latin typeface="Bookman Old Style"/>
              </a:rPr>
              <a:t>Кто это?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f273e"/>
                </a:solidFill>
                <a:latin typeface="Arial Black"/>
              </a:rPr>
              <a:t>«... большущая,  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f273e"/>
                </a:solidFill>
                <a:latin typeface="Arial Black"/>
              </a:rPr>
              <a:t>мокрая, ... 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f273e"/>
                </a:solidFill>
                <a:latin typeface="Arial Black"/>
              </a:rPr>
              <a:t>безобразная...»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f273e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50920" y="907920"/>
            <a:ext cx="7345440" cy="5545440"/>
          </a:xfrm>
          <a:custGeom>
            <a:avLst/>
            <a:gdLst>
              <a:gd name="textAreaLeft" fmla="*/ 653400 w 7345440"/>
              <a:gd name="textAreaRight" fmla="*/ 6692040 w 7345440"/>
              <a:gd name="textAreaTop" fmla="*/ 653400 h 5545440"/>
              <a:gd name="textAreaBottom" fmla="*/ 4892040 h 5545440"/>
            </a:gdLst>
            <a:ahLst/>
            <a:rect l="textAreaLeft" t="textAreaTop" r="textAreaRight" b="textAreaBottom"/>
            <a:pathLst>
              <a:path w="2861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011" y="21600"/>
                </a:lnTo>
                <a:arcTo wR="3600" hR="3600" stAng="10800000" swAng="5400000"/>
                <a:lnTo>
                  <a:pt x="28611" y="3600"/>
                </a:lnTo>
                <a:arcTo wR="3600" hR="3600" stAng="5400000" swAng="5400000"/>
                <a:close/>
              </a:path>
            </a:pathLst>
          </a:custGeom>
          <a:solidFill>
            <a:srgbClr val="ff8b1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af273e"/>
                </a:solidFill>
                <a:latin typeface="Arial Black"/>
              </a:rPr>
              <a:t>ЖАБА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50920" y="907920"/>
            <a:ext cx="7345440" cy="5616720"/>
          </a:xfrm>
          <a:custGeom>
            <a:avLst/>
            <a:gdLst>
              <a:gd name="textAreaLeft" fmla="*/ 661680 w 7345440"/>
              <a:gd name="textAreaRight" fmla="*/ 6683760 w 7345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2824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4648" y="21600"/>
                </a:lnTo>
                <a:arcTo wR="3600" hR="3600" stAng="10800000" swAng="5400000"/>
                <a:lnTo>
                  <a:pt x="28248" y="3600"/>
                </a:lnTo>
                <a:arcTo wR="3600" hR="3600" stAng="5400000" swAng="5400000"/>
                <a:close/>
              </a:path>
            </a:pathLst>
          </a:custGeom>
          <a:solidFill>
            <a:srgbClr val="ff8b1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af273e"/>
                </a:solidFill>
                <a:latin typeface="Bookman Old Style"/>
              </a:rPr>
              <a:t>Кто это?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f273e"/>
                </a:solidFill>
                <a:latin typeface="Arial Black"/>
              </a:rPr>
              <a:t>«... важный, 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f273e"/>
                </a:solidFill>
                <a:latin typeface="Arial Black"/>
              </a:rPr>
              <a:t>ученый 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f273e"/>
                </a:solidFill>
                <a:latin typeface="Arial Black"/>
              </a:rPr>
              <a:t>и богатый...»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f273e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50920" y="907920"/>
            <a:ext cx="7345440" cy="5616720"/>
          </a:xfrm>
          <a:custGeom>
            <a:avLst/>
            <a:gdLst>
              <a:gd name="textAreaLeft" fmla="*/ 661680 w 7345440"/>
              <a:gd name="textAreaRight" fmla="*/ 6683760 w 7345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2824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4648" y="21600"/>
                </a:lnTo>
                <a:arcTo wR="3600" hR="3600" stAng="10800000" swAng="5400000"/>
                <a:lnTo>
                  <a:pt x="28248" y="3600"/>
                </a:lnTo>
                <a:arcTo wR="3600" hR="3600" stAng="5400000" swAng="5400000"/>
                <a:close/>
              </a:path>
            </a:pathLst>
          </a:custGeom>
          <a:solidFill>
            <a:srgbClr val="ff8b1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af273e"/>
                </a:solidFill>
                <a:latin typeface="Arial Black"/>
              </a:rPr>
              <a:t>КРОТ</a:t>
            </a:r>
            <a:endParaRPr b="0" lang="en-US" sz="8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0920" y="907920"/>
            <a:ext cx="7345440" cy="5616720"/>
          </a:xfrm>
          <a:custGeom>
            <a:avLst/>
            <a:gdLst>
              <a:gd name="textAreaLeft" fmla="*/ 661680 w 7345440"/>
              <a:gd name="textAreaRight" fmla="*/ 6683760 w 7345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2824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4648" y="21600"/>
                </a:lnTo>
                <a:arcTo wR="3600" hR="3600" stAng="10800000" swAng="5400000"/>
                <a:lnTo>
                  <a:pt x="28248" y="3600"/>
                </a:lnTo>
                <a:arcTo wR="3600" hR="3600" stAng="5400000" swAng="5400000"/>
                <a:close/>
              </a:path>
            </a:pathLst>
          </a:custGeom>
          <a:solidFill>
            <a:srgbClr val="ff8b1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f273e"/>
                </a:solidFill>
                <a:latin typeface="Bookman Old Style"/>
              </a:rPr>
              <a:t>Кто это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273e"/>
                </a:solidFill>
                <a:latin typeface="Arial Black"/>
              </a:rPr>
              <a:t>«Крылышки ... 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273e"/>
                </a:solidFill>
                <a:latin typeface="Arial Black"/>
              </a:rPr>
              <a:t>были крепко 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273e"/>
                </a:solidFill>
                <a:latin typeface="Arial Black"/>
              </a:rPr>
              <a:t>прижаты к телу, 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273e"/>
                </a:solidFill>
                <a:latin typeface="Arial Black"/>
              </a:rPr>
              <a:t>ножки и голова 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273e"/>
                </a:solidFill>
                <a:latin typeface="Arial Black"/>
              </a:rPr>
              <a:t>были спрятаны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273e"/>
                </a:solidFill>
                <a:latin typeface="Arial Black"/>
              </a:rPr>
              <a:t>в пёрышки...»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f273e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50920" y="907920"/>
            <a:ext cx="7346880" cy="5616720"/>
          </a:xfrm>
          <a:custGeom>
            <a:avLst/>
            <a:gdLst>
              <a:gd name="textAreaLeft" fmla="*/ 661680 w 7346880"/>
              <a:gd name="textAreaRight" fmla="*/ 6685200 w 734688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2825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4653" y="21600"/>
                </a:lnTo>
                <a:arcTo wR="3600" hR="3600" stAng="10800000" swAng="5400000"/>
                <a:lnTo>
                  <a:pt x="28253" y="3600"/>
                </a:lnTo>
                <a:arcTo wR="3600" hR="3600" stAng="5400000" swAng="5400000"/>
                <a:close/>
              </a:path>
            </a:pathLst>
          </a:custGeom>
          <a:solidFill>
            <a:srgbClr val="ff8b1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af273e"/>
                </a:solidFill>
                <a:latin typeface="Arial Black"/>
              </a:rPr>
              <a:t>ЛАСТОЧКА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684360" y="76464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0" spc="-1" strike="noStrike">
                <a:solidFill>
                  <a:srgbClr val="af273e"/>
                </a:solidFill>
                <a:latin typeface="Bookman Old Style"/>
              </a:rPr>
              <a:t>I</a:t>
            </a:r>
            <a:endParaRPr b="0" lang="en-US" sz="1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af273e"/>
                </a:solidFill>
                <a:latin typeface="Bookman Old Style"/>
              </a:rPr>
              <a:t>полуфинал</a:t>
            </a:r>
            <a:endParaRPr b="0" lang="en-US" sz="9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5690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273e"/>
                </a:solidFill>
                <a:latin typeface="Bookman Old Style"/>
              </a:rPr>
              <a:t>Назовите цветок,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273e"/>
                </a:solidFill>
                <a:latin typeface="Bookman Old Style"/>
              </a:rPr>
              <a:t>«в самой чашечке которого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273e"/>
                </a:solidFill>
                <a:latin typeface="Bookman Old Style"/>
              </a:rPr>
              <a:t>на зеленом пестике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273e"/>
                </a:solidFill>
                <a:latin typeface="Bookman Old Style"/>
              </a:rPr>
              <a:t>сидела девочка»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"/>
          <p:cNvSpPr/>
          <p:nvPr/>
        </p:nvSpPr>
        <p:spPr>
          <a:xfrm rot="5400000">
            <a:off x="863280" y="3537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Т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5400000">
            <a:off x="1294920" y="3537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Ю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5400000">
            <a:off x="1726920" y="3537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Л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5400000">
            <a:off x="2160360" y="3536640"/>
            <a:ext cx="576360" cy="36072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720"/>
              <a:gd name="textAreaBottom" fmla="*/ 361080 h 3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Ь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5400000">
            <a:off x="2592000" y="3537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П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3023640" y="3537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А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5400000">
            <a:off x="3455640" y="3537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Н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5400000">
            <a:off x="122364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А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5400000">
            <a:off x="158400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Б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5400000">
            <a:off x="194256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5400000">
            <a:off x="266328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Д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5400000">
            <a:off x="230292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5400000">
            <a:off x="302364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Е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5400000">
            <a:off x="338400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Ё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rot="5400000">
            <a:off x="374292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Ж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rot="5400000">
            <a:off x="410328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З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rot="5400000">
            <a:off x="446364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И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rot="5400000">
            <a:off x="482400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Й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rot="5400000">
            <a:off x="518436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К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5400000">
            <a:off x="554328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Л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5400000">
            <a:off x="590364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М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5400000">
            <a:off x="626400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Н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5400000">
            <a:off x="662436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О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5400000">
            <a:off x="6984720" y="497664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П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rot="5400000">
            <a:off x="302364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Х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5400000">
            <a:off x="266328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Ф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5400000">
            <a:off x="230292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У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5400000">
            <a:off x="194256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Т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5400000">
            <a:off x="158400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С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5400000">
            <a:off x="122364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Р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5400000">
            <a:off x="518436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Ы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5400000">
            <a:off x="482400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Ь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5400000">
            <a:off x="446364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Щ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5400000">
            <a:off x="410328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Ш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5400000">
            <a:off x="374292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Ч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5400000">
            <a:off x="338400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Ц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rot="5400000">
            <a:off x="626400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Ю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5400000">
            <a:off x="590364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Э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rot="5400000">
            <a:off x="554328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Ъ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5400000">
            <a:off x="6624360" y="5697360"/>
            <a:ext cx="576000" cy="360360"/>
          </a:xfrm>
          <a:custGeom>
            <a:avLst/>
            <a:gdLst>
              <a:gd name="textAreaLeft" fmla="*/ 0 w 576000"/>
              <a:gd name="textAreaRight" fmla="*/ 576000 w 57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Я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5400000">
            <a:off x="2592000" y="3537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5400000">
            <a:off x="2160360" y="3536640"/>
            <a:ext cx="576360" cy="36072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720"/>
              <a:gd name="textAreaBottom" fmla="*/ 361080 h 3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5400000">
            <a:off x="1726920" y="3537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4" y="0"/>
                </a:lnTo>
                <a:lnTo>
                  <a:pt x="21600" y="10800"/>
                </a:lnTo>
                <a:lnTo>
                  <a:pt x="16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5400000">
            <a:off x="1294920" y="3537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5400000">
            <a:off x="863280" y="3537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5400000">
            <a:off x="3455640" y="3537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5400000">
            <a:off x="3023640" y="3537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27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219640" y="2565360"/>
            <a:ext cx="1635120" cy="914400"/>
          </a:xfrm>
          <a:custGeom>
            <a:avLst/>
            <a:gdLst>
              <a:gd name="textAreaLeft" fmla="*/ 0 w 1635120"/>
              <a:gd name="textAreaRight" fmla="*/ 1635480 w 163512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af27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f273e"/>
                </a:solidFill>
                <a:latin typeface="Bookman Old Style"/>
              </a:rPr>
              <a:t>Есть такая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f273e"/>
                </a:solidFill>
                <a:latin typeface="Bookman Old Style"/>
              </a:rPr>
              <a:t>      </a:t>
            </a:r>
            <a:r>
              <a:rPr b="1" i="1" lang="en-US" sz="1800" spc="-1" strike="noStrike">
                <a:solidFill>
                  <a:srgbClr val="af273e"/>
                </a:solidFill>
                <a:latin typeface="Bookman Old Style"/>
              </a:rPr>
              <a:t>буква!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219640" y="3645000"/>
            <a:ext cx="1635120" cy="914400"/>
          </a:xfrm>
          <a:custGeom>
            <a:avLst/>
            <a:gdLst>
              <a:gd name="textAreaLeft" fmla="*/ 0 w 1635120"/>
              <a:gd name="textAreaRight" fmla="*/ 1635480 w 163512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af27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f273e"/>
                </a:solidFill>
                <a:latin typeface="Bookman Old Style"/>
              </a:rPr>
              <a:t>Нет такой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f273e"/>
                </a:solidFill>
                <a:latin typeface="Bookman Old Style"/>
              </a:rPr>
              <a:t>      </a:t>
            </a:r>
            <a:r>
              <a:rPr b="1" i="1" lang="en-US" sz="1800" spc="-1" strike="noStrike">
                <a:solidFill>
                  <a:srgbClr val="af273e"/>
                </a:solidFill>
                <a:latin typeface="Bookman Old Style"/>
              </a:rPr>
              <a:t>буквы!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3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422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7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448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464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6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519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684360" y="76464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af273e"/>
                </a:solidFill>
                <a:latin typeface="Arial Black"/>
              </a:rPr>
              <a:t>2 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af273e"/>
                </a:solidFill>
                <a:latin typeface="Arial Black"/>
              </a:rPr>
              <a:t>отборочный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af273e"/>
                </a:solidFill>
                <a:latin typeface="Arial Black"/>
              </a:rPr>
              <a:t>тур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900"/>
                            </p:stCondLst>
                            <p:childTnLst>
                              <p:par>
                                <p:cTn id="54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5690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"/>
          <p:cNvSpPr/>
          <p:nvPr/>
        </p:nvSpPr>
        <p:spPr>
          <a:xfrm>
            <a:off x="250920" y="907920"/>
            <a:ext cx="7343640" cy="5616720"/>
          </a:xfrm>
          <a:custGeom>
            <a:avLst/>
            <a:gdLst>
              <a:gd name="textAreaLeft" fmla="*/ 661680 w 7343640"/>
              <a:gd name="textAreaRight" fmla="*/ 6681960 w 73436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2824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4641" y="21600"/>
                </a:lnTo>
                <a:arcTo wR="3600" hR="3600" stAng="10800000" swAng="5400000"/>
                <a:lnTo>
                  <a:pt x="28241" y="3600"/>
                </a:lnTo>
                <a:arcTo wR="3600" hR="3600" stAng="5400000" swAng="5400000"/>
                <a:close/>
              </a:path>
            </a:pathLst>
          </a:custGeom>
          <a:solidFill>
            <a:srgbClr val="ff8b1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af273e"/>
                </a:solidFill>
                <a:latin typeface="Bookman Old Style"/>
              </a:rPr>
              <a:t>Чья эта вещь?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f273e"/>
                </a:solidFill>
                <a:latin typeface="Bookman Old Style"/>
              </a:rPr>
              <a:t>Скорлупа 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f273e"/>
                </a:solidFill>
                <a:latin typeface="Bookman Old Style"/>
              </a:rPr>
              <a:t>грецкого ореха.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f273e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0920" y="907920"/>
            <a:ext cx="7345440" cy="5618160"/>
          </a:xfrm>
          <a:custGeom>
            <a:avLst/>
            <a:gdLst>
              <a:gd name="textAreaLeft" fmla="*/ 662040 w 7345440"/>
              <a:gd name="textAreaRight" fmla="*/ 6683400 w 7345440"/>
              <a:gd name="textAreaTop" fmla="*/ 662040 h 5618160"/>
              <a:gd name="textAreaBottom" fmla="*/ 4956120 h 5618160"/>
            </a:gdLst>
            <a:ahLst/>
            <a:rect l="textAreaLeft" t="textAreaTop" r="textAreaRight" b="textAreaBottom"/>
            <a:pathLst>
              <a:path w="2824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4640" y="21600"/>
                </a:lnTo>
                <a:arcTo wR="3600" hR="3600" stAng="10800000" swAng="5400000"/>
                <a:lnTo>
                  <a:pt x="28240" y="3600"/>
                </a:lnTo>
                <a:arcTo wR="3600" hR="3600" stAng="5400000" swAng="5400000"/>
                <a:close/>
              </a:path>
            </a:pathLst>
          </a:custGeom>
          <a:solidFill>
            <a:srgbClr val="ff8b1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f273e"/>
                </a:solidFill>
                <a:latin typeface="Arial Black"/>
              </a:rPr>
              <a:t>Скорлупа 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f273e"/>
                </a:solidFill>
                <a:latin typeface="Arial Black"/>
              </a:rPr>
              <a:t>грецкого ореха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f273e"/>
                </a:solidFill>
                <a:latin typeface="Arial Black"/>
              </a:rPr>
              <a:t>принадлежит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f273e"/>
                </a:solidFill>
                <a:latin typeface="Arial Black"/>
              </a:rPr>
              <a:t>Дюймовочке.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50920" y="907920"/>
            <a:ext cx="7345440" cy="5616720"/>
          </a:xfrm>
          <a:custGeom>
            <a:avLst/>
            <a:gdLst>
              <a:gd name="textAreaLeft" fmla="*/ 661680 w 7345440"/>
              <a:gd name="textAreaRight" fmla="*/ 6683760 w 7345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2824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4648" y="21600"/>
                </a:lnTo>
                <a:arcTo wR="3600" hR="3600" stAng="10800000" swAng="5400000"/>
                <a:lnTo>
                  <a:pt x="28248" y="3600"/>
                </a:lnTo>
                <a:arcTo wR="3600" hR="3600" stAng="5400000" swAng="5400000"/>
                <a:close/>
              </a:path>
            </a:pathLst>
          </a:custGeom>
          <a:solidFill>
            <a:srgbClr val="ff8b1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af273e"/>
                </a:solidFill>
                <a:latin typeface="Bookman Old Style"/>
              </a:rPr>
              <a:t>Чья эта вещь?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f273e"/>
                </a:solidFill>
                <a:latin typeface="Arial Black"/>
              </a:rPr>
              <a:t>Красивая 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f273e"/>
                </a:solidFill>
                <a:latin typeface="Arial Black"/>
              </a:rPr>
              <a:t>бархатная шуба.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f273e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50920" y="907920"/>
            <a:ext cx="7345440" cy="5616720"/>
          </a:xfrm>
          <a:custGeom>
            <a:avLst/>
            <a:gdLst>
              <a:gd name="textAreaLeft" fmla="*/ 661680 w 7345440"/>
              <a:gd name="textAreaRight" fmla="*/ 6683760 w 7345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2824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4648" y="21600"/>
                </a:lnTo>
                <a:arcTo wR="3600" hR="3600" stAng="10800000" swAng="5400000"/>
                <a:lnTo>
                  <a:pt x="28248" y="3600"/>
                </a:lnTo>
                <a:arcTo wR="3600" hR="3600" stAng="5400000" swAng="5400000"/>
                <a:close/>
              </a:path>
            </a:pathLst>
          </a:custGeom>
          <a:solidFill>
            <a:srgbClr val="ff8b1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af273e"/>
                </a:solidFill>
                <a:latin typeface="Arial Black"/>
              </a:rPr>
              <a:t>Шуба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af273e"/>
                </a:solidFill>
                <a:latin typeface="Arial Black"/>
              </a:rPr>
              <a:t>принадлежит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af273e"/>
                </a:solidFill>
                <a:latin typeface="Arial Black"/>
              </a:rPr>
              <a:t>кроту.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907920"/>
            <a:ext cx="7345440" cy="5616720"/>
          </a:xfrm>
          <a:custGeom>
            <a:avLst/>
            <a:gdLst>
              <a:gd name="textAreaLeft" fmla="*/ 661680 w 7345440"/>
              <a:gd name="textAreaRight" fmla="*/ 6683760 w 7345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2824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4648" y="21600"/>
                </a:lnTo>
                <a:arcTo wR="3600" hR="3600" stAng="10800000" swAng="5400000"/>
                <a:lnTo>
                  <a:pt x="28248" y="3600"/>
                </a:lnTo>
                <a:arcTo wR="3600" hR="3600" stAng="5400000" swAng="5400000"/>
                <a:close/>
              </a:path>
            </a:pathLst>
          </a:custGeom>
          <a:solidFill>
            <a:srgbClr val="ff8b1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af273e"/>
                </a:solidFill>
                <a:latin typeface="Bookman Old Style"/>
              </a:rPr>
              <a:t>Чья эта вещь?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f273e"/>
                </a:solidFill>
                <a:latin typeface="Arial Black"/>
              </a:rPr>
              <a:t>Маленькая золотая 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f273e"/>
                </a:solidFill>
                <a:latin typeface="Arial Black"/>
              </a:rPr>
              <a:t>корона.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f273e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50920" y="907920"/>
            <a:ext cx="7346880" cy="5616720"/>
          </a:xfrm>
          <a:custGeom>
            <a:avLst/>
            <a:gdLst>
              <a:gd name="textAreaLeft" fmla="*/ 661680 w 7346880"/>
              <a:gd name="textAreaRight" fmla="*/ 6685200 w 734688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2825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4653" y="21600"/>
                </a:lnTo>
                <a:arcTo wR="3600" hR="3600" stAng="10800000" swAng="5400000"/>
                <a:lnTo>
                  <a:pt x="28253" y="3600"/>
                </a:lnTo>
                <a:arcTo wR="3600" hR="3600" stAng="5400000" swAng="5400000"/>
                <a:close/>
              </a:path>
            </a:pathLst>
          </a:custGeom>
          <a:solidFill>
            <a:srgbClr val="ff8b1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af273e"/>
                </a:solidFill>
                <a:latin typeface="Arial Black"/>
              </a:rPr>
              <a:t>Корона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af273e"/>
                </a:solidFill>
                <a:latin typeface="Arial Black"/>
              </a:rPr>
              <a:t>принадлежит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af273e"/>
                </a:solidFill>
                <a:latin typeface="Arial Black"/>
              </a:rPr>
              <a:t>королю эльфов.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684360" y="76464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0" spc="-1" strike="noStrike">
                <a:solidFill>
                  <a:srgbClr val="af273e"/>
                </a:solidFill>
                <a:latin typeface="Bookman Old Style"/>
              </a:rPr>
              <a:t>II</a:t>
            </a:r>
            <a:endParaRPr b="0" lang="en-US" sz="1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af273e"/>
                </a:solidFill>
                <a:latin typeface="Bookman Old Style"/>
              </a:rPr>
              <a:t>полуфинал</a:t>
            </a:r>
            <a:endParaRPr b="0" lang="en-US" sz="9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5:14:47Z</dcterms:created>
  <dc:creator>user</dc:creator>
  <dc:description/>
  <dc:language>en-US</dc:language>
  <cp:lastModifiedBy>user</cp:lastModifiedBy>
  <dcterms:modified xsi:type="dcterms:W3CDTF">2009-08-18T16:17:37Z</dcterms:modified>
  <cp:revision>14</cp:revision>
  <dc:subject/>
  <dc:title>МОУ Соколовская СОШ Зонального района Алтайского края «Ах, что за прелесть эти сказки...» Горст Ольга Александровна учитель русского языка и литературы</dc:title>
</cp:coreProperties>
</file>