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161-F980-491A-8868-020C1285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FEA-826F-489B-9530-8BFACA7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453-DEF6-4E59-B811-F6374BE8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4C9-D863-4105-B3DD-32087DB5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1505-0A8B-4F2B-902E-08A37BD8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0CEC-EF49-4216-B41A-1B3E09E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B2BE-8479-42F1-AA20-14B97982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D8D3-B287-4419-AC00-4957F5CA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3CEA-4158-4147-ADEA-EA29AF1D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6F79-E6A5-4910-9A10-E22DD8D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81DD-9669-417E-B82E-6D1DDBD4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2BF-E8B0-4210-AEA6-B7FEB0A9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F1D8-5A3C-4773-9F5F-F6BE596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7007-6D98-415B-A3EF-6C917E96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5073-E475-4CFC-B5EA-03447555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AB14-9CFB-4245-A501-450C3B8E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E7F2-A1F5-42A0-85C9-CCE9208E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AE0-95DD-4468-8DC1-69C71DD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62C-A8E6-42D2-80CF-961C7B5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798-210C-4044-AD42-6316BBBE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952-A28B-478C-89F8-227E37A3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90D-2EC4-4458-A680-40D9A50E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863-3EFF-4D53-ABEE-DB52B89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D1C-0453-4DD8-879B-FEF35B4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551-B364-4CBC-B7E5-E253AD488C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002A-7FB5-4FF4-B138-A32EB6923C5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Воспитание гуманного отношения к животным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56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дготовила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аак Елена Валентиновна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скаленского лице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Добрые» животны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56360" y="3789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24360" y="1557360"/>
            <a:ext cx="22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276720" y="270972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Злые» животны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27280" y="3903840"/>
            <a:ext cx="3889440" cy="252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516720" y="4149720"/>
            <a:ext cx="2227320" cy="222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059280" y="112536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796000" y="126828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3860640"/>
            <a:ext cx="356400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Злые» потому ч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Эти животные могут принести вред человеку (волк, тигр, крокодил «убивают людей», «овечку, а она приносит пользу человеку»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вредят другим животным («убивают мелких животных»)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они «безжалостные», «совершают плохие поступки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лицетворение прир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осприятие детьми окружающего мира, когда ребенок неосознанно переносит черты, события, свойственные человеку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5520" y="1589040"/>
            <a:ext cx="4032000" cy="4462560"/>
            <a:chOff x="425520" y="1589040"/>
            <a:chExt cx="4032000" cy="4462560"/>
          </a:xfrm>
        </p:grpSpPr>
        <p:cxnSp>
          <p:nvCxnSpPr>
            <p:cNvPr id="136" name="_s10255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2700360" y="3113640"/>
              <a:ext cx="893160" cy="14119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9" name="_s10254"/>
            <p:cNvCxnSpPr>
              <a:stCxn id="140" idx="0"/>
              <a:endCxn id="138" idx="2"/>
            </p:cNvCxnSpPr>
            <p:nvPr/>
          </p:nvCxnSpPr>
          <p:spPr>
            <a:xfrm flipV="1">
              <a:off x="2441160" y="3373200"/>
              <a:ext cx="1800" cy="893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1" name="_s10253"/>
            <p:cNvCxnSpPr>
              <a:stCxn id="142" idx="0"/>
              <a:endCxn id="138" idx="2"/>
            </p:cNvCxnSpPr>
            <p:nvPr/>
          </p:nvCxnSpPr>
          <p:spPr>
            <a:xfrm flipH="1" flipV="1" rot="5400000">
              <a:off x="1289520" y="3114000"/>
              <a:ext cx="893160" cy="14119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8" name="_s10249"/>
            <p:cNvSpPr/>
            <p:nvPr/>
          </p:nvSpPr>
          <p:spPr>
            <a:xfrm>
              <a:off x="1836720" y="158904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Verdana"/>
                </a:rPr>
                <a:t>Человек</a:t>
              </a:r>
              <a:br>
                <a:rPr sz="1000"/>
              </a:b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eaeaea"/>
                  </a:solidFill>
                  <a:latin typeface="Verdana"/>
                </a:rPr>
                <a:t>Животные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_s10250"/>
            <p:cNvSpPr/>
            <p:nvPr/>
          </p:nvSpPr>
          <p:spPr>
            <a:xfrm>
              <a:off x="425520" y="426672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«могут совер-</a:t>
              </a:r>
              <a:br>
                <a:rPr sz="1000"/>
              </a:b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шать</a:t>
              </a:r>
              <a:br>
                <a:rPr sz="1000"/>
              </a:b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плохие</a:t>
              </a:r>
              <a:br>
                <a:rPr sz="1000"/>
              </a:b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и хорошие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поступки»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_s10251"/>
            <p:cNvSpPr/>
            <p:nvPr/>
          </p:nvSpPr>
          <p:spPr>
            <a:xfrm>
              <a:off x="1836720" y="426672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«иметь поло-</a:t>
              </a:r>
              <a:br>
                <a:rPr sz="1000"/>
              </a:b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жительные или</a:t>
              </a:r>
              <a:br>
                <a:rPr sz="1000"/>
              </a:b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отрицательные</a:t>
              </a:r>
              <a:br>
                <a:rPr sz="1000"/>
              </a:b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черты</a:t>
              </a:r>
              <a:br>
                <a:rPr sz="1000"/>
              </a:br>
              <a:r>
                <a:rPr b="0" lang="ru-RU" sz="1000" spc="-1" strike="noStrike">
                  <a:solidFill>
                    <a:srgbClr val="eaeaea"/>
                  </a:solidFill>
                  <a:latin typeface="Verdana"/>
                </a:rPr>
                <a:t>характера»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_s10252"/>
            <p:cNvSpPr/>
            <p:nvPr/>
          </p:nvSpPr>
          <p:spPr>
            <a:xfrm>
              <a:off x="3247920" y="426672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Verdana"/>
                </a:rPr>
                <a:t>«быть добрыми </a:t>
              </a:r>
              <a:br>
                <a:rPr sz="1000"/>
              </a:br>
              <a:r>
                <a:rPr b="0" lang="en-US" sz="1000" spc="-1" strike="noStrike">
                  <a:solidFill>
                    <a:srgbClr val="eaeaea"/>
                  </a:solidFill>
                  <a:latin typeface="Verdana"/>
                </a:rPr>
                <a:t>и злыми»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то необходимо для преодоления негативного отношения к животны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овести до сознания детей, что опасность от крупных хищников, пресмыкающихся, змей сильно преувеличена, т.к. этих животных по вине человека становится все меньше;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казать экологические особенности этих животных, их роль в природе;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бращать внимание детей на трогательную заботу зверей о своем потомстве;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здавать ситуации, в которых дети могли бы поставить себя на место животных, выступить в роли их защитн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«…я не могу обвинять 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животных, такими их создала природа, и все они нужны…»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8:21:50Z</dcterms:created>
  <dc:creator>Customer</dc:creator>
  <dc:description/>
  <dc:language>en-US</dc:language>
  <cp:lastModifiedBy>Катенок</cp:lastModifiedBy>
  <dcterms:modified xsi:type="dcterms:W3CDTF">2010-04-05T18:31:50Z</dcterms:modified>
  <cp:revision>4</cp:revision>
  <dc:subject/>
  <dc:title>Воспитание гуманного отношения к животным</dc:title>
</cp:coreProperties>
</file>