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B7C-A1E7-4ADD-B170-4C0914F4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527-F88B-483A-BE91-466DF70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8CA-258C-4F01-A593-3117FCC4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B00-9B17-4E5E-975E-D2DE681E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336-AC54-4F83-A46B-4DC91FA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C69-3532-41AD-A3FD-F52AA00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65F-A933-4723-AB20-FF0A9CE2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9F9-13CF-456C-8B43-6B911C8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A58-370C-46A0-B62D-0811E23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58B-7A94-47C8-AEA3-8D410E3D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6D5-A3DD-4ACA-AA08-95C0BF2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8FD-6195-4BFF-ADCA-D96A5DF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E3F-09BC-4E32-8B8B-C9ABC0839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хема анализа урока английского языка в 3 «б» класс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j0239383.wmf"/>
          <p:cNvPicPr/>
          <p:nvPr/>
        </p:nvPicPr>
        <p:blipFill>
          <a:blip r:embed="rId2"/>
          <a:stretch/>
        </p:blipFill>
        <p:spPr>
          <a:xfrm>
            <a:off x="2857680" y="3279600"/>
            <a:ext cx="3286080" cy="2006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000680" y="50007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-СОШ села Озёрно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реева Натали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571760" y="114300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5964"/>
                </a:solidFill>
                <a:latin typeface="Arial"/>
              </a:rPr>
              <a:t>3. Выв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7680" y="782640"/>
            <a:ext cx="3929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j0290680.wmf"/>
          <p:cNvPicPr/>
          <p:nvPr/>
        </p:nvPicPr>
        <p:blipFill>
          <a:blip r:embed="rId2"/>
          <a:stretch/>
        </p:blipFill>
        <p:spPr>
          <a:xfrm>
            <a:off x="2428920" y="3429000"/>
            <a:ext cx="4357800" cy="260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15964"/>
                </a:solidFill>
                <a:latin typeface="Calibri"/>
              </a:rPr>
              <a:t>1. Анализ методической структуры  и содержания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43200" y="4643280"/>
            <a:ext cx="12146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. Цели и задач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вершенствовать умения  и навыки устной реч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сширение кругозора учащихся через лингвострановедческую информаци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вивать навыки аудирова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интерес к изучению английского язы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Водяные лилии.jpg"/>
          <p:cNvPicPr/>
          <p:nvPr/>
        </p:nvPicPr>
        <p:blipFill>
          <a:blip r:embed="rId2"/>
          <a:stretch/>
        </p:blipFill>
        <p:spPr>
          <a:xfrm>
            <a:off x="2195640" y="3429000"/>
            <a:ext cx="400032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сновные задач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актика речевой деятельности (монологической и диалогическо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ация лексики по т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формирование и развитие коммуникативных ум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сширение словарного зап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итие мышления, умения дать оценку, высказать своё мнение на английском язы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теллектуальное развит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итие фантазии, вообра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ивать умения и навыки чтения про себя с полным пониманием  прочитан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цио-культур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итие образного мыш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ширение кругоз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ормирование уважения и интереса к изучению английского язы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оспитание культуры общ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ормирование умения работать в парах, помогать друг 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. Характеристика языкового и речевого материал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) отобранные языковые единицы для уро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1428840"/>
          <a:ext cx="8715600" cy="528624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  <a:gridCol w="2179800"/>
                <a:gridCol w="2178000"/>
              </a:tblGrid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 to Bethle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gero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de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sb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bor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ve a birth to her chi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righ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ppe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a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t of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0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материала для повторени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) Языковые трудности при введении   нового материала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нового материала с пройденным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екватность ситуаций предъявления и активизации нового материала речевому опыту учащихся.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 Оснащение урока. Виды наглядности и технические средства обуч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7856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4. Методическая структура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71360"/>
            <a:ext cx="4038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Этапы урока и их общая характерис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Организация начала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Основные виды работ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Методическая характеристика упражнений и техники их выпол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Соответствие методической структуры урока его целям и услов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8760" y="2071800"/>
          <a:ext cx="3857400" cy="478296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етическая заря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чевая заря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омство с историей празднования Рожд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с текстом учеб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мин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ыгрывание рождественской вечери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итогов урока, выставление отме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0" y="6429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Arial"/>
              </a:rPr>
              <a:t>2. Анализ организаторской, коммуникативно – обучающ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Arial"/>
              </a:rPr>
              <a:t>и воспитывающей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0" y="2142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ление делового контакта с класс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овка учащихся на выполнение плана урока (сообщение цели и задач уро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фронтальной, групповой и индивидуальной форм работ учащихся и их соотно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е учащихся приёмам самостоятельной работы над язы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ость использования наглядных пособий 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контроля над работой учащихся, выявление и исправление оши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ивность и воспитательная направленность оценок за ур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й такт 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ость и эмоциональная выразительность речи учителя при ведении урока на английском язык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енок</cp:lastModifiedBy>
  <dcterms:modified xsi:type="dcterms:W3CDTF">2010-04-08T14:26:29Z</dcterms:modified>
  <cp:revision>30</cp:revision>
  <dc:subject/>
  <dc:title>Анализ методической структуры  и содержания урока</dc:title>
</cp:coreProperties>
</file>