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A2B-2F15-464F-84BC-56420242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5A9-5A6F-4F81-BC85-1E03CAC3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EB0-958D-4803-8927-423C2AF1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EF1-8EE0-4A57-BCDC-4EF2AA1C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9689-F7D7-49F1-8EEB-3A51BC3D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F26B-F566-46A6-BE76-F173C321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8066-7B20-4D59-B0B4-55B24490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31FE-92AC-4A0F-A2EB-9831328B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08A2-5EDC-4537-8B5D-DD991567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DF0D-D667-416F-B897-8DF8E125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7CE9-A00F-4AC6-8DF2-FB7F978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E7D-50A2-4B6D-931E-29AC085E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569A-0D8B-4D35-8C62-DAFB204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86D3-E721-4DE8-8669-1BFFB1ED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2928-D7E3-42C8-8E94-DFA85D2F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EAE8-505D-4F78-A273-0921F975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003D-C8D2-4284-B064-3E0346C9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FF0-CADC-49D4-A3F0-D3268F93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CE1-D237-4860-8A23-A20A6CF3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3A7-3FD7-473E-A49C-164DE959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34E-4DF2-4E7F-8605-ABB7611D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8F0-30C2-41A6-BB0F-F804DCEE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103-FBD2-4AF8-ACB2-BB420C44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BD8-E0FB-4674-AD56-E6793A79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6ECB-FEB0-4064-B8DB-A284DC3E18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1F1B-C781-46D4-B280-07F1B17F80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729.html" TargetMode="External"/><Relationship Id="rId3" Type="http://schemas.openxmlformats.org/officeDocument/2006/relationships/hyperlink" Target="http://www.aforism.su/avtor/729.html" TargetMode="External"/><Relationship Id="rId4" Type="http://schemas.openxmlformats.org/officeDocument/2006/relationships/hyperlink" Target="http://www.aforism.su/avtor/729.html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647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phorism-list.com/autors.php?page=lokk&amp;tkautors=lokk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203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lenchinkova.com/index.html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309.htm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          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Родительское собрание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                ( круглый стол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66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Verdan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Развитие внимания у младшего школь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Выявление признаков  дефицита вним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Рекомендации учителя по развитию внимания у детей 6 – 8 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Анкета «Мудрые мысли о воспит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                                       </a:t>
            </a:r>
            <a:r>
              <a:rPr b="1" i="1" lang="en-US" sz="1300" spc="-1" strike="noStrike">
                <a:solidFill>
                  <a:srgbClr val="0033cc"/>
                </a:solidFill>
                <a:latin typeface="Verdana"/>
              </a:rPr>
              <a:t>Каменева Т.А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33cc"/>
                </a:solidFill>
                <a:latin typeface="Verdana"/>
              </a:rPr>
              <a:t>                                                                                         </a:t>
            </a:r>
            <a:r>
              <a:rPr b="1" i="1" lang="en-US" sz="1300" spc="-1" strike="noStrike">
                <a:solidFill>
                  <a:srgbClr val="0033cc"/>
                </a:solidFill>
                <a:latin typeface="Verdana"/>
              </a:rPr>
              <a:t>МОУ «СОШ № 1» г.Валуйк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33cc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1" i="1" lang="en-US" sz="1300" spc="-1" strike="noStrike">
                <a:solidFill>
                  <a:srgbClr val="0033cc"/>
                </a:solidFill>
                <a:latin typeface="Verdana"/>
              </a:rPr>
              <a:t>Белгородской област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езультаты анкет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знаки гиперактивности (симптомы 1, 2, 9, 10)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внимательности и отвлекаемости (симптомы 3, 6—8, 12, 13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мпульсивности (симптомы 4, 5, 11, 14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нке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Мудрые мысли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о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воспитании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детей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24480" y="4119480"/>
            <a:ext cx="28195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Гераклит Эфесский (р.ок.544-540 до н. э.?), древнегреческий философ-материали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Своеволие следует гасить скорее, чем пожар.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Фуллер</a:t>
            </a:r>
            <a:r>
              <a:rPr b="0" lang="ru-RU" sz="3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Томас (1608—1661), английский литератор</a:t>
            </a:r>
            <a:r>
              <a:rPr b="0" lang="ru-RU" sz="3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Пусть первым уроком ребенка будет повиновение,— тогда вторым может стать то, что ты считаешь необходимым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Сухомлинский В. А</a:t>
            </a:r>
            <a:r>
              <a:rPr b="0" lang="en-US" sz="3600" spc="-1" strike="noStrike" u="sng">
                <a:solidFill>
                  <a:srgbClr val="0033cc"/>
                </a:solidFill>
                <a:uFillTx/>
                <a:latin typeface="Verdana"/>
              </a:rPr>
              <a:t> (1918-1970) советский педаго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Если люди говорят плохое о твоих детях — это значит, они говорят плохое о тебе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Verdana"/>
              </a:rPr>
              <a:t>Писемский Алексей  (1821—1881), рус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Быть бессмысленно добрым так же глупо,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как и быть безумно    строгим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Д. Локк</a:t>
            </a:r>
            <a:r>
              <a:rPr b="0" lang="en-US" sz="3600" spc="-1" strike="noStrike" u="sng">
                <a:solidFill>
                  <a:srgbClr val="0033cc"/>
                </a:solidFill>
                <a:uFillTx/>
                <a:latin typeface="Verdana"/>
              </a:rPr>
              <a:t> (1632-1704),  английский филосо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Девять десятых тех людей, с которыми мы встречаемся, являются тем, что они есть – добрыми или злыми, полезными или бесполезными – благодаря воспитанию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Горький М.</a:t>
            </a:r>
            <a:r>
              <a:rPr b="0" lang="en-US" sz="3600" spc="-1" strike="noStrike" u="sng">
                <a:solidFill>
                  <a:srgbClr val="0033cc"/>
                </a:solidFill>
                <a:uFillTx/>
                <a:latin typeface="Verdana"/>
              </a:rPr>
              <a:t> (1868-1936) совет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Любить детей — это и курица умеет. А вот уметь воспитывать их — это великое  дело, требующее таланта и широкого знания жизни.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Verdana"/>
              </a:rPr>
              <a:t>Руссо Жан-Жак (1712—1778), французский философ, писатель и педаго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Знаете ли, какой самый верный способ сделать вашего ребенка несчастным,— это приучить его не встречать ни в чем отказа.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Verdana"/>
              </a:rPr>
              <a:t>Коменский Ян Амос (1592-1670), чешский педагог-гуманист, общественный дея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Дети охотно всегда чем-нибудь занимаются. Это весьма полезно, а потому не только не следует этому мешать, но нужно принимать меры к тому, чтобы всегда у них было что делать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Добро пожаловать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2743200"/>
            <a:ext cx="6629400" cy="41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36482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0033cc"/>
                </a:solidFill>
                <a:latin typeface="Verdana"/>
              </a:rPr>
              <a:t>Цвейг Стефан (1881—1942), австрий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Наивысшего человек достигает тогда, когда подает хороший пример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Анатоль Бройяр (политический обозреватель газеты «Нью – Йорк Таймс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Было время, когда от детей не ожидали ничего, кроме послушания; теперь от них ожидают всего, кроме послушания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Ренар Жюль (1864 – 1910) – француз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Гораздо легче говорит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с толпой, че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с отдельным                     индивидуумом.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Карамзин Н. М.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Verdana"/>
              </a:rPr>
              <a:t> (1766-1826) русский писатель, исто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Без хороших отцов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нет хорошего воспитания, несмотря на все школы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Verdana"/>
              </a:rPr>
              <a:t>Моруа Андре - (1885-1967) - французский писатель, мастер психологического       романа и романизированной биографии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Товарищи воспитывают гораздо лучше, чем родители, ибо им не свойственна жалость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Verdana"/>
              </a:rPr>
              <a:t>Литвак М. Е.- (род. 1938) автор более 20 книг посвященных актуальным вопросам психологии и психотерап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Когда ругаешь ребенка, подумай, нет ли в тебе этих качеств, ведь это же ТВОЙ ребенок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44136af72e62 (340x100, 24Kb)"/>
          <p:cNvPicPr/>
          <p:nvPr/>
        </p:nvPicPr>
        <p:blipFill>
          <a:blip r:embed="rId2"/>
          <a:stretch/>
        </p:blipFill>
        <p:spPr>
          <a:xfrm>
            <a:off x="762120" y="2057400"/>
            <a:ext cx="838188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160" y="4572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азвитие вним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Что такое внима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Виды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Свойства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Причины невнимате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.Проявления синдромов дефицита 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.Упражнения на развитие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 – 2 -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 Часто наблюдаются беспокойные движения в кистях и стопах. Сидя на стуле, ребенок корчится, извивае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 Не может спокойно сидеть на месте, когда это требуе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 Легко отвлекается на посторонние стиму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4 -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 С трудом дожидается своей очереди во время игр и в различных ситуациях в коллективе (занятия в школе, экскурсии и т. д.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. На вопросы часто отвечает, не задумываясь, не выслушав их до конц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 - 7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. При выполнении предложенных заданий испытывает сложности (не связанные с негативным поведением или недостаточностью понимания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. С трудом сохраняет внимание при выполнении заданий или во время игр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8 – 9 -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. Часто переходит от одного незавершенного действия к другому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. Не может играть тихо, спокойн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. Болтливы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1 - 1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1. Мешает другим, пристает к окружающим (например, вмешивается в игры других детей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2. Часто складывается впечатление, что ребенок не слушает обращенную к нему речь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3 - 1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3. Теряет вещи, необходимые в школе и дома (например, игрушки, карандаши, книги и одежду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4. Часто совершает опасные действия, не задумываясь о последствиях (например, выбегает на улицу, не оглядываясь по сторонам). При этом не ищет приключений или острых ощущени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тенок</cp:lastModifiedBy>
  <dcterms:modified xsi:type="dcterms:W3CDTF">2010-07-03T18:11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