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6D1-8C11-44DB-B79D-488CC35A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6D8-A676-48E0-A033-E4FACDD5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77AB-A188-4D2A-80DC-2E05C224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C86F-023F-4937-A069-236D1689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BA53-6016-45B8-915B-E3A0CFFE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0E7-8959-492B-93E0-C3B63C9D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425-66A2-4DE4-B504-E7EE76C0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615-16FC-469A-8844-3C6C12AE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042-E784-403A-B391-022D340D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915D-CF10-4A0A-B7A5-BA9DFE88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73A-A33E-450B-8B47-563096EF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C457-58FB-4155-BCE8-E73C5FD5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BB08-1BD4-4149-9BFC-8B0E7AA91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Kozuka Mincho Pro H"/>
              </a:rPr>
              <a:t>Социальные нормы и</a:t>
            </a:r>
            <a:br>
              <a:rPr sz="4800"/>
            </a:br>
            <a:r>
              <a:rPr b="1" lang="en-US" sz="4800" spc="-1" strike="noStrike">
                <a:solidFill>
                  <a:srgbClr val="660033"/>
                </a:solidFill>
                <a:latin typeface="Kozuka Mincho Pro H"/>
              </a:rPr>
              <a:t>отклоняющееся повед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гда в обществе может повыситься количество явлений девиантного повед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ном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состояние общества, когда ранее общепринятые нормы, ценности и узаконенные способы достижения целей произвольно игнорируются индивидами или группами или расцениваются ими как необязатель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«аномичное общество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Индивидуальные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Blackoak Std"/>
              </a:rPr>
              <a:t>Отклон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Групп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Перви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Blackoak Std"/>
              </a:rPr>
              <a:t>Откло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lackoak Std"/>
              </a:rPr>
              <a:t>                 </a:t>
            </a:r>
            <a:r>
              <a:rPr b="1" lang="en-US" sz="3600" spc="-1" strike="noStrike">
                <a:solidFill>
                  <a:srgbClr val="333300"/>
                </a:solidFill>
                <a:latin typeface="Blackoak Std"/>
              </a:rPr>
              <a:t>Втори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492360" y="1341360"/>
            <a:ext cx="165600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2492280"/>
            <a:ext cx="1728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9640" y="4292280"/>
            <a:ext cx="1657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5280" y="5013360"/>
            <a:ext cx="1513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еступно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самое опасное проявление отклоняющегося поведения, наносящее наибольший ущерб общест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еступле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это посягающее на правопорядок общественно опасное деяние, предусмотренное 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.16, вопросы и задания на с.183-18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ть эсс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Arial"/>
              </a:rPr>
              <a:t>«Общество готовит преступление, преступник совершает его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Arial"/>
              </a:rPr>
              <a:t>(англ. историк Г.Т. Бак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Kozuka Mincho Pro H"/>
              </a:rPr>
              <a:t>Повтор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dobe Caslon Pro Bold"/>
              </a:rPr>
              <a:t>Социальная стратифик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dobe Caslon Pro Bold"/>
              </a:rPr>
              <a:t>Социальная моби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dobe Caslon Pro Bold"/>
              </a:rPr>
              <a:t>Социальные «лифт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dobe Caslon Pro Bold"/>
              </a:rPr>
              <a:t>Социальные нор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dobe Caslon Pro Bold"/>
              </a:rPr>
              <a:t>Социальный контр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dobe Caslon Pro Bold"/>
              </a:rPr>
              <a:t>Социальные са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dobe Caslon Pro Bold"/>
              </a:rPr>
              <a:t>Самоконтр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пределите вид социальной нор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ждый мусульманин должен в праздник Курбан-байрам подать бедным деньги или пищ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ажданин имеет право участвовать в голосовании с 18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четное место за столом предоставляется главе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начение премьер-министром лидера партии, победившей на выбо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1052280"/>
            <a:ext cx="793116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Если бедность – мать преступлений, то недостаток  ума – их отец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Л.Н. Толст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Garamond Pro Bold"/>
              </a:rPr>
              <a:t>Социальные нормы регулируют поведение людей тремя способа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Дозвол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дпис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апр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Девиантное повед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(от лат. уклонение)-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тклоняющееся от общепризнанных норм социальное действие, поступки людей или социальных групп, приводящие к нарушению этих норм и вызывающие необходимость соответствующего регулирования социальной группы или общества в цел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гласны ли в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азных странах, в разные эпохи было свое представление о деви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о, что в одной группе норма, в другой может быть девиаци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Делинквентное поведени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– преступное пове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Девиантное поведение относительно, делинквентное абсолю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лкого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Хулиган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Нарком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граб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7:13:07Z</dcterms:created>
  <dc:creator>Loner-XP</dc:creator>
  <dc:description/>
  <dc:language>en-US</dc:language>
  <cp:lastModifiedBy>Loner-XP</cp:lastModifiedBy>
  <dcterms:modified xsi:type="dcterms:W3CDTF">2009-01-29T18:15:25Z</dcterms:modified>
  <cp:revision>2</cp:revision>
  <dc:subject/>
  <dc:title>Социальные нормы и отклоняющееся поведение</dc:title>
</cp:coreProperties>
</file>