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12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6.gif" ContentType="image/gif"/>
  <Override PartName="/ppt/media/image13.wmf" ContentType="image/x-wmf"/>
  <Override PartName="/ppt/media/image10.gif" ContentType="image/gif"/>
  <Override PartName="/ppt/media/image26.wmf" ContentType="image/x-wmf"/>
  <Override PartName="/ppt/media/image24.wmf" ContentType="image/x-wmf"/>
  <Override PartName="/ppt/media/image23.wmf" ContentType="image/x-wmf"/>
  <Override PartName="/ppt/media/image14.wmf" ContentType="image/x-wmf"/>
  <Override PartName="/ppt/media/image3.gif" ContentType="image/gif"/>
  <Override PartName="/ppt/media/image17.jpeg" ContentType="image/jpeg"/>
  <Override PartName="/ppt/media/image21.gif" ContentType="image/gif"/>
  <Override PartName="/ppt/media/image1.png" ContentType="image/png"/>
  <Override PartName="/ppt/media/image25.jpeg" ContentType="image/jpeg"/>
  <Override PartName="/ppt/media/image2.png" ContentType="image/png"/>
  <Override PartName="/ppt/media/image4.gif" ContentType="image/gif"/>
  <Override PartName="/ppt/media/image15.wmf" ContentType="image/x-wmf"/>
  <Override PartName="/ppt/media/image5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FA5-69A9-407C-BB7B-A51775BD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9ED-E685-4460-80EA-D59BD4B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D8D-53B9-4DD5-AF8B-4129FFF6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83C-6375-48B0-B2F8-90E1FB32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17E-6CDF-4C2D-A5E3-396EF18C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C29-0B00-40E6-A049-A60FF50A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5E9-06A5-4E34-99C2-012D183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3EA-9E2F-4C94-8129-EA0FA59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B91-179D-4D07-8BEF-DC96FFC9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F18-A9F8-458A-9D4A-4485FDF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4DC-EC9C-499C-B6DD-D71E59C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EBD-EF5C-427A-B231-7FC85085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5512-BEDA-4DF6-A61E-EC6A2811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303640"/>
            <a:ext cx="5759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редстав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396200">
            <a:off x="7946640" y="207972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961200">
            <a:off x="8127720" y="458640"/>
            <a:ext cx="66348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1444600">
            <a:off x="4392360" y="54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20710200">
            <a:off x="4257360" y="458280"/>
            <a:ext cx="668160" cy="6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0027400">
            <a:off x="431640" y="5724000"/>
            <a:ext cx="671760" cy="6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9690200">
            <a:off x="431640" y="36828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20440200">
            <a:off x="476280" y="3068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411200">
            <a:off x="7946640" y="56340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989600">
            <a:off x="6237000" y="953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rot="19338600">
            <a:off x="2815920" y="5049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9786800">
            <a:off x="1106640" y="1584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1762200">
            <a:off x="6281280" y="5319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18904200">
            <a:off x="2276280" y="233280"/>
            <a:ext cx="949320" cy="968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2505600">
            <a:off x="7812000" y="3743280"/>
            <a:ext cx="870120" cy="94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971640" y="4373640"/>
            <a:ext cx="1027080" cy="1060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32000" y="630864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раськина Ир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Задание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449000"/>
            <a:ext cx="8596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гадайте загадку. Ответ представьте в виде графическ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Словно смелый капитан!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А на нем -  горит экран.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Яркой радугой он дышит,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И на нем компьютер пишет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И рисует без запинки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Всевозможные картинки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Наверху машины всей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ef8"/>
                </a:solidFill>
                <a:latin typeface="Arial"/>
              </a:rPr>
              <a:t>Размещает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42000" y="2843280"/>
            <a:ext cx="396072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60"/>
                            </p:stCondLst>
                            <p:childTnLst>
                              <p:par>
                                <p:cTn id="297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6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4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60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44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28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88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6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57360" y="324000"/>
            <a:ext cx="654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2ef8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1640" y="2214720"/>
            <a:ext cx="58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 8 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ить на вопросы на стр.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2000" y="279360"/>
            <a:ext cx="898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2ef8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67360" y="1177920"/>
            <a:ext cx="1935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736280" y="1268280"/>
            <a:ext cx="1755720" cy="103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392200"/>
            <a:ext cx="29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ф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7720" y="2484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екст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72000" y="243828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ис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6640" y="131292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6640" y="3203640"/>
            <a:ext cx="2116080" cy="1928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32360" y="338292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7720" y="3024360"/>
            <a:ext cx="202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ки красные, спелые и с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280" y="54547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дну и туже информацию можно представить разными способам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Графическ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7360" y="1449360"/>
            <a:ext cx="1214640" cy="67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37000" y="1449360"/>
            <a:ext cx="125856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2360" y="234936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артинки (фотограф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32360" y="239400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46280" y="2933640"/>
            <a:ext cx="2334960" cy="29466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5607000" y="3114720"/>
            <a:ext cx="2384280" cy="2249280"/>
            <a:chOff x="5607000" y="3114720"/>
            <a:chExt cx="2384280" cy="2249280"/>
          </a:xfrm>
        </p:grpSpPr>
        <p:sp>
          <p:nvSpPr>
            <p:cNvPr id="76" name=""/>
            <p:cNvSpPr/>
            <p:nvPr/>
          </p:nvSpPr>
          <p:spPr>
            <a:xfrm>
              <a:off x="5607000" y="3114720"/>
              <a:ext cx="2384280" cy="224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02360" y="3654360"/>
              <a:ext cx="314280" cy="31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51280" y="3970080"/>
              <a:ext cx="227160" cy="315720"/>
            </a:xfrm>
            <a:custGeom>
              <a:avLst/>
              <a:gdLst/>
              <a:ahLst/>
              <a:rect l="l" t="t" r="r" b="b"/>
              <a:pathLst>
                <a:path w="114" h="232">
                  <a:moveTo>
                    <a:pt x="114" y="0"/>
                  </a:moveTo>
                  <a:cubicBezTo>
                    <a:pt x="57" y="83"/>
                    <a:pt x="0" y="166"/>
                    <a:pt x="0" y="199"/>
                  </a:cubicBezTo>
                  <a:cubicBezTo>
                    <a:pt x="0" y="232"/>
                    <a:pt x="100" y="199"/>
                    <a:pt x="114" y="1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51280" y="4644720"/>
              <a:ext cx="358920" cy="448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25920" y="3654360"/>
              <a:ext cx="314280" cy="31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76640" y="2572920"/>
            <a:ext cx="49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Числовая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294200">
            <a:off x="205920" y="3833280"/>
            <a:ext cx="2200320" cy="1411560"/>
          </a:xfrm>
          <a:prstGeom prst="cloudCallout">
            <a:avLst>
              <a:gd name="adj1" fmla="val -84606"/>
              <a:gd name="adj2" fmla="val 49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 4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446640" y="4959360"/>
            <a:ext cx="2295360" cy="1393920"/>
          </a:xfrm>
          <a:prstGeom prst="cloudCallout">
            <a:avLst>
              <a:gd name="adj1" fmla="val -4152"/>
              <a:gd name="adj2" fmla="val 126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+6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1068800">
            <a:off x="5967360" y="232920"/>
            <a:ext cx="2657520" cy="1411200"/>
          </a:xfrm>
          <a:prstGeom prst="cloudCallout">
            <a:avLst>
              <a:gd name="adj1" fmla="val 84509"/>
              <a:gd name="adj2" fmla="val -107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294200">
            <a:off x="6732360" y="4014000"/>
            <a:ext cx="2063520" cy="1243080"/>
          </a:xfrm>
          <a:prstGeom prst="cloudCallout">
            <a:avLst>
              <a:gd name="adj1" fmla="val 51064"/>
              <a:gd name="adj2" fmla="val 93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294200">
            <a:off x="701280" y="368280"/>
            <a:ext cx="2657520" cy="1411200"/>
          </a:xfrm>
          <a:prstGeom prst="cloudCallout">
            <a:avLst>
              <a:gd name="adj1" fmla="val -76680"/>
              <a:gd name="adj2" fmla="val -113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50, 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29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екстов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7360" y="2303640"/>
            <a:ext cx="657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2000" y="368280"/>
            <a:ext cx="4321080" cy="1800360"/>
          </a:xfrm>
          <a:prstGeom prst="wedgeEllipseCallout">
            <a:avLst>
              <a:gd name="adj1" fmla="val 31004"/>
              <a:gd name="adj2" fmla="val 10961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о в учебнике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1062000" y="4554360"/>
            <a:ext cx="5805360" cy="1665360"/>
          </a:xfrm>
          <a:prstGeom prst="wedgeEllipseCallout">
            <a:avLst>
              <a:gd name="adj1" fmla="val -50027"/>
              <a:gd name="adj2" fmla="val 9242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ой 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68280"/>
            <a:ext cx="4321080" cy="1800360"/>
          </a:xfrm>
          <a:prstGeom prst="wedgeEllipseCallout">
            <a:avLst>
              <a:gd name="adj1" fmla="val -33467"/>
              <a:gd name="adj2" fmla="val 1059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 у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92000" y="907920"/>
            <a:ext cx="73360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едставления информации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бр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помни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дум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бр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особ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стави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нформацию в виде устной реч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а, рисунка, сх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986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986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едставить информацию - означает сделать запись, рисунок,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2360" y="1494000"/>
            <a:ext cx="823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7986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6640" y="1314360"/>
            <a:ext cx="6975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 информации на носителе — это одно из действий с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о позволяет человеку передавать информацию и долго хранить её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я представляется в памяти компьютера  в виде 0 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компьютера можно представить, сохранить и передать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597720" y="4824360"/>
            <a:ext cx="254628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42920"/>
            <a:ext cx="1125360" cy="109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82000" y="142920"/>
            <a:ext cx="1803240" cy="105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5170320"/>
            <a:ext cx="196200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514440" y="1042920"/>
            <a:ext cx="9477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пределите какая информация представлена в треугольника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1280" y="1898640"/>
            <a:ext cx="2701800" cy="2340000"/>
          </a:xfrm>
          <a:prstGeom prst="flowChartExtra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ение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4616280" y="4284360"/>
            <a:ext cx="2656080" cy="2384280"/>
          </a:xfrm>
          <a:prstGeom prst="flowChartExtra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1557000" y="4329000"/>
            <a:ext cx="2655720" cy="2384640"/>
          </a:xfrm>
          <a:prstGeom prst="flowChartExtra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.11.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085920" y="1854000"/>
            <a:ext cx="2655720" cy="23842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7126200">
            <a:off x="4975920" y="2394360"/>
            <a:ext cx="2656080" cy="2384640"/>
          </a:xfrm>
          <a:prstGeom prst="flowChartExtra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86280" y="4329000"/>
            <a:ext cx="2655720" cy="238464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81280" y="4869000"/>
            <a:ext cx="1803600" cy="171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7000" y="4734000"/>
            <a:ext cx="1216080" cy="111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19903200">
            <a:off x="3851280" y="2349360"/>
            <a:ext cx="1349280" cy="131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81280" y="1854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С 8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33847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сен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67360" y="432900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6280" y="1538280"/>
            <a:ext cx="439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ая информация представлена на слай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ьте эту информацию в числовом и текст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6640" y="1449360"/>
            <a:ext cx="3237120" cy="47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0:21:08Z</dcterms:created>
  <dc:creator>_</dc:creator>
  <dc:description/>
  <dc:language>en-US</dc:language>
  <cp:lastModifiedBy>Катенок</cp:lastModifiedBy>
  <dcterms:modified xsi:type="dcterms:W3CDTF">2010-03-18T17:38:36Z</dcterms:modified>
  <cp:revision>57</cp:revision>
  <dc:subject/>
  <dc:title>Слайд 1</dc:title>
</cp:coreProperties>
</file>