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8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2.png" ContentType="image/png"/>
  <Override PartName="/ppt/media/image2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DA8-392F-47DE-9860-A7EEF03C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124-826F-4E53-86A7-D7C77347D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2CE-7E95-4854-A821-E7F65F71C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3873-7CBC-4C22-968A-911AE8A5D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3AF22-9939-49EE-8B18-90944359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644C7-B752-4B6C-96DA-3130C21C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3A949-5DC0-4C88-9EAA-C9B181CD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1851-8D0A-4567-9192-E4D3EFFD2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EF60-4B05-4B45-ABDC-4E303A0C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6AE7-0FA6-4FA1-A002-00D641167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9589E-459B-43EB-892A-CD9B1FDF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30C2-C68A-4CE8-94FE-7ADA9195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A0B4-6D23-48A7-AE59-D568A0CB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9C0D6-ECDD-4622-AFFA-9AE9F798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4C56-39B2-4825-8936-064A010F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CC8C-3F95-4651-B283-9B6C2C3F1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A025-86D4-407F-9DBD-AD24E4B79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967C8-2615-4E55-9787-C239EBAE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3E637-A746-4CD7-A242-555695E9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04908-2493-40B1-A15A-C411975E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5926D-38E8-4696-B5E5-BC7B10BB7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A23D3-B732-463D-8162-FCE6764C3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A331-126A-4FFF-BC0D-86E1DFBC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0FC4-A3C3-4026-B6EB-913A0BE3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01B8E-9C60-4912-96F7-58718AB2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6B6B9-1B9B-4D67-91AE-39FB752C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9CF5E-1678-448D-8F85-6A56F394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258F6-3142-4C6D-AFCD-3DDF215D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78B7-C8C4-40D1-8E07-ADD894EB9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8EEC-6A1B-4FB1-BCF6-1F6BDF44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A837-C104-4E3E-852A-792B68AD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CA77F-6D9F-4F3F-BA8D-CFFA26BD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D8AA9-FE2A-43B6-89EB-1E078D507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C11-02A6-4570-BAB6-2B6EB164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32270-5C30-463B-B559-1F354D953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2422A-8F30-4EBB-9718-E15C925D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542FE-C9E6-498B-A336-47BB1D0C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56447-021C-4A1D-A1FD-751F8A50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757C-FCE7-4B98-8EB3-C2A94421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57D63-1567-44CD-8E9A-954186E1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3CF4E-1C0D-4B24-B26F-EE5514991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F7F46-5930-4B7E-AD25-EC6C15575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673C9-977D-45D8-95E1-31ED8C747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7C62F-E4B6-440F-B019-A4D6D7B4A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1CD-F4A7-4DCC-B6AF-89F5F135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546FC-BB5F-4FE0-8F0D-041D0A7A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F9A5C-662E-46FC-9CFE-356D1E443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44E9D-2100-4592-8B62-DA5CBE02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E8EB7-6AFF-4C4A-BAFD-79210B0D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981C1-AA0C-4228-8C94-880533BC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327F9-45D6-4B68-BC32-74CE4191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C4DB8-5547-4C11-A600-1A4562A5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77C1C-83A6-4BF1-A456-42C4F7B2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1E3D9-8157-48E4-8828-4ECD75ED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948DC-F9A8-4F54-B840-9D77ABDF7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337-C8A0-4B40-A465-8FC3D38F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85741-4B19-483D-8BDA-77106B91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7470-3388-44DE-9BD8-93C9573F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FEB-7C3D-470E-B6D1-724807F7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7BCE-B988-40A0-9899-E47C770A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1796-BC36-4B8B-948D-8B486B814921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2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08632-EA62-46AB-91C5-EB39A56ADAC5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F66F-0EE0-4617-A397-88FD70504793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52E6-79BB-4A2C-B8D9-47F823E7DBC4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10cf9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10cf9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10cf9b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4617b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8E01-0BFC-44E3-AA13-264D6025F192}" type="slidenum">
              <a:rPr b="0" lang="ru-RU" sz="11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Пичугиной Натальи Валентиновны, 1 КК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1" name="Заголовок 3" descr=""/>
          <p:cNvPicPr/>
          <p:nvPr/>
        </p:nvPicPr>
        <p:blipFill>
          <a:blip r:embed="rId1"/>
          <a:stretch/>
        </p:blipFill>
        <p:spPr>
          <a:xfrm>
            <a:off x="3359160" y="493560"/>
            <a:ext cx="5119560" cy="29149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4"/>
          <p:cNvSpPr/>
          <p:nvPr/>
        </p:nvSpPr>
        <p:spPr>
          <a:xfrm>
            <a:off x="3143160" y="4857840"/>
            <a:ext cx="5715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МОУ «Средняя общеобразовательна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школа  №23» города Северодвинск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rebuchet MS"/>
              </a:rPr>
              <a:t>Архангельской област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3" name="Рисунок 6" descr="лето 2009 112.JPG"/>
          <p:cNvPicPr/>
          <p:nvPr/>
        </p:nvPicPr>
        <p:blipFill>
          <a:blip r:embed="rId2"/>
          <a:stretch/>
        </p:blipFill>
        <p:spPr>
          <a:xfrm>
            <a:off x="324000" y="1700280"/>
            <a:ext cx="2500200" cy="3333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365040" y="291960"/>
            <a:ext cx="7553520" cy="1176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2071440"/>
            <a:ext cx="7238880" cy="43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rebuchet MS"/>
              </a:rPr>
              <a:t>- ИНДИВИДУАЛЬНА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rebuchet MS"/>
              </a:rPr>
              <a:t>- ПАРНА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rebuchet MS"/>
              </a:rPr>
              <a:t>- ГРУППОВА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00000"/>
                </a:solidFill>
                <a:latin typeface="Trebuchet MS"/>
              </a:rPr>
              <a:t>- КОЛЛЕКТИВНАЯ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353880" y="231840"/>
            <a:ext cx="7570800" cy="1236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Русский язык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2006 – 2007 – 49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2007 – 2008 – 52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2008 – 2009 – 52 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Литератур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2006 – 2007 – 73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2007 – 2008 – 76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2008 – 2009 – 78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Мировая художественная культура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2008 – 2009 – 96%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371520" y="291960"/>
            <a:ext cx="7540560" cy="1176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2006 – 2007 учебный год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Урок русского языка в 8А классе по теме «Обращения. Особенности использования в речи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2007 – 2008 учебный год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Урок развития речи в 9А классе по тем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«Милосердие в нашей жизни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2008 – 2009 учебный год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Урок литературы в 10А классе по теме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«Мысль семейная» в романе Л.Н.Толстого «Война и мир»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2009 – 2010 учебный год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Урок литературы в 10А классе по теме «Здравствуй, речка Паленьга!» (в гостях у Ольги Фокиной), урок в рамках регионального компонента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85320" cy="1176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2007 – 2008 учебный год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Городской семинар для учителей русского языка и литературы в МОУ «СОШ №23» по теме «Развитие интеллектуальных способностей учащихся на уроках русского языка и литературы, выступление с докладом по теме семинара, открытый урок литературы по теме «Нам улыбается Джиоконда» (внеклассное чтение) в 6Б классе;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rebuchet MS"/>
              </a:rPr>
              <a:t>2009 – 2010 учебный год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Областной семинар для слушателей курсов в МОУ «СОШ №23» по теме «Взаимодействие семьи и школы в профилактике правонарушений», выступление с докладом, тема: «Взаимодействие классного руководителя, родителей, учащихся в рамках ГСПП «Дом. Семья. Я» (из опыта работы классного руководителя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428760" y="1500120"/>
          <a:ext cx="7238880" cy="436572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67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од учас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.И.О.участника - исследов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Тема раб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Уровень, результ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6 -2007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рга Анна, 7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говицына А., 7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Мир северных народных ремёсел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Школьный, День Науки, свидетельст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7 – 2008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Юрьева Наталья, 9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Народный костюм Русского Севе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ниципальный городской конкурс рефератов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рамота УО, 3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7 -2008,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ьшакова Алина, 9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Деятельность Петра Первого на Русском Севере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ниципальный, городской конкурс рефератов, Грамота УО, 1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Заголовок 1" descr=""/>
          <p:cNvPicPr/>
          <p:nvPr/>
        </p:nvPicPr>
        <p:blipFill>
          <a:blip r:embed="rId1"/>
          <a:stretch/>
        </p:blipFill>
        <p:spPr>
          <a:xfrm>
            <a:off x="365040" y="317520"/>
            <a:ext cx="75232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3" name=""/>
          <p:cNvGraphicFramePr/>
          <p:nvPr/>
        </p:nvGraphicFramePr>
        <p:xfrm>
          <a:off x="457200" y="1609560"/>
          <a:ext cx="7238880" cy="505944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17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8 – 2009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Юрьева Наталья, 10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Крестьянский дом в традиционной культуре Русского Севе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ниципальны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ородская научная конференция «Юность Северодвинска», уча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8 -2009 , 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Юрьева Наталья, 10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Архитектура пинежской деревн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ниципальны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ородской конкурс рефератов, уча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8 – 2009, 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ьшакова Алина, 10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Роль поморов-мореплавателей в познании берегов и море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ниципальны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ородской конкурс рефератов, 1 место, грамота У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8 -2009,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ьшакова Александра, 5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Каргополь – душа Русского Севе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ниципальны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ородской конкурс рефератов, Диплом 2 мест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365040" y="317520"/>
            <a:ext cx="75232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457200" y="1609560"/>
          <a:ext cx="7238880" cy="524196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24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9 – 2010 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вра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bd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инина Анна, 10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Роль полотенца-рушника в традиционной культуре Русского Севе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ниципальны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ородская конференция школьников «Юность Северодвинска», 1 место, грамота УО, областной этап «Юность Помор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7d9e8"/>
                    </a:solidFill>
                  </a:tcPr>
                </a:tc>
              </a:tr>
              <a:tr h="207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9 – 2010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ьшакова Александра, 6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воим названием деревушке надо гордиться! (некоторые топонимические загадки Архангельского Севера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ниципальны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ородской конкурс исследовательских работ «Учёные будущего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9 – 2010 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т -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рга Анна, 10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Северный морской путь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ниципальный , городской конкурс «Север – России золотник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365040" y="317520"/>
            <a:ext cx="752328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"/>
          <p:cNvGraphicFramePr/>
          <p:nvPr/>
        </p:nvGraphicFramePr>
        <p:xfrm>
          <a:off x="457200" y="1609560"/>
          <a:ext cx="7238880" cy="3108600"/>
        </p:xfrm>
        <a:graphic>
          <a:graphicData uri="http://schemas.openxmlformats.org/drawingml/2006/table">
            <a:tbl>
              <a:tblPr/>
              <a:tblGrid>
                <a:gridCol w="1809720"/>
                <a:gridCol w="1809720"/>
                <a:gridCol w="1809720"/>
                <a:gridCol w="1809720"/>
              </a:tblGrid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9 –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т -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говицына Анна, 10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Соловецкая школа юнг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ниципальны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ородской конкурс рефе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eaf2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9 – 201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арт - 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ольшакова Александра, 6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Молотовск в годы Великой Отечественной войн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униципальный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Городской конкурс  рефе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12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9 –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пр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инина Анна,10 А 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рядовая роль полотенца в традиционном быту Русского Север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ластной, региональный конкурс «Наследие Поморь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sp>
        <p:nvSpPr>
          <p:cNvPr id="258" name="TextBox 4"/>
          <p:cNvSpPr/>
          <p:nvPr/>
        </p:nvSpPr>
        <p:spPr>
          <a:xfrm>
            <a:off x="928800" y="5000760"/>
            <a:ext cx="698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ИССЛЕДОВАТЕЛЬСКАЯ ДЕЯТЕЛЬНОСТЬ, ПРЕДПОЛАГАЮЩАЯ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СОТРУДНИЧЕСТВО, СОДРУЖЕСТВО УЧИТЕЛЯ И УЧЕНИКА –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rebuchet MS"/>
              </a:rPr>
              <a:t>НЕПРЕМЕННЫЙ ЗАЛОГ УСПЕШНОСТИ В РАБОТЕ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Trebuchet MS"/>
              </a:rPr>
              <a:t>ЦЕЛЬ ВОСПИТАНИЯ – </a:t>
            </a: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развитие гармоничной личности с учётом возрастных и индивидуальных особенност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c00000"/>
                </a:solidFill>
                <a:uFillTx/>
                <a:latin typeface="Trebuchet MS"/>
              </a:rPr>
              <a:t>ВОСПИТАНИЕ ДЕТЕЙ – </a:t>
            </a:r>
            <a:r>
              <a:rPr b="1" lang="en-US" sz="2600" spc="-1" strike="noStrike">
                <a:solidFill>
                  <a:srgbClr val="c00000"/>
                </a:solidFill>
                <a:latin typeface="Trebuchet MS"/>
              </a:rPr>
              <a:t>рекордно сложное занятие, самое запутанное из всех видов творчества. Это творение живых характеров, создание необыкновенно сложных микроорганизмов, а для такого творчества нужна и глубокая интуиция, и глубокие знания. К воспитательной работе стоило бы относиться как к самой важной из всех земных професс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7255080" cy="11764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1. Организация учебной работы с учителями – предметникам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2. Воспитание познавательной самостоятельност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3. Нравственно-патриотическое воспитание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4. Воспитание коммуникативных умений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5. Воспитание личностных качеств учащихс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384120" y="285840"/>
            <a:ext cx="7388280" cy="16826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gradFill rotWithShape="0">
            <a:gsLst>
              <a:gs pos="0">
                <a:srgbClr val="8cabee"/>
              </a:gs>
              <a:gs pos="100000">
                <a:srgbClr val="dee5f8"/>
              </a:gs>
            </a:gsLst>
            <a:lin ang="162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rebuchet MS"/>
              </a:rPr>
              <a:t>Творчество специфично для человека, так как всегда предполагает творц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ff0000"/>
                </a:solidFill>
                <a:uFillTx/>
                <a:latin typeface="Trebuchet MS"/>
              </a:rPr>
              <a:t>Педагогическое кредо, девиз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Trebuchet MS"/>
              </a:rPr>
              <a:t>Будь оригинален, неповторим, ТВОРИ – и всё у тебя получится!!! Каждый человек – творец по своей природе!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Trebuchet MS"/>
              </a:rPr>
              <a:t>Творчество – это деятельность, порождающая нечто новое и отличающееся неповторимостью, оригинальностью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6840" y="1785600"/>
            <a:ext cx="32576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rebuchet MS"/>
              </a:rPr>
              <a:t>С 2007 года в кабинете русского языка и литературы, где я работаю, создан этнографический уголок, который постоянно пополняется редкими экземплярами, книжными новинками, предметами быта из русского прошлого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5" name="Рисунок 3" descr="CIMG2700.JPG"/>
          <p:cNvPicPr/>
          <p:nvPr/>
        </p:nvPicPr>
        <p:blipFill>
          <a:blip r:embed="rId2"/>
          <a:stretch/>
        </p:blipFill>
        <p:spPr>
          <a:xfrm>
            <a:off x="4143240" y="1714680"/>
            <a:ext cx="3167280" cy="237456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4" descr="CIMG2705.JPG"/>
          <p:cNvPicPr/>
          <p:nvPr/>
        </p:nvPicPr>
        <p:blipFill>
          <a:blip r:embed="rId3"/>
          <a:stretch/>
        </p:blipFill>
        <p:spPr>
          <a:xfrm>
            <a:off x="4143240" y="4160880"/>
            <a:ext cx="3214800" cy="2411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Заголовок 1" descr=""/>
          <p:cNvPicPr/>
          <p:nvPr/>
        </p:nvPicPr>
        <p:blipFill>
          <a:blip r:embed="rId1"/>
          <a:stretch/>
        </p:blipFill>
        <p:spPr>
          <a:xfrm>
            <a:off x="378000" y="291960"/>
            <a:ext cx="7407000" cy="1176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С 2010 года являюсь руководителем Научного Общества Учащихся «Юные мыслители»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Разработала программу НОУ, составила планирование, организовала деятельность учащихся и учителе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Заседания НОУ проводятся 3 раза в месяц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В настоящее время в состав НОУ входят 6 учителей и 18 учащихся (5-11 классы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Терпение + терпимость + абсолютное приятие каждого ребёнка. Главная цель – учить светло, радостно, без надрыва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Древние римляне говорили, что корень учения горек. Но зачем же учить с горькими слезами тому, чему можно научиться с улыбкой? Главное – дарить всё время что-то хорошее и ценное (хотя бы интересный урок!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901800"/>
          </a:xfrm>
          <a:prstGeom prst="rect">
            <a:avLst/>
          </a:prstGeom>
          <a:ln w="0">
            <a:noFill/>
          </a:ln>
        </p:spPr>
      </p:pic>
      <p:pic>
        <p:nvPicPr>
          <p:cNvPr id="272" name="Содержимое 3" descr="IMG_4398.jpg"/>
          <p:cNvPicPr/>
          <p:nvPr/>
        </p:nvPicPr>
        <p:blipFill>
          <a:blip r:embed="rId2"/>
          <a:stretch/>
        </p:blipFill>
        <p:spPr>
          <a:xfrm>
            <a:off x="285840" y="2000160"/>
            <a:ext cx="3654360" cy="274176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4" descr="Изображение 003.jpg"/>
          <p:cNvPicPr/>
          <p:nvPr/>
        </p:nvPicPr>
        <p:blipFill>
          <a:blip r:embed="rId3"/>
          <a:stretch/>
        </p:blipFill>
        <p:spPr>
          <a:xfrm>
            <a:off x="4143240" y="1500120"/>
            <a:ext cx="3714840" cy="4953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Заголовок 1" descr=""/>
          <p:cNvPicPr/>
          <p:nvPr/>
        </p:nvPicPr>
        <p:blipFill>
          <a:blip r:embed="rId1"/>
          <a:stretch/>
        </p:blipFill>
        <p:spPr>
          <a:xfrm>
            <a:off x="371520" y="274680"/>
            <a:ext cx="7413480" cy="130968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Направления работы учителя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- Учитель –предметник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- Учитель – воспитатель (классный руководитель)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-Учитель – руководитель школьного Научного Объединения Учащихся «Юные мыслители»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- Учитель – член творческой инициативной группы школы (учитель – организатор, творец)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384120" y="285840"/>
            <a:ext cx="7388280" cy="1287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2007 – 2008 учебный год, 2008 – 2009 учебный год – 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работа по теме самообразования </a:t>
            </a:r>
            <a:r>
              <a:rPr b="1" i="1" lang="en-US" sz="2600" spc="-1" strike="noStrike">
                <a:solidFill>
                  <a:srgbClr val="ff0000"/>
                </a:solidFill>
                <a:latin typeface="Trebuchet MS"/>
              </a:rPr>
              <a:t>«Исследовательская деятельность в рамках регионального компонента»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2009 – 2010 учебный год – </a:t>
            </a:r>
            <a:r>
              <a:rPr b="1" i="1" lang="en-US" sz="2600" spc="-1" strike="noStrike">
                <a:solidFill>
                  <a:srgbClr val="000000"/>
                </a:solidFill>
                <a:latin typeface="Trebuchet MS"/>
              </a:rPr>
              <a:t>работа по теме самообразования </a:t>
            </a:r>
            <a:r>
              <a:rPr b="1" i="1" lang="en-US" sz="2600" spc="-1" strike="noStrike">
                <a:solidFill>
                  <a:srgbClr val="ff0000"/>
                </a:solidFill>
                <a:latin typeface="Trebuchet MS"/>
              </a:rPr>
              <a:t>«Использование информационных компьютерных технологий на уроках русского языка и литературы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311040" y="317520"/>
            <a:ext cx="752796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2571840"/>
            <a:ext cx="7238880" cy="38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1. Необычное начало урока (музыкальное сопровождение, презентация, театральное действие, творческая импровизация)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2. Кроссворд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3. Синквейн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4. Тематические урок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5. Межпредметные связи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6. Урок – исследование;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</a:rPr>
              <a:t>7. Уроки развития речи и уроки творчеств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0720" y="231840"/>
            <a:ext cx="7255080" cy="1236600"/>
          </a:xfrm>
          <a:prstGeom prst="rect">
            <a:avLst/>
          </a:prstGeom>
          <a:ln w="0">
            <a:noFill/>
          </a:ln>
        </p:spPr>
      </p:pic>
      <p:grpSp>
        <p:nvGrpSpPr>
          <p:cNvPr id="233" name="Содержимое 2"/>
          <p:cNvGrpSpPr/>
          <p:nvPr/>
        </p:nvGrpSpPr>
        <p:grpSpPr>
          <a:xfrm>
            <a:off x="304920" y="1500120"/>
            <a:ext cx="7467480" cy="5065920"/>
            <a:chOff x="304920" y="1500120"/>
            <a:chExt cx="7467480" cy="5065920"/>
          </a:xfrm>
        </p:grpSpPr>
        <p:pic>
          <p:nvPicPr>
            <p:cNvPr id="23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04920" y="1500120"/>
              <a:ext cx="7467480" cy="506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57200" y="1609560"/>
              <a:ext cx="7238880" cy="48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72880" indent="-272880">
                <a:spcBef>
                  <a:spcPts val="601"/>
                </a:spcBef>
                <a:buClr>
                  <a:srgbClr val="04617b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00000"/>
                  </a:solidFill>
                  <a:latin typeface="Trebuchet MS"/>
                </a:rPr>
                <a:t>Блочные технологии;</a:t>
              </a:r>
              <a:endParaRPr b="0" lang="en-US" sz="3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4617b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00000"/>
                  </a:solidFill>
                  <a:latin typeface="Trebuchet MS"/>
                </a:rPr>
                <a:t>Технологии критического мышления;</a:t>
              </a:r>
              <a:endParaRPr b="0" lang="en-US" sz="3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4617b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00000"/>
                  </a:solidFill>
                  <a:latin typeface="Trebuchet MS"/>
                </a:rPr>
                <a:t>Технологии проблемного обучения;</a:t>
              </a:r>
              <a:endParaRPr b="0" lang="en-US" sz="36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72880" indent="-272880">
                <a:spcBef>
                  <a:spcPts val="601"/>
                </a:spcBef>
                <a:buClr>
                  <a:srgbClr val="04617b"/>
                </a:buClr>
                <a:buSzPct val="73000"/>
                <a:buFont typeface="Wingdings 2" charset="2"/>
                <a:buChar char="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c00000"/>
                  </a:solidFill>
                  <a:latin typeface="Trebuchet MS"/>
                </a:rPr>
                <a:t>Технологии тестового контроля ЗУН учащихся</a:t>
              </a:r>
              <a:endParaRPr b="0" lang="en-US" sz="36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0720" y="317520"/>
            <a:ext cx="725508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solidFill>
            <a:srgbClr val="0bd0d9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004548">
                <a:alpha val="48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Снижение интереса к учебному процессу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Поток информационных технологий заменил чтение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Сократилось количество часов по предметам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Упал уровень врождённой грамотности;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ctr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rebuchet MS"/>
              </a:rPr>
              <a:t>Нет поддержки школьной библиотеки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84120" y="244440"/>
            <a:ext cx="7388280" cy="1328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rebuchet MS"/>
              </a:rPr>
              <a:t>1. Вводный урок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rebuchet MS"/>
              </a:rPr>
              <a:t>2. Комбинированный урок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rebuchet MS"/>
              </a:rPr>
              <a:t>3. Урок первичного усвоения материал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rebuchet MS"/>
              </a:rPr>
              <a:t>4. Урок закрепления знаний, умений, навык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rebuchet MS"/>
              </a:rPr>
              <a:t>5. Урок с использованием ТСО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rebuchet MS"/>
              </a:rPr>
              <a:t>6. Урок развития реч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Trebuchet MS"/>
              </a:rPr>
              <a:t>7. Урок контроля знаний, умений, навыко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433440" y="291960"/>
            <a:ext cx="7283520" cy="11890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1. Объяснительно – демонстрационный метод обуч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2. Репродуктивный метод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3. Метод проблемного обуч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4. Частично-поисковый метод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5. Метод стимулирования и мотивации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6. Методы контрол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7. Методы активного обучения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rebuchet MS"/>
              </a:rPr>
              <a:t>8. Обучение в сотрудничестве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04617b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7:35:22Z</dcterms:created>
  <dc:creator>Натаха</dc:creator>
  <dc:description/>
  <dc:language>en-US</dc:language>
  <cp:lastModifiedBy>Катенок</cp:lastModifiedBy>
  <dcterms:modified xsi:type="dcterms:W3CDTF">2010-03-15T15:28:47Z</dcterms:modified>
  <cp:revision>32</cp:revision>
  <dc:subject/>
  <dc:title>Творческий отчёт  учителя русского языка, литературы,  МХК</dc:title>
</cp:coreProperties>
</file>