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image9.gif" ContentType="image/gif"/>
  <Override PartName="/ppt/media/image8.gif" ContentType="image/gif"/>
  <Override PartName="/ppt/media/image6.gif" ContentType="image/gif"/>
  <Override PartName="/ppt/media/image10.gif" ContentType="image/gif"/>
  <Override PartName="/ppt/media/image14.gif" ContentType="image/gif"/>
  <Override PartName="/ppt/media/camera.wav" ContentType="audio/x-wav"/>
  <Override PartName="/ppt/media/image11.jpeg" ContentType="image/jpeg"/>
  <Override PartName="/ppt/media/image4.gif" ContentType="image/gif"/>
  <Override PartName="/ppt/media/image1.gif" ContentType="image/gif"/>
  <Override PartName="/ppt/media/image2.png" ContentType="image/png"/>
  <Override PartName="/ppt/media/image7.gif" ContentType="image/gif"/>
  <Override PartName="/ppt/media/image12.gif" ContentType="image/gif"/>
  <Override PartName="/ppt/media/drumroll.wav" ContentType="audio/x-wav"/>
  <Override PartName="/ppt/media/image3.jpeg" ContentType="image/jpeg"/>
  <Override PartName="/ppt/media/chimes.wav" ContentType="audio/x-wav"/>
  <Override PartName="/ppt/media/image13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080-5162-4C7E-80FA-13215555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95A-6EAE-4691-8244-7345C1F0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D01-873C-483D-9FFB-5D11F8E5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8EA-C8B0-45E7-8909-FFC1780E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7EE-1151-4BB1-974E-189A0424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1A3-36C6-4D5C-813F-2671A30E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1D9-85DC-49C7-9721-12D56D3A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D97-E563-4132-8891-4C11D8F4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B4A-A462-4CA3-B189-90108497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F95-72B3-4462-98FE-DBBE844C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6A9-5C17-496D-AB81-366CEDFD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757-CDBB-4C55-B465-9E55BC72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905C-43C5-4A07-86BC-D68157B8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6" descr="3dflagsdotcom_uk_2fawl.gif (57408 bytes)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em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s and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26920" y="0"/>
            <a:ext cx="7705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игра"Great Britain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3280" y="4653000"/>
          <a:ext cx="4038840" cy="146844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довкина И.Н. учитель английского языка филиала МОУ Новолядинской сош в с. Стол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Рисунок 19" descr="http://www.excurs.ru/brit/Royal_arms.gif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thank_you_wte"/>
          <p:cNvPicPr/>
          <p:nvPr/>
        </p:nvPicPr>
        <p:blipFill>
          <a:blip r:embed="rId2"/>
          <a:stretch/>
        </p:blipFill>
        <p:spPr>
          <a:xfrm>
            <a:off x="324000" y="4653000"/>
            <a:ext cx="8424720" cy="17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50920" y="1197000"/>
            <a:ext cx="59058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What main regions is the island of Great Britain subdivided i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is the longest river of Great Brit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ocean is the western coast of Great Britain washed b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What is the smallest part of the U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is its total ar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separates Great Britain from continent of Eur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here are the Grampians sit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What river flows between Scotland and Engl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What is the highest peak of Cumbrian mounta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What is the climate influenced b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0920" y="0"/>
            <a:ext cx="50421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Geographical 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0" name="Рисунок 28" descr="16b985e0.gif (30587 bytes)"/>
          <p:cNvPicPr/>
          <p:nvPr/>
        </p:nvPicPr>
        <p:blipFill>
          <a:blip r:embed="rId2"/>
          <a:stretch/>
        </p:blipFill>
        <p:spPr>
          <a:xfrm>
            <a:off x="6804000" y="5589720"/>
            <a:ext cx="2340000" cy="1268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4" descr="16998660.gif (30577 bytes)"/>
          <p:cNvPicPr/>
          <p:nvPr/>
        </p:nvPicPr>
        <p:blipFill>
          <a:blip r:embed="rId3"/>
          <a:stretch/>
        </p:blipFill>
        <p:spPr>
          <a:xfrm>
            <a:off x="0" y="0"/>
            <a:ext cx="2014560" cy="1241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7" descr="16c98520.gif (27191 bytes)"/>
          <p:cNvPicPr/>
          <p:nvPr/>
        </p:nvPicPr>
        <p:blipFill>
          <a:blip r:embed="rId4"/>
          <a:stretch/>
        </p:blipFill>
        <p:spPr>
          <a:xfrm>
            <a:off x="7236000" y="0"/>
            <a:ext cx="1908000" cy="1330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4" descr="16a985e0.gif (29804 bytes)"/>
          <p:cNvPicPr/>
          <p:nvPr/>
        </p:nvPicPr>
        <p:blipFill>
          <a:blip r:embed="rId5"/>
          <a:stretch/>
        </p:blipFill>
        <p:spPr>
          <a:xfrm>
            <a:off x="0" y="5805360"/>
            <a:ext cx="2484360" cy="1052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6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What is the national symbol of Englan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How is England often call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How is the national flag call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. What does the word Jack in the name of the flag me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. What is the national symbol of Northern Irelan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. Why did the thistle become the national symbol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. What two national symbols has Wale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.What is the first line of national anthem of Great Britai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. What does Albion me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. What is Scotland famous fo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00360" y="0"/>
            <a:ext cx="59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66ff66"/>
                    </a:gs>
                  </a:gsLst>
                  <a:lin ang="5400000"/>
                </a:gradFill>
                <a:latin typeface="Times New Roman"/>
              </a:rPr>
              <a:t>National embl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66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8" name="Рисунок 19" descr="superbandera2-united_kingdom_hw.gif (142483 bytes)"/>
          <p:cNvPicPr/>
          <p:nvPr/>
        </p:nvPicPr>
        <p:blipFill>
          <a:blip r:embed="rId2"/>
          <a:stretch/>
        </p:blipFill>
        <p:spPr>
          <a:xfrm>
            <a:off x="0" y="0"/>
            <a:ext cx="2411280" cy="1413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3" descr="animated gif"/>
          <p:cNvPicPr/>
          <p:nvPr/>
        </p:nvPicPr>
        <p:blipFill>
          <a:blip r:embed="rId3"/>
          <a:stretch/>
        </p:blipFill>
        <p:spPr>
          <a:xfrm>
            <a:off x="5148360" y="4653000"/>
            <a:ext cx="381636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o lived on the territory of Great Britain about 3000 years B.C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What tribes came after Iberi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Who conquered Britain in the 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entury A.D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. Why couldn’t Celts keep their land free after Roman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. When did the Danes begin to attack Britai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. Who was England invaded by in the 1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entur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. What tragedy happened in 1665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. What war is known as the hundred years wa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. When was the great fire of Lond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. What was Chartism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story of Great Britai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77080" y="4292640"/>
            <a:ext cx="226692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omb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What parts is London divided i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Where is the remarkable Whispering Gallery situa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What can we see in the centre of Trafalgar squ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What is Westminster Abbey famous f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Why is the clock called Big B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Where is the residence of Prime Minist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. What is the heart of the West E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. What is Regent’s Part famous f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. What street is associated with Britain newspap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. What the poorest district of Lond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771640" y="260280"/>
            <a:ext cx="56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Lond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3" name="drumroll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ng do people sing to join their arms at the midnight in New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estival of Welsh cul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does the Lord Chancellor s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eremony takes places in front of Buckingham Palace every 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eremony takes places on the birthday of the Qu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the Tower of London quarded b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typical Englishman associated wi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o people eat special buns marked with a cross on to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Boxing Day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o children go from house to house, knock at the doors and say “Trick or Treat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0"/>
            <a:ext cx="8424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Traditions and custo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" name="Рисунок 112" descr="Animated Pumpkin"/>
          <p:cNvPicPr/>
          <p:nvPr/>
        </p:nvPicPr>
        <p:blipFill>
          <a:blip r:embed="rId2"/>
          <a:stretch/>
        </p:blipFill>
        <p:spPr>
          <a:xfrm>
            <a:off x="7093080" y="5229360"/>
            <a:ext cx="1871640" cy="143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страноведческой компет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ширение круго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овать игру в форме виктор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ширять знания по  географии и истории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ть память, вним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ковать в устн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4360" y="260280"/>
            <a:ext cx="78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и и задач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rd"/>
    <p:sndAc>
      <p:stSnd>
        <p:snd r:embed="rId2" name="camera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использованная литература и интернет ресурсы при составлении вопро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.И. Тобольская «Страноведческий справочник»  Саратов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Л.Колодяжная «Познакомьтесь: Великобритания» Москва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ud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http://www.en.wikipedia.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тоны для выбора очередности хода, жетоны в форме флага Великобритании за правильные отв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очное название игры,на доске рубрики викторины и номерами вопр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9640" y="189000"/>
            <a:ext cx="806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Оборудование и оформл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strips dir="rd"/>
    <p:sndAc>
      <p:stSnd>
        <p:snd r:embed="rId2" name="camer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ники игры выбирают жетоны с номером хода. Участник (или команда) с номером один начинает игру, выбирая рубрику и номер вопроса. Если он(а) не отвечает ход переходит к участнику (команде) с номером два и так далее. Выигрывает участник(команда), который (ая) набирает большее количество жетон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33336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1b03">
                        <a:alpha val="50196"/>
                      </a:srgbClr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а игр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1b03">
                      <a:alpha val="50196"/>
                    </a:srgbClr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rd"/>
    <p:sndAc>
      <p:stSnd>
        <p:snd r:embed="rId2" name="camera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7:52:19Z</dcterms:created>
  <dc:creator>вп</dc:creator>
  <dc:description/>
  <dc:language>en-US</dc:language>
  <cp:lastModifiedBy>вп</cp:lastModifiedBy>
  <dcterms:modified xsi:type="dcterms:W3CDTF">2010-03-16T20:25:05Z</dcterms:modified>
  <cp:revision>5</cp:revision>
  <dc:subject/>
  <dc:title>Слайд 1</dc:title>
</cp:coreProperties>
</file>