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987-2B0B-401E-B354-C15CEB57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AA7-AB0B-4DC3-92BC-447B23B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C99-2978-4E62-9AA6-B7FE7E54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9A7-AA5F-4E61-B4BD-15E7F168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B57-9396-4AB8-B807-0A55E99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0A0-839A-4554-8EFF-80B46D8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C07-8ED5-4B22-B376-483ED647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46B-F5C7-4839-8118-0C7CAEA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853-D777-44BF-AD62-3F9A79CC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FFA-4215-46AA-9295-3A276B5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1D1-F39D-4743-80F2-19D2864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5C9-4815-4178-B954-43FFFB5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AA25-A615-4F7B-8B5E-6C067C1D6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WORD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Пункты меню «Окно», «Вид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Шрифты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Панель инструментов «Стандартная»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AutoShape 4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"/>
              </a:rPr>
              <a:t>Панель инструментов «Стандартная»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инструмент окна приложения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анель инстру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о набор пиктограмм, каждая из которых представляет некоторую функцию или «инструмент», предусмотренный для работы в окне документа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кне приложения может находиться несколько панелей инструментов разного назначения.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панели инструментов,  в основном, предназначены для максимального упрощения работы пользователя, причем многие пиктограммы таких панелей просто дублируют функции команд горизонтального меню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оспользоваться каким-либо “инструментом”, надо просто щелкнуть мышью на его пиктограмме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помощи меню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ви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строй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ы можем отображать или не отображать панель инструментов на экране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34120" y="19890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Line 7"/>
          <p:cNvSpPr/>
          <p:nvPr/>
        </p:nvSpPr>
        <p:spPr>
          <a:xfrm flipV="1">
            <a:off x="4191120" y="2895120"/>
            <a:ext cx="1218960" cy="259092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267080" y="1599840"/>
            <a:ext cx="609840" cy="68580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">
            <a:hlinkClick r:id="" action="ppaction://hlinkshowjump?jump=previousslide"/>
          </p:cNvPr>
          <p:cNvSpPr/>
          <p:nvPr/>
        </p:nvSpPr>
        <p:spPr>
          <a:xfrm>
            <a:off x="13716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7467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Назначение пиктограмм панели инструментов «Стандартная»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здать новый документ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крыть папку или документ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хранить документ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править документ на печать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ставить (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ъект из буфера обмена в документ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пировать (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ъект в буфер обме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ырезать (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ъект из докумен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едпросмотр документа перед печатью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мена предыдущего действия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рнуть отмененное действие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AutoShape 21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2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38088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371600" y="266688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371600" y="3581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37160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371600" y="5105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37160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1371600" y="6172200"/>
            <a:ext cx="380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"/>
              </a:rPr>
              <a:t>Формат шрифта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Форматирование шрифт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зменение параметров введенных символов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ИМВОЛ имеет следующие параметры: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гарнитур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- вид шрифта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егль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размер)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цве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D позволяет быстро и просто вводить и менять шрифт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Форматирование шрифта выполняется с помощью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панели форматирования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или в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диалоговом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окне форматирования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Диалоговое окно форматирования шрифта можно вызвать двумя способами: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1 способ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воспользоваться меню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Формат / шриф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2 способ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щелкнуть правой кнопкой мыши на нужном слове или выделенном фрагменте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V="1">
            <a:off x="3200400" y="1523880"/>
            <a:ext cx="2438280" cy="228600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2971800" y="1142640"/>
            <a:ext cx="1295280" cy="243828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3259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Назначение пиктограмм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на панели форматирования.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52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рнитура (вид шрифта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егль  (размер шрифта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рный шрифт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сив (наклонный шрифт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черкивание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ркер  (выделение цветом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вет шрифта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AutoShape 11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>
            <a:hlinkClick r:id="" action="ppaction://hlinkshowjump?jump=previousslide"/>
          </p:cNvPr>
          <p:cNvSpPr/>
          <p:nvPr/>
        </p:nvSpPr>
        <p:spPr>
          <a:xfrm>
            <a:off x="13716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25440" y="1676520"/>
            <a:ext cx="1587600" cy="20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685800" cy="210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380880" cy="29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05740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057400" y="3581280"/>
            <a:ext cx="380880" cy="36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05740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7400" y="4724280"/>
            <a:ext cx="3524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7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"/>
              </a:rPr>
              <a:t>Алгоритм форматирования шрифта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905120" y="1676520"/>
            <a:ext cx="3200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105520" y="1676520"/>
            <a:ext cx="2971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905120" y="2057400"/>
            <a:ext cx="3200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атирование шрифта с помощь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алогового ок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105520" y="2057400"/>
            <a:ext cx="2971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Выделить слово или группу сл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Вызвать диалоговое окно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Шриф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Произвести необходим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овки (при этом результ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овок отображается в по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разе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и нажать клавишу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О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905120" y="3505320"/>
            <a:ext cx="32004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атирование шрифта с помощь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анели форматиро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5105520" y="3505320"/>
            <a:ext cx="2971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Выделить слово или группу сл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Произвести необходим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овки, используя кноп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анели формат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последняя может быть настрое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льзователем с учетом е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требностей через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стройк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3">
            <a:hlinkClick r:id="" action="ppaction://hlinkshowjump?jump=previousslide"/>
          </p:cNvPr>
          <p:cNvSpPr/>
          <p:nvPr/>
        </p:nvSpPr>
        <p:spPr>
          <a:xfrm>
            <a:off x="13716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4:43:47Z</dcterms:created>
  <dc:creator>Ирина</dc:creator>
  <dc:description/>
  <dc:language>en-US</dc:language>
  <cp:lastModifiedBy>Катенок</cp:lastModifiedBy>
  <dcterms:modified xsi:type="dcterms:W3CDTF">2010-03-18T17:57:29Z</dcterms:modified>
  <cp:revision>25</cp:revision>
  <dc:subject/>
  <dc:title>WORD Пункты меню «Окно», «Вид». Шрифты. Панель инструментов «Стандартная»</dc:title>
</cp:coreProperties>
</file>