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6E18A-C0D6-4E73-8C96-266D1F9B6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A2E9E-FB64-450A-A5CC-4DD1812CE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E3072-9F9B-4ED7-A944-9F050A704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2EAF5-09AF-40F4-9C0E-C161B55D6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ABA42-5D16-49F3-B84C-7AE3D6874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49712-73B2-4C2D-A178-CFD01D7BE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A1644-3B7B-4C87-BA75-76623C883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5D7C9-F0A7-494D-8640-5CBE9B3C3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26D18-2138-4C21-A2E6-83548CF1C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A8CD7-B7D1-4DBD-B201-9B959DA7C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792F2-AA2E-442C-8282-4CC043F4E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FAFB4-F21D-4815-986D-9F354A686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7"/>
          <p:cNvSpPr/>
          <p:nvPr/>
        </p:nvSpPr>
        <p:spPr>
          <a:xfrm>
            <a:off x="152280" y="152280"/>
            <a:ext cx="8839440" cy="65534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371AF-488F-419C-99F2-72008367967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73240" y="1294920"/>
            <a:ext cx="7772400" cy="11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Franklin Gothic Medium"/>
              </a:rPr>
              <a:t>Колонки.</a:t>
            </a:r>
            <a:r>
              <a:rPr b="0" lang="en-US" sz="4400" spc="-1" strike="noStrike">
                <a:solidFill>
                  <a:srgbClr val="000000"/>
                </a:solidFill>
                <a:latin typeface="Franklin Gothic Medium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Franklin Gothic Medium"/>
              </a:rPr>
              <a:t>Стили. </a:t>
            </a:r>
            <a:endParaRPr b="0" lang="en-US" sz="4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4" name="AutoShape 4">
            <a:hlinkClick r:id="" action="ppaction://hlinkshowjump?jump=nextslide"/>
          </p:cNvPr>
          <p:cNvSpPr/>
          <p:nvPr/>
        </p:nvSpPr>
        <p:spPr>
          <a:xfrm>
            <a:off x="8783640" y="64976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Подготовка текста для брошюры или журнала.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2880" y="1371240"/>
            <a:ext cx="38098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Franklin Gothic Book"/>
              </a:rPr>
              <a:t>Создание колонок</a:t>
            </a:r>
            <a:endParaRPr b="0" lang="en-US" sz="9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497d"/>
                </a:solidFill>
                <a:latin typeface="Times New Roman"/>
              </a:rPr>
              <a:t>Текст в газетных колонках непрерывно перетекает из нижней части одной колонки в верхнюю часть следующей колонки.</a:t>
            </a:r>
            <a:endParaRPr b="0" lang="en-US" sz="13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497d"/>
                </a:solidFill>
                <a:latin typeface="Times New Roman"/>
              </a:rPr>
              <a:t>Можно задать число газетных колонок, задать промежутки между ними и вставить вертикальные разделители между колонками. Можно также добавить заголовок в виде полосы, ширина которой равняется ширине страницы.</a:t>
            </a:r>
            <a:endParaRPr b="0" lang="en-US" sz="13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 algn="ctr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Franklin Gothic Book"/>
              </a:rPr>
              <a:t>Изменение ширины колонок</a:t>
            </a:r>
            <a:endParaRPr b="0" lang="en-US" sz="11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 algn="ctr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Перейдите в режим разметки страницы.</a:t>
            </a:r>
            <a:endParaRPr b="0" lang="en-US" sz="13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Если документ содержит несколько</a:t>
            </a:r>
            <a:endParaRPr b="0" lang="en-US" sz="13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разделов, установите курсор в нужный</a:t>
            </a:r>
            <a:endParaRPr b="0" lang="en-US" sz="13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раздел.</a:t>
            </a:r>
            <a:endParaRPr b="0" lang="en-US" sz="13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Перетащите маркеры колонок на</a:t>
            </a:r>
            <a:endParaRPr b="0" lang="en-US" sz="13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горизонтальной линейке</a:t>
            </a:r>
            <a:r>
              <a:rPr b="0" lang="en-US" sz="1300" spc="-1" strike="noStrike">
                <a:solidFill>
                  <a:srgbClr val="000000"/>
                </a:solidFill>
                <a:latin typeface="Franklin Gothic Book"/>
              </a:rPr>
              <a:t>.   </a:t>
            </a:r>
            <a:endParaRPr b="0" lang="en-US" sz="13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f497d"/>
                </a:solidFill>
                <a:latin typeface="Times New Roman"/>
              </a:rPr>
              <a:t>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7" name="Picture 9" descr=""/>
          <p:cNvPicPr/>
          <p:nvPr/>
        </p:nvPicPr>
        <p:blipFill>
          <a:blip r:embed="rId1"/>
          <a:stretch/>
        </p:blipFill>
        <p:spPr>
          <a:xfrm>
            <a:off x="5230800" y="2571840"/>
            <a:ext cx="3619440" cy="2933640"/>
          </a:xfrm>
          <a:prstGeom prst="rect">
            <a:avLst/>
          </a:prstGeom>
          <a:ln w="0">
            <a:noFill/>
          </a:ln>
        </p:spPr>
      </p:pic>
      <p:sp>
        <p:nvSpPr>
          <p:cNvPr id="48" name="Line 10"/>
          <p:cNvSpPr/>
          <p:nvPr/>
        </p:nvSpPr>
        <p:spPr>
          <a:xfrm>
            <a:off x="4267080" y="2438280"/>
            <a:ext cx="1447920" cy="304920"/>
          </a:xfrm>
          <a:prstGeom prst="line">
            <a:avLst/>
          </a:prstGeom>
          <a:ln w="9360">
            <a:solidFill>
              <a:srgbClr val="c050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1"/>
          <p:cNvSpPr/>
          <p:nvPr/>
        </p:nvSpPr>
        <p:spPr>
          <a:xfrm flipV="1">
            <a:off x="3200400" y="1752120"/>
            <a:ext cx="1828800" cy="304920"/>
          </a:xfrm>
          <a:prstGeom prst="line">
            <a:avLst/>
          </a:prstGeom>
          <a:ln w="9360">
            <a:solidFill>
              <a:srgbClr val="c050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Line 13"/>
          <p:cNvSpPr/>
          <p:nvPr/>
        </p:nvSpPr>
        <p:spPr>
          <a:xfrm>
            <a:off x="3276720" y="5486400"/>
            <a:ext cx="304560" cy="152280"/>
          </a:xfrm>
          <a:prstGeom prst="line">
            <a:avLst/>
          </a:prstGeom>
          <a:ln w="9360">
            <a:solidFill>
              <a:srgbClr val="c050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4724280" y="2819520"/>
            <a:ext cx="3048120" cy="761760"/>
          </a:xfrm>
          <a:prstGeom prst="line">
            <a:avLst/>
          </a:prstGeom>
          <a:ln w="9360">
            <a:solidFill>
              <a:srgbClr val="c050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AutoShape 15">
            <a:hlinkClick r:id="" action="ppaction://hlinkshowjump?jump=nextslide"/>
          </p:cNvPr>
          <p:cNvSpPr/>
          <p:nvPr/>
        </p:nvSpPr>
        <p:spPr>
          <a:xfrm>
            <a:off x="8783640" y="64976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AutoShape 16">
            <a:hlinkClick r:id="" action="ppaction://hlinkshowjump?jump=previousslide"/>
          </p:cNvPr>
          <p:cNvSpPr/>
          <p:nvPr/>
        </p:nvSpPr>
        <p:spPr>
          <a:xfrm>
            <a:off x="1219320" y="64976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5105520" y="1371600"/>
            <a:ext cx="4038480" cy="9414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2971800" y="5638680"/>
            <a:ext cx="1859040" cy="70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3000" y="304920"/>
            <a:ext cx="7802640" cy="30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Franklin Gothic Medium"/>
              </a:rPr>
              <a:t>Технология верстки полосы с двуколоночным текстом.</a:t>
            </a:r>
            <a:endParaRPr b="0" lang="en-US" sz="22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57" name="Picture 56" descr=""/>
          <p:cNvPicPr/>
          <p:nvPr/>
        </p:nvPicPr>
        <p:blipFill>
          <a:blip r:embed="rId1"/>
          <a:stretch/>
        </p:blipFill>
        <p:spPr>
          <a:xfrm>
            <a:off x="5076720" y="1341360"/>
            <a:ext cx="3810240" cy="2857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1371600" y="990720"/>
          <a:ext cx="3505320" cy="5667120"/>
        </p:xfrm>
        <a:graphic>
          <a:graphicData uri="http://schemas.openxmlformats.org/drawingml/2006/table">
            <a:tbl>
              <a:tblPr/>
              <a:tblGrid>
                <a:gridCol w="990720"/>
                <a:gridCol w="2514600"/>
              </a:tblGrid>
              <a:tr h="34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йств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лгорит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ерстка полосы в две колон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Выполнить команд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рмат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Колонки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Задать число колонок – 2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В списке Применить указать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 всему документу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Нажать кнопку ОК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4f81bd"/>
                        </a:buClr>
                        <a:buSzPct val="8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ерстка полосы в две колонки с общим заголовком 1-й способ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Выделить часть текста, которую следует разделить на колонки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Выполнить команду Формат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Колонки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Задать число колонок –2.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В списке Применить указать к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деленному тексту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1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ерстка полосы в две колонки с общим заголовком 2-й способ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Установить курсор в конце заголовка  (или абзаца)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Выполнить команду Вставка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Разрыв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В окне в поле Новый раздел установить переключатель На текущей странице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Перевести курсор в любую позицию нового раздела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 Выполнить команду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рмат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Колонки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 Задать число колонок – 2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 Выбрать Применить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К текущему разделу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9" name="Picture 53" descr=""/>
          <p:cNvPicPr/>
          <p:nvPr/>
        </p:nvPicPr>
        <p:blipFill>
          <a:blip r:embed="rId2"/>
          <a:stretch/>
        </p:blipFill>
        <p:spPr>
          <a:xfrm>
            <a:off x="6324480" y="4419720"/>
            <a:ext cx="2035440" cy="2187360"/>
          </a:xfrm>
          <a:prstGeom prst="rect">
            <a:avLst/>
          </a:prstGeom>
          <a:ln w="0">
            <a:noFill/>
          </a:ln>
        </p:spPr>
      </p:pic>
      <p:sp>
        <p:nvSpPr>
          <p:cNvPr id="60" name="Line 54"/>
          <p:cNvSpPr/>
          <p:nvPr/>
        </p:nvSpPr>
        <p:spPr>
          <a:xfrm>
            <a:off x="4572000" y="5486400"/>
            <a:ext cx="1752480" cy="304920"/>
          </a:xfrm>
          <a:prstGeom prst="line">
            <a:avLst/>
          </a:prstGeom>
          <a:ln w="9360">
            <a:solidFill>
              <a:srgbClr val="c050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Line 57"/>
          <p:cNvSpPr/>
          <p:nvPr/>
        </p:nvSpPr>
        <p:spPr>
          <a:xfrm>
            <a:off x="5105520" y="609480"/>
            <a:ext cx="685800" cy="1905120"/>
          </a:xfrm>
          <a:prstGeom prst="line">
            <a:avLst/>
          </a:prstGeom>
          <a:ln w="9360">
            <a:solidFill>
              <a:srgbClr val="c050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AutoShape 58">
            <a:hlinkClick r:id="" action="ppaction://hlinkshowjump?jump=previousslide"/>
          </p:cNvPr>
          <p:cNvSpPr/>
          <p:nvPr/>
        </p:nvSpPr>
        <p:spPr>
          <a:xfrm>
            <a:off x="1600200" y="64976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AutoShape 59">
            <a:hlinkClick r:id="" action="ppaction://hlinkshowjump?jump=nextslide"/>
          </p:cNvPr>
          <p:cNvSpPr/>
          <p:nvPr/>
        </p:nvSpPr>
        <p:spPr>
          <a:xfrm>
            <a:off x="8783640" y="64976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43000" y="457200"/>
            <a:ext cx="780264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Franklin Gothic Medium"/>
              </a:rPr>
              <a:t>Буквица</a:t>
            </a:r>
            <a:endParaRPr b="0" lang="en-US" sz="25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72880" y="990360"/>
            <a:ext cx="380988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Franklin Gothic Book"/>
              </a:rPr>
              <a:t>Буквица – это издательский термин. Это увеличенная в размере первая буква первой строки текста, использующаяся как для оформления текста, так и для подчеркивания начала текста или его раздела.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Franklin Gothic Book"/>
              </a:rPr>
              <a:t>Для оформления буквы в виде буквицы, ее нужно выделить, после чего выполнить команду </a:t>
            </a:r>
            <a:r>
              <a:rPr b="1" lang="ru-RU" sz="1400" spc="-1" strike="noStrike">
                <a:solidFill>
                  <a:srgbClr val="000000"/>
                </a:solidFill>
                <a:latin typeface="Franklin Gothic Book"/>
              </a:rPr>
              <a:t>Формат </a:t>
            </a:r>
            <a:r>
              <a:rPr b="1" lang="en-US" sz="1400" spc="-1" strike="noStrike">
                <a:solidFill>
                  <a:srgbClr val="000000"/>
                </a:solidFill>
                <a:latin typeface="Franklin Gothic Book"/>
              </a:rPr>
              <a:t>/</a:t>
            </a:r>
            <a:r>
              <a:rPr b="1" lang="ru-RU" sz="1400" spc="-1" strike="noStrike">
                <a:solidFill>
                  <a:srgbClr val="000000"/>
                </a:solidFill>
                <a:latin typeface="Franklin Gothic Book"/>
              </a:rPr>
              <a:t> Буквица</a:t>
            </a:r>
            <a:r>
              <a:rPr b="0" lang="ru-RU" sz="1400" spc="-1" strike="noStrike">
                <a:solidFill>
                  <a:srgbClr val="000000"/>
                </a:solidFill>
                <a:latin typeface="Franklin Gothic Book"/>
              </a:rPr>
              <a:t>. Появится диалоговое окно </a:t>
            </a:r>
            <a:r>
              <a:rPr b="1" lang="ru-RU" sz="1400" spc="-1" strike="noStrike">
                <a:solidFill>
                  <a:srgbClr val="000000"/>
                </a:solidFill>
                <a:latin typeface="Franklin Gothic Book"/>
              </a:rPr>
              <a:t>Буквица.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Franklin Gothic Book"/>
              </a:rPr>
              <a:t>В этом окне можно выбрать положение буквицы в тексте размер (в строках), гарнитуру шрифта и расстояние от буквицы до текста абзаца.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66" name="Picture 7" descr=""/>
          <p:cNvPicPr/>
          <p:nvPr/>
        </p:nvPicPr>
        <p:blipFill>
          <a:blip r:embed="rId1"/>
          <a:stretch/>
        </p:blipFill>
        <p:spPr>
          <a:xfrm>
            <a:off x="5029200" y="990720"/>
            <a:ext cx="3809880" cy="28573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" descr=""/>
          <p:cNvPicPr/>
          <p:nvPr/>
        </p:nvPicPr>
        <p:blipFill>
          <a:blip r:embed="rId2"/>
          <a:stretch/>
        </p:blipFill>
        <p:spPr>
          <a:xfrm>
            <a:off x="5943600" y="3962520"/>
            <a:ext cx="2073240" cy="2658960"/>
          </a:xfrm>
          <a:prstGeom prst="rect">
            <a:avLst/>
          </a:prstGeom>
          <a:ln w="0">
            <a:noFill/>
          </a:ln>
        </p:spPr>
      </p:pic>
      <p:sp>
        <p:nvSpPr>
          <p:cNvPr id="68" name="Line 9"/>
          <p:cNvSpPr/>
          <p:nvPr/>
        </p:nvSpPr>
        <p:spPr>
          <a:xfrm>
            <a:off x="3962520" y="1600200"/>
            <a:ext cx="1981080" cy="457200"/>
          </a:xfrm>
          <a:prstGeom prst="line">
            <a:avLst/>
          </a:prstGeom>
          <a:ln w="9360">
            <a:solidFill>
              <a:srgbClr val="c050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Line 10"/>
          <p:cNvSpPr/>
          <p:nvPr/>
        </p:nvSpPr>
        <p:spPr>
          <a:xfrm>
            <a:off x="4800600" y="3733920"/>
            <a:ext cx="1219320" cy="685800"/>
          </a:xfrm>
          <a:prstGeom prst="line">
            <a:avLst/>
          </a:prstGeom>
          <a:ln w="9360">
            <a:solidFill>
              <a:srgbClr val="c050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11">
            <a:hlinkClick r:id="" action="ppaction://hlinkshowjump?jump=previousslide"/>
          </p:cNvPr>
          <p:cNvSpPr/>
          <p:nvPr/>
        </p:nvSpPr>
        <p:spPr>
          <a:xfrm>
            <a:off x="1523880" y="64976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AutoShape 12">
            <a:hlinkClick r:id="" action="ppaction://hlinkshowjump?jump=nextslide"/>
          </p:cNvPr>
          <p:cNvSpPr/>
          <p:nvPr/>
        </p:nvSpPr>
        <p:spPr>
          <a:xfrm>
            <a:off x="8783640" y="64976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73240" y="45720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Franklin Gothic Medium"/>
              </a:rPr>
              <a:t>Стили</a:t>
            </a:r>
            <a:endParaRPr b="0" lang="en-US" sz="25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72880" y="990360"/>
            <a:ext cx="380988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Franklin Gothic Book"/>
              </a:rPr>
              <a:t>Стиль</a:t>
            </a:r>
            <a:r>
              <a:rPr b="0" lang="ru-RU" sz="1400" spc="-1" strike="noStrike">
                <a:solidFill>
                  <a:srgbClr val="000000"/>
                </a:solidFill>
                <a:latin typeface="Franklin Gothic Book"/>
              </a:rPr>
              <a:t> – характерный вид, разновидность чего-нибудь, выражающаяся в каких-нибудь особенных признаках, свойствах художественного оформления.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marL="329040" indent="-3290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Franklin Gothic Book"/>
              </a:rPr>
              <a:t>Существуют два вида стилей: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13160" indent="-2743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Franklin Gothic Book"/>
              </a:rPr>
              <a:t>стиль символа;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13160" indent="-2743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Franklin Gothic Book"/>
              </a:rPr>
              <a:t>стиль абзаца, задающий внешний вид абзаца.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marL="329040" indent="-3290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Franklin Gothic Book"/>
              </a:rPr>
              <a:t>Стилевое форматирование</a:t>
            </a:r>
            <a:r>
              <a:rPr b="0" lang="ru-RU" sz="1400" spc="-1" strike="noStrike">
                <a:solidFill>
                  <a:srgbClr val="000000"/>
                </a:solidFill>
                <a:latin typeface="Franklin Gothic Book"/>
              </a:rPr>
              <a:t> – назначение специальных стилей символам или абзацам.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marL="329040" indent="-3290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Franklin Gothic Book"/>
              </a:rPr>
              <a:t>Необходимый стиль можно выбрать либо из раскрывающегося списка Стили Панели форматирования, либо с помощью команды </a:t>
            </a:r>
            <a:r>
              <a:rPr b="1" lang="ru-RU" sz="1400" spc="-1" strike="noStrike">
                <a:solidFill>
                  <a:srgbClr val="000000"/>
                </a:solidFill>
                <a:latin typeface="Franklin Gothic Book"/>
              </a:rPr>
              <a:t>Формат </a:t>
            </a:r>
            <a:r>
              <a:rPr b="1" lang="en-US" sz="1400" spc="-1" strike="noStrike">
                <a:solidFill>
                  <a:srgbClr val="000000"/>
                </a:solidFill>
                <a:latin typeface="Franklin Gothic Book"/>
              </a:rPr>
              <a:t>/</a:t>
            </a:r>
            <a:r>
              <a:rPr b="1" lang="ru-RU" sz="1400" spc="-1" strike="noStrike">
                <a:solidFill>
                  <a:srgbClr val="000000"/>
                </a:solidFill>
                <a:latin typeface="Franklin Gothic Book"/>
              </a:rPr>
              <a:t> Стиль</a:t>
            </a:r>
            <a:r>
              <a:rPr b="0" lang="ru-RU" sz="1400" spc="-1" strike="noStrike">
                <a:solidFill>
                  <a:srgbClr val="000000"/>
                </a:solidFill>
                <a:latin typeface="Franklin Gothic Book"/>
              </a:rPr>
              <a:t>. По умолчанию этот список содержит имена только тех стилей, которые использовались в данном документе. Чтобы просмотреть список всех стилей. Необходимо при раскрытии основного списка нажать клавишу </a:t>
            </a:r>
            <a:r>
              <a:rPr b="1" lang="en-US" sz="1400" spc="-1" strike="noStrike">
                <a:solidFill>
                  <a:srgbClr val="000000"/>
                </a:solidFill>
                <a:latin typeface="Franklin Gothic Book"/>
              </a:rPr>
              <a:t>&lt;Shift&gt;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13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13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marL="329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 marL="329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 marL="329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131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  <a:p>
            <a:pPr marL="329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 marL="329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 marL="329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 marL="329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74" name="Picture 5" descr=""/>
          <p:cNvPicPr/>
          <p:nvPr/>
        </p:nvPicPr>
        <p:blipFill>
          <a:blip r:embed="rId1"/>
          <a:stretch/>
        </p:blipFill>
        <p:spPr>
          <a:xfrm>
            <a:off x="5029200" y="990720"/>
            <a:ext cx="3962520" cy="3205080"/>
          </a:xfrm>
          <a:prstGeom prst="rect">
            <a:avLst/>
          </a:prstGeom>
          <a:ln w="0">
            <a:noFill/>
          </a:ln>
        </p:spPr>
      </p:pic>
      <p:sp>
        <p:nvSpPr>
          <p:cNvPr id="75" name="AutoShape 6">
            <a:hlinkClick r:id="" action="ppaction://hlinkshowjump?jump=previousslide"/>
          </p:cNvPr>
          <p:cNvSpPr/>
          <p:nvPr/>
        </p:nvSpPr>
        <p:spPr>
          <a:xfrm>
            <a:off x="1676520" y="64976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AutoShape 7">
            <a:hlinkClick r:id="" action="ppaction://hlinkshowjump?jump=nextslide"/>
          </p:cNvPr>
          <p:cNvSpPr/>
          <p:nvPr/>
        </p:nvSpPr>
        <p:spPr>
          <a:xfrm>
            <a:off x="8783640" y="64976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"/>
          <p:cNvGraphicFramePr/>
          <p:nvPr/>
        </p:nvGraphicFramePr>
        <p:xfrm>
          <a:off x="1000080" y="714240"/>
          <a:ext cx="7620120" cy="5821560"/>
        </p:xfrm>
        <a:graphic>
          <a:graphicData uri="http://schemas.openxmlformats.org/drawingml/2006/table">
            <a:tbl>
              <a:tblPr/>
              <a:tblGrid>
                <a:gridCol w="1219320"/>
                <a:gridCol w="6400800"/>
              </a:tblGrid>
              <a:tr h="380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йств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лгорит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здание стиля символо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4f81bd"/>
                        </a:buClr>
                        <a:buSzPct val="80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крыть диалоговое окно Стиль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4f81bd"/>
                        </a:buClr>
                        <a:buSzPct val="80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жать кнопку Создать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4f81bd"/>
                        </a:buClr>
                        <a:buSzPct val="80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раскрывающемся списке Стиль выбрать пункт Символ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4f81bd"/>
                        </a:buClr>
                        <a:buSzPct val="80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раскрывающемся списке основан на стиле выбрать нужный стиль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4f81bd"/>
                        </a:buClr>
                        <a:buSzPct val="80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жать кнопку Формат (становятся доступными две команды: Шрифт и Язык)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4f81bd"/>
                        </a:buClr>
                        <a:buSzPct val="80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извести необходимые установки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4f81bd"/>
                        </a:buClr>
                        <a:buSzPct val="80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поле Имя задать имя стиля.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4f81bd"/>
                        </a:buClr>
                        <a:buSzPct val="80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жать ОК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4f81bd"/>
                        </a:buClr>
                        <a:buSzPct val="80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жать кнопку Закрыть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4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здание стиля абзац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4f81bd"/>
                        </a:buClr>
                        <a:buSzPct val="80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крыть диалоговое окно Стиль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4f81bd"/>
                        </a:buClr>
                        <a:buSzPct val="80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жать кнопку Создать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4f81bd"/>
                        </a:buClr>
                        <a:buSzPct val="80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открывшемся окне выбрать пункт Абзац.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4f81bd"/>
                        </a:buClr>
                        <a:buSzPct val="80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списке Основан на стиле выбрать нужный стиль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4f81bd"/>
                        </a:buClr>
                        <a:buSzPct val="80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жать кнопку Формат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4f81bd"/>
                        </a:buClr>
                        <a:buSzPct val="80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извести необходимые установки, используя команды Шрифт, Абзац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4f81bd"/>
                        </a:buClr>
                        <a:buSzPct val="80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поле Имя задать имя стиля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4f81bd"/>
                        </a:buClr>
                        <a:buSzPct val="80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жать кнопку ОК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4f81bd"/>
                        </a:buClr>
                        <a:buSzPct val="80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жать кнопку Закрыть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менение стил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4f81bd"/>
                        </a:buClr>
                        <a:buSzPct val="80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крыть диалоговое окно Стиль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4f81bd"/>
                        </a:buClr>
                        <a:buSzPct val="80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жать кнопку Изменить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4f81bd"/>
                        </a:buClr>
                        <a:buSzPct val="80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крывается диалоговое окно Изменение стиля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4f81bd"/>
                        </a:buClr>
                        <a:buSzPct val="80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списке основан на стиле выбрать стиль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4f81bd"/>
                        </a:buClr>
                        <a:buSzPct val="80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жать кнопку Формат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4f81bd"/>
                        </a:buClr>
                        <a:buSzPct val="80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извести необходимые установки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4f81bd"/>
                        </a:buClr>
                        <a:buSzPct val="80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жать кнопку ОК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4f81bd"/>
                        </a:buClr>
                        <a:buSzPct val="80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жать кнопку Закрыть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8" name="AutoShape 32">
            <a:hlinkClick r:id="" action="ppaction://hlinkshowjump?jump=previousslide"/>
          </p:cNvPr>
          <p:cNvSpPr/>
          <p:nvPr/>
        </p:nvSpPr>
        <p:spPr>
          <a:xfrm>
            <a:off x="1600200" y="64976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33">
            <a:hlinkClick r:id="" action="ppaction://hlinkshowjump?jump=nextslide"/>
          </p:cNvPr>
          <p:cNvSpPr/>
          <p:nvPr/>
        </p:nvSpPr>
        <p:spPr>
          <a:xfrm>
            <a:off x="8783640" y="64976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Прямоугольник 8"/>
          <p:cNvSpPr/>
          <p:nvPr/>
        </p:nvSpPr>
        <p:spPr>
          <a:xfrm>
            <a:off x="2153880" y="285840"/>
            <a:ext cx="430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Технология работы со стилям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06T18:14:31Z</dcterms:created>
  <dc:creator>QQ</dc:creator>
  <dc:description/>
  <dc:language>en-US</dc:language>
  <cp:lastModifiedBy>Катенок</cp:lastModifiedBy>
  <dcterms:modified xsi:type="dcterms:W3CDTF">2010-03-18T19:19:29Z</dcterms:modified>
  <cp:revision>23</cp:revision>
  <dc:subject/>
  <dc:title>Абзац. Стили. Колонки. </dc:title>
</cp:coreProperties>
</file>