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CB11-3CE2-474A-A36A-F0ABD2798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9117-DC06-47C6-89E7-40B4E3FB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602C-22F2-4BA0-8070-5BEC6B223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7953-8C02-48E4-BA19-B80EB1499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8DC4-4325-4CD7-8098-BB728CC8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3845-4A18-49D0-B25A-324AE232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6B3B-5E6A-4FF0-8A3D-D4B7FD6F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C985-E5D1-42E7-BC78-D44F479F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99C8-89E1-4FA0-8004-C87CE695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8950-D0AB-4AAB-9B19-00CE448D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56C7-4B48-4E04-BA91-3DA319DE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C080-0C0A-4433-9CCA-1EEF387B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7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9995-4AC3-422C-AEEE-B05C5336D0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Medium"/>
              </a:rPr>
              <a:t>WORD</a:t>
            </a:r>
            <a:r>
              <a:rPr b="1" lang="ru-RU" sz="4000" spc="-1" strike="noStrike">
                <a:solidFill>
                  <a:srgbClr val="000000"/>
                </a:solidFill>
                <a:latin typeface="Franklin Gothic Medium"/>
              </a:rPr>
              <a:t>.</a:t>
            </a:r>
            <a:br>
              <a:rPr sz="4000"/>
            </a:br>
            <a:r>
              <a:rPr b="1" lang="ru-RU" sz="2900" spc="-1" strike="noStrike">
                <a:solidFill>
                  <a:srgbClr val="000000"/>
                </a:solidFill>
                <a:latin typeface="Franklin Gothic Medium"/>
              </a:rPr>
              <a:t>Работа с таблицей </a:t>
            </a:r>
            <a:br>
              <a:rPr sz="2900"/>
            </a:br>
            <a:r>
              <a:rPr b="1" lang="ru-RU" sz="2500" spc="-1" strike="noStrike">
                <a:solidFill>
                  <a:srgbClr val="000000"/>
                </a:solidFill>
                <a:latin typeface="Franklin Gothic Medium"/>
              </a:rPr>
              <a:t>(меню и панель инструментов).</a:t>
            </a:r>
            <a:br>
              <a:rPr sz="2500"/>
            </a:br>
            <a:r>
              <a:rPr b="1" lang="ru-RU" sz="2900" spc="-1" strike="noStrike">
                <a:solidFill>
                  <a:srgbClr val="000000"/>
                </a:solidFill>
                <a:latin typeface="Franklin Gothic Medium"/>
              </a:rPr>
              <a:t>Формулы.</a:t>
            </a:r>
            <a:endParaRPr b="0" lang="en-US" sz="29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" name="AutoShape 4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66ff"/>
          </a:solidFill>
          <a:ln cap="sq"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Создание таблицы.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5105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Таблица состоит из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столбцов (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n &gt;=1)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и 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строк   (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m&gt;=1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Основной структурный элемент таблицы -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Franklin Gothic Book"/>
              </a:rPr>
              <a:t>ячейка,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т.е. </a:t>
            </a:r>
            <a:r>
              <a:rPr b="1" i="1" lang="ru-RU" sz="1800" spc="-1" strike="noStrike">
                <a:solidFill>
                  <a:srgbClr val="000000"/>
                </a:solidFill>
                <a:latin typeface="Franklin Gothic Book"/>
              </a:rPr>
              <a:t>фрагмент документа на пересечении сроки и столбца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Ячейка таблицы может состоять из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нескольких строк (абзацев), может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содержать рисунки и рисованные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объекты; текст ячейки можно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форматировать по обычным правилам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Franklin Gothic Book"/>
              </a:rPr>
              <a:t>Вопросы: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1. Сколько строк в данной таблице?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2. Сколько столбцов в данной таблице?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3. Сколько ячеек в данной таблице?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Rectangle 64"/>
          <p:cNvSpPr/>
          <p:nvPr/>
        </p:nvSpPr>
        <p:spPr>
          <a:xfrm>
            <a:off x="4800600" y="3200400"/>
            <a:ext cx="380880" cy="1143000"/>
          </a:xfrm>
          <a:prstGeom prst="rect">
            <a:avLst/>
          </a:prstGeom>
          <a:solidFill>
            <a:srgbClr val="66ffff"/>
          </a:solidFill>
          <a:ln cap="sq"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67"/>
          <p:cNvSpPr/>
          <p:nvPr/>
        </p:nvSpPr>
        <p:spPr>
          <a:xfrm>
            <a:off x="5105520" y="3276720"/>
            <a:ext cx="6858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68"/>
          <p:cNvSpPr/>
          <p:nvPr/>
        </p:nvSpPr>
        <p:spPr>
          <a:xfrm>
            <a:off x="5181480" y="3505320"/>
            <a:ext cx="60984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69"/>
          <p:cNvSpPr/>
          <p:nvPr/>
        </p:nvSpPr>
        <p:spPr>
          <a:xfrm>
            <a:off x="5181480" y="3733920"/>
            <a:ext cx="60984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70"/>
          <p:cNvSpPr/>
          <p:nvPr/>
        </p:nvSpPr>
        <p:spPr>
          <a:xfrm>
            <a:off x="5181480" y="3886200"/>
            <a:ext cx="60984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71"/>
          <p:cNvSpPr/>
          <p:nvPr/>
        </p:nvSpPr>
        <p:spPr>
          <a:xfrm>
            <a:off x="5181480" y="4114800"/>
            <a:ext cx="60984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72"/>
          <p:cNvSpPr/>
          <p:nvPr/>
        </p:nvSpPr>
        <p:spPr>
          <a:xfrm>
            <a:off x="5181480" y="4343400"/>
            <a:ext cx="60984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73"/>
          <p:cNvSpPr/>
          <p:nvPr/>
        </p:nvSpPr>
        <p:spPr>
          <a:xfrm>
            <a:off x="6934320" y="4724280"/>
            <a:ext cx="761760" cy="304920"/>
          </a:xfrm>
          <a:prstGeom prst="rect">
            <a:avLst/>
          </a:prstGeom>
          <a:solidFill>
            <a:srgbClr val="66ffff"/>
          </a:solidFill>
          <a:ln cap="sq"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Я ч е й к 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76"/>
          <p:cNvSpPr/>
          <p:nvPr/>
        </p:nvSpPr>
        <p:spPr>
          <a:xfrm flipH="1" flipV="1">
            <a:off x="6553080" y="4343400"/>
            <a:ext cx="457200" cy="380880"/>
          </a:xfrm>
          <a:prstGeom prst="line">
            <a:avLst/>
          </a:prstGeom>
          <a:ln cap="sq" w="12600">
            <a:solidFill>
              <a:srgbClr val="eeece1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77"/>
          <p:cNvSpPr/>
          <p:nvPr/>
        </p:nvSpPr>
        <p:spPr>
          <a:xfrm flipV="1">
            <a:off x="7162920" y="3276360"/>
            <a:ext cx="0" cy="1447560"/>
          </a:xfrm>
          <a:prstGeom prst="line">
            <a:avLst/>
          </a:prstGeom>
          <a:ln cap="sq" w="12600">
            <a:solidFill>
              <a:srgbClr val="eeece1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78"/>
          <p:cNvSpPr/>
          <p:nvPr/>
        </p:nvSpPr>
        <p:spPr>
          <a:xfrm flipV="1">
            <a:off x="7315200" y="3505320"/>
            <a:ext cx="0" cy="1218960"/>
          </a:xfrm>
          <a:prstGeom prst="line">
            <a:avLst/>
          </a:prstGeom>
          <a:ln cap="sq" w="12600">
            <a:solidFill>
              <a:srgbClr val="eeece1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9"/>
          <p:cNvSpPr/>
          <p:nvPr/>
        </p:nvSpPr>
        <p:spPr>
          <a:xfrm flipV="1">
            <a:off x="7467480" y="3733560"/>
            <a:ext cx="0" cy="990360"/>
          </a:xfrm>
          <a:prstGeom prst="line">
            <a:avLst/>
          </a:prstGeom>
          <a:ln cap="sq" w="12600">
            <a:solidFill>
              <a:srgbClr val="eeece1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80"/>
          <p:cNvSpPr/>
          <p:nvPr/>
        </p:nvSpPr>
        <p:spPr>
          <a:xfrm flipH="1" flipV="1">
            <a:off x="6705720" y="3505320"/>
            <a:ext cx="380880" cy="1218960"/>
          </a:xfrm>
          <a:prstGeom prst="line">
            <a:avLst/>
          </a:prstGeom>
          <a:ln cap="sq" w="12600">
            <a:solidFill>
              <a:srgbClr val="eeece1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81"/>
          <p:cNvSpPr/>
          <p:nvPr/>
        </p:nvSpPr>
        <p:spPr>
          <a:xfrm>
            <a:off x="6400800" y="2666880"/>
            <a:ext cx="1447920" cy="228600"/>
          </a:xfrm>
          <a:prstGeom prst="rect">
            <a:avLst/>
          </a:prstGeom>
          <a:solidFill>
            <a:srgbClr val="00ffff"/>
          </a:solidFill>
          <a:ln cap="sq"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С т о л б ц 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2"/>
          <p:cNvSpPr/>
          <p:nvPr/>
        </p:nvSpPr>
        <p:spPr>
          <a:xfrm flipH="1">
            <a:off x="6248160" y="2895480"/>
            <a:ext cx="22860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84"/>
          <p:cNvSpPr/>
          <p:nvPr/>
        </p:nvSpPr>
        <p:spPr>
          <a:xfrm>
            <a:off x="7772400" y="2895480"/>
            <a:ext cx="15228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85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66ff"/>
          </a:solidFill>
          <a:ln cap="sq"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86">
            <a:hlinkClick r:id="" action="ppaction://hlinkshowjump?jump=previousslide"/>
          </p:cNvPr>
          <p:cNvSpPr/>
          <p:nvPr/>
        </p:nvSpPr>
        <p:spPr>
          <a:xfrm>
            <a:off x="91440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66ff"/>
          </a:solidFill>
          <a:ln cap="sq"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796000" y="3141720"/>
            <a:ext cx="297180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Для создания и обработки таблиц можно воспользоваться панелью инструментов «Таблицы и границы»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Можно воспользоваться пунктом меню «Таблица»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Для редактирования строки или столбца таблицы нужно выделить их с помощью мышки (удерживая левую кнопку), или используя соответствующие пункты меню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Таблица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Line 7"/>
          <p:cNvSpPr/>
          <p:nvPr/>
        </p:nvSpPr>
        <p:spPr>
          <a:xfrm flipV="1">
            <a:off x="3429000" y="1447920"/>
            <a:ext cx="2895480" cy="16761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8"/>
          <p:cNvSpPr/>
          <p:nvPr/>
        </p:nvSpPr>
        <p:spPr>
          <a:xfrm>
            <a:off x="2819520" y="4114800"/>
            <a:ext cx="35049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9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66ff"/>
          </a:solidFill>
          <a:ln cap="sq"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10">
            <a:hlinkClick r:id="" action="ppaction://hlinkshowjump?jump=previousslide"/>
          </p:cNvPr>
          <p:cNvSpPr/>
          <p:nvPr/>
        </p:nvSpPr>
        <p:spPr>
          <a:xfrm>
            <a:off x="91440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66ff"/>
          </a:solidFill>
          <a:ln cap="sq"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2"/>
          <p:cNvSpPr/>
          <p:nvPr/>
        </p:nvSpPr>
        <p:spPr>
          <a:xfrm flipV="1">
            <a:off x="3429000" y="3733560"/>
            <a:ext cx="3124080" cy="23619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324480" y="1600200"/>
            <a:ext cx="2284560" cy="4648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905120" y="990720"/>
            <a:ext cx="666900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Чтобы создать пустую таблицу,  нужно выбрать меню 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Таблица /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Добавить таблицу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и указать  нужное число строк и столбцов таблицы. Ширину столбца удобно выбрать «Авто»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Можно также воспользоваться готовым шаблоном таблицы 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Автоформат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Для составления сложной таблицы удобно пользоваться функцией 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Нарисовать таблицу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в меню 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Таблица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, или кнопкой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на панели инструментов </a:t>
            </a:r>
            <a:r>
              <a:rPr b="0" i="1" lang="ru-RU" sz="1800" spc="-1" strike="noStrike">
                <a:solidFill>
                  <a:srgbClr val="000000"/>
                </a:solidFill>
                <a:latin typeface="Franklin Gothic Book"/>
              </a:rPr>
              <a:t>Таблицы и границы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. Для редактирования таблицы удобно пользоваться кнопкой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143160" cy="15904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eeece1"/>
            </a:outerShdw>
          </a:effectLst>
        </p:spPr>
      </p:pic>
      <p:pic>
        <p:nvPicPr>
          <p:cNvPr id="76" name="Picture 7" descr=""/>
          <p:cNvPicPr/>
          <p:nvPr/>
        </p:nvPicPr>
        <p:blipFill>
          <a:blip r:embed="rId2"/>
          <a:stretch/>
        </p:blipFill>
        <p:spPr>
          <a:xfrm>
            <a:off x="4800600" y="3429000"/>
            <a:ext cx="3591000" cy="32479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eeece1"/>
            </a:outerShdw>
          </a:effectLst>
        </p:spPr>
      </p:pic>
      <p:sp>
        <p:nvSpPr>
          <p:cNvPr id="77" name="Line 8"/>
          <p:cNvSpPr/>
          <p:nvPr/>
        </p:nvSpPr>
        <p:spPr>
          <a:xfrm flipV="1">
            <a:off x="2666880" y="3885840"/>
            <a:ext cx="205740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9"/>
          <p:cNvSpPr/>
          <p:nvPr/>
        </p:nvSpPr>
        <p:spPr>
          <a:xfrm flipV="1">
            <a:off x="4038480" y="2209680"/>
            <a:ext cx="1905120" cy="763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10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66ff"/>
          </a:solidFill>
          <a:ln cap="sq"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11">
            <a:hlinkClick r:id="" action="ppaction://hlinkshowjump?jump=previousslide"/>
          </p:cNvPr>
          <p:cNvSpPr/>
          <p:nvPr/>
        </p:nvSpPr>
        <p:spPr>
          <a:xfrm>
            <a:off x="91440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66ff"/>
          </a:solidFill>
          <a:ln cap="sq"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267080" y="5029200"/>
            <a:ext cx="285840" cy="236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3429000" y="6172200"/>
            <a:ext cx="21924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Franklin Gothic Book"/>
              </a:rPr>
              <a:t>Тип и ширина линий в таблице.</a:t>
            </a:r>
            <a:endParaRPr b="0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Franklin Gothic Book"/>
              </a:rPr>
              <a:t>Цвет границы таблицы.</a:t>
            </a:r>
            <a:endParaRPr b="0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Franklin Gothic Book"/>
              </a:rPr>
              <a:t>Цвет заливки (фона) таблицы.</a:t>
            </a:r>
            <a:endParaRPr b="0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Franklin Gothic Book"/>
              </a:rPr>
              <a:t>Объединить выделенные ячейки таблицы в одну ячейку.</a:t>
            </a:r>
            <a:endParaRPr b="0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Franklin Gothic Book"/>
              </a:rPr>
              <a:t>Разбить выделенную ячейку таблицы на несколько ячеек.</a:t>
            </a:r>
            <a:endParaRPr b="0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Franklin Gothic Book"/>
              </a:rPr>
              <a:t>Выравнивание текста в ячейке по верхнему краю, по центру и по нижнему краю ячейки соответственно.</a:t>
            </a:r>
            <a:endParaRPr b="0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Franklin Gothic Book"/>
              </a:rPr>
              <a:t>Выровнять высоту строк и ширину столбцов таблицы (сначала выделить строки или столбцы, подлежащие выравниванию).</a:t>
            </a:r>
            <a:endParaRPr b="0" lang="en-US" sz="17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AutoShape 13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66ff"/>
          </a:solidFill>
          <a:ln cap="sq"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14">
            <a:hlinkClick r:id="" action="ppaction://hlinkshowjump?jump=previousslide"/>
          </p:cNvPr>
          <p:cNvSpPr/>
          <p:nvPr/>
        </p:nvSpPr>
        <p:spPr>
          <a:xfrm>
            <a:off x="91440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66ff"/>
          </a:solidFill>
          <a:ln cap="sq"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2895480" cy="237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962520" y="2379600"/>
            <a:ext cx="457200" cy="287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3962520" y="2743200"/>
            <a:ext cx="457200" cy="274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3962520" y="3124080"/>
            <a:ext cx="441360" cy="368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3962520" y="3657600"/>
            <a:ext cx="457200" cy="37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3505320" y="4419720"/>
            <a:ext cx="914400" cy="3268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3581280" y="5334120"/>
            <a:ext cx="762120" cy="33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1T17:14:17Z</dcterms:created>
  <dc:creator>Ирина</dc:creator>
  <dc:description/>
  <dc:language>en-US</dc:language>
  <cp:lastModifiedBy>Катенок</cp:lastModifiedBy>
  <dcterms:modified xsi:type="dcterms:W3CDTF">2010-03-18T19:21:38Z</dcterms:modified>
  <cp:revision>17</cp:revision>
  <dc:subject/>
  <dc:title>WORD. Работа с таблицей  (меню и панель инструментов). Формулы.</dc:title>
</cp:coreProperties>
</file>