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6.jpeg" ContentType="image/jpeg"/>
  <Override PartName="/ppt/media/image10.png" ContentType="image/png"/>
  <Override PartName="/ppt/media/image17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3.png" ContentType="image/png"/>
  <Override PartName="/ppt/media/image33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11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EB6-AB42-4CEC-8FAC-99F4DCFA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78C-6C18-4007-AE98-6C43BD84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F94-61CB-4F9C-AAC8-81823CE3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25B-FAFE-43A4-9D06-EA64CDE4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8A53-8D88-4F40-AB66-D8A651C3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9843-5CA8-45B8-BBBE-486A4845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6879-F605-40FB-9ACD-46393AEC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E773-2E48-42E9-BDFC-89759078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2A31-A5D4-40DD-873B-033180DC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5835-494A-4699-8C65-4544B140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A952-39C0-4D4B-94C5-6A273138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B67-7D53-4DBE-BDF6-2437FCEA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FEC9-1CEF-4A3F-86FC-567697F5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051C-83AE-41F2-880F-D818D5DE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E25A-8C3A-4995-8443-B44274A2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54F0-7265-49F7-9E3E-67754E9B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D857-A131-437E-A239-001C7979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375C0-F8E4-401D-9DC9-9F9E4923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35C46-DD7F-49F7-BB3B-828C43B0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98EC-089E-4091-977C-4526BB5B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98D1D-87DC-4AD6-BC3D-0705FBC6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DF4A-BF50-413D-AD51-C69C8D54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182-7004-46B4-8541-85B2538D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45D49-455B-4BC9-8469-B7A64E37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33F97-BCB8-4C29-94B5-3F295F58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79B83-11DF-4360-A5CB-2319A477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D34B-397D-46D1-8055-65DF7A91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D322-C2EF-4C13-8E8C-CD9A2085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08F4F-E14A-4392-8B67-370CB1A9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D95E-BBBC-43DC-9371-C1E301AF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0F2-F362-4FF1-99F4-83BB8D27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EAF-5FFF-4B47-BF93-05B269B3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F0B-F90B-4085-8CD0-0FFF530E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152B-D700-4257-930B-2796E161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3F0-88E6-4845-BC53-6F646ACB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1EF-FC14-4C53-B9B9-A5C1B464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250A-71DB-4DCB-B19C-65D4E09703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93A0-63CF-48EA-856A-8EA1C91F5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2A15-9365-4BBF-A6BA-D3976DF4D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life.team22.ru/" TargetMode="External"/><Relationship Id="rId2" Type="http://schemas.openxmlformats.org/officeDocument/2006/relationships/hyperlink" Target="http://olymp2010.rambler.ru/" TargetMode="External"/><Relationship Id="rId3" Type="http://schemas.openxmlformats.org/officeDocument/2006/relationships/hyperlink" Target="http://mymuza.ru/" TargetMode="External"/><Relationship Id="rId4" Type="http://schemas.openxmlformats.org/officeDocument/2006/relationships/hyperlink" Target="http://ru.wikipedia.org/" TargetMode="External"/><Relationship Id="rId5" Type="http://schemas.openxmlformats.org/officeDocument/2006/relationships/hyperlink" Target="http://ru.wikipedia.org/" TargetMode="External"/><Relationship Id="rId6" Type="http://schemas.openxmlformats.org/officeDocument/2006/relationships/hyperlink" Target="http://sochi2014.com/" TargetMode="External"/><Relationship Id="rId7" Type="http://schemas.openxmlformats.org/officeDocument/2006/relationships/hyperlink" Target="http://sochi2014.com/" TargetMode="External"/><Relationship Id="rId8" Type="http://schemas.openxmlformats.org/officeDocument/2006/relationships/hyperlink" Target="http://sochi2014.com/" TargetMode="External"/><Relationship Id="rId9" Type="http://schemas.openxmlformats.org/officeDocument/2006/relationships/hyperlink" Target="http://sochi2014.com/" TargetMode="External"/><Relationship Id="rId10" Type="http://schemas.openxmlformats.org/officeDocument/2006/relationships/hyperlink" Target="http://olympic.kz/" TargetMode="External"/><Relationship Id="rId11" Type="http://schemas.openxmlformats.org/officeDocument/2006/relationships/hyperlink" Target="http://olympic.kz/" TargetMode="External"/><Relationship Id="rId12" Type="http://schemas.openxmlformats.org/officeDocument/2006/relationships/hyperlink" Target="http://olympic.kz/" TargetMode="External"/><Relationship Id="rId13" Type="http://schemas.openxmlformats.org/officeDocument/2006/relationships/hyperlink" Target="http://olympic.kz/" TargetMode="External"/><Relationship Id="rId14" Type="http://schemas.openxmlformats.org/officeDocument/2006/relationships/hyperlink" Target="http://1tv.ru/" TargetMode="External"/><Relationship Id="rId15" Type="http://schemas.openxmlformats.org/officeDocument/2006/relationships/hyperlink" Target="http://1tv.ru/" TargetMode="External"/><Relationship Id="rId16" Type="http://schemas.openxmlformats.org/officeDocument/2006/relationships/hyperlink" Target="http://1tv.ru/" TargetMode="External"/><Relationship Id="rId17" Type="http://schemas.openxmlformats.org/officeDocument/2006/relationships/hyperlink" Target="http://olymps.ru/" TargetMode="External"/><Relationship Id="rId18" Type="http://schemas.openxmlformats.org/officeDocument/2006/relationships/hyperlink" Target="http://olymps.ru/" TargetMode="External"/><Relationship Id="rId19" Type="http://schemas.openxmlformats.org/officeDocument/2006/relationships/hyperlink" Target="http://olymps.ru/" TargetMode="External"/><Relationship Id="rId20" Type="http://schemas.openxmlformats.org/officeDocument/2006/relationships/hyperlink" Target="http://www.uchportal.ru/" TargetMode="External"/><Relationship Id="rId2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557360"/>
            <a:ext cx="8351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стория Олимпийских иг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2140" t="20482" r="13548" b="24851"/>
          <a:stretch/>
        </p:blipFill>
        <p:spPr>
          <a:xfrm>
            <a:off x="2124000" y="3216240"/>
            <a:ext cx="4392720" cy="2154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51280" y="5529240"/>
            <a:ext cx="5113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– Шутова Мария Александровна,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216 «Дидакт» г. Заречного Пенз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938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981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64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537372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515772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805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2924280"/>
            <a:ext cx="84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413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70828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497480" cy="3665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7591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140360" y="2997360"/>
            <a:ext cx="4695840" cy="3522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518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5218200" cy="3705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4024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5146920" cy="3860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9640" y="284148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3673440" cy="3156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4098600" cy="6048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643280" y="2781360"/>
            <a:ext cx="36626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620120" cy="5048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7920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775640" cy="5182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7848720" cy="5167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84360" y="692280"/>
            <a:ext cx="79866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5545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003640" y="620640"/>
            <a:ext cx="37688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840120" cy="5761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915080" y="620640"/>
            <a:ext cx="38401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80120" cy="5307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547640" y="60213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еция. Олимпия. Современн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998880" cy="5688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57640" y="549360"/>
            <a:ext cx="3665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6128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69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7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32000" y="1341360"/>
            <a:ext cx="416556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fe.team22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lymp2010.rambler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ymuz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ru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ochi2014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olympic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k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1tv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olymp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uchporta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58920" y="62064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ны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2306" r="0" b="0"/>
          <a:stretch/>
        </p:blipFill>
        <p:spPr>
          <a:xfrm>
            <a:off x="4932360" y="260280"/>
            <a:ext cx="4029120" cy="5905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64000" y="616572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ьер де Кубер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2717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410600" cy="5558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857556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12140" t="20482" r="13548" b="24851"/>
          <a:stretch/>
        </p:blipFill>
        <p:spPr>
          <a:xfrm>
            <a:off x="468360" y="549360"/>
            <a:ext cx="8351640" cy="4095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5229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ius, Altius, Fortius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ее, выше, силь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404120" cy="5553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26920" y="6021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мони - столица первых зимних Олимпийских 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346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604188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1:07:22Z</dcterms:created>
  <dc:creator>Admin</dc:creator>
  <dc:description/>
  <dc:language>en-US</dc:language>
  <cp:lastModifiedBy>Катенок</cp:lastModifiedBy>
  <dcterms:modified xsi:type="dcterms:W3CDTF">2010-02-25T18:35:52Z</dcterms:modified>
  <cp:revision>7</cp:revision>
  <dc:subject/>
  <dc:title>История Олимпийских игр</dc:title>
</cp:coreProperties>
</file>