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7.png" ContentType="image/png"/>
  <Override PartName="/ppt/media/image22.jpeg" ContentType="image/jpeg"/>
  <Override PartName="/ppt/media/image9.png" ContentType="image/png"/>
  <Override PartName="/ppt/media/image20.jpeg" ContentType="image/jpeg"/>
  <Override PartName="/ppt/media/image6.jpeg" ContentType="image/jpeg"/>
  <Override PartName="/ppt/media/image10.png" ContentType="image/png"/>
  <Override PartName="/ppt/media/image17.jpeg" ContentType="image/jpeg"/>
  <Override PartName="/ppt/media/image8.jpeg" ContentType="image/jpeg"/>
  <Override PartName="/ppt/media/image30.png" ContentType="image/png"/>
  <Override PartName="/ppt/media/image13.jpeg" ContentType="image/jpeg"/>
  <Override PartName="/ppt/media/image23.png" ContentType="image/png"/>
  <Override PartName="/ppt/media/image3.png" ContentType="image/png"/>
  <Override PartName="/ppt/media/image33.png" ContentType="image/png"/>
  <Override PartName="/ppt/media/image14.jpeg" ContentType="image/jpeg"/>
  <Override PartName="/ppt/media/image7.jpeg" ContentType="image/jpeg"/>
  <Override PartName="/ppt/media/image28.jpeg" ContentType="image/jpeg"/>
  <Override PartName="/ppt/media/image34.png" ContentType="image/png"/>
  <Override PartName="/ppt/media/image12.jpeg" ContentType="image/jpeg"/>
  <Override PartName="/ppt/media/image35.png" ContentType="image/png"/>
  <Override PartName="/ppt/media/image11.wmf" ContentType="image/x-wmf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media/image2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6.jpeg" ContentType="image/jpeg"/>
  <Override PartName="/ppt/media/image15.png" ContentType="image/pn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BF57-072A-4651-A773-3905DA310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5C18-4DCF-4824-8110-C16AB92C8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D807-0138-4DA6-9556-6350012FE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E446-7C55-4701-AA5A-BFDFF1B00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53800-1C24-4547-B2FE-B2206B67B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9B89A-365F-4DBC-8AFB-5A5E3AFC7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591B1-1EA9-4827-B45B-678E0A2DD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3F057-6DDA-4ECF-B901-9D1B6A328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72308-9CDB-420E-AD92-D14630306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08BCB-104E-4F11-9AB7-79B1A3BF0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36A94-500C-4057-BF4E-47DDB3B08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A98A-0743-49D7-A8FA-C0BBB4D34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C0E2B-0CD1-4BFD-8529-C2B856F28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2B6FD-FA6D-4729-8614-0C70A14A8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72CCC-C0AA-430C-8AC3-4AFD8EEF2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ED69F-84A9-4C81-9944-027BE9A68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751E1-9DCC-4C3D-A53B-19D971B91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BA74B-C1E1-4D0A-87CA-6ED106143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1E1FE-8C36-4032-8E87-6ED2AE10E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41E06-797C-4E3C-BBDF-69317A3FC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B93C5-EF2D-4F48-9AA8-C966C85D9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F93CC-ECDB-45CF-98DD-AA1262BEF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6A17-8502-4394-8AC7-E2CB4B614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90DC4-F69F-4567-A234-0E3BF1CA7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E8F21-672C-48CA-B3B6-B2AC31209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12415-5840-4853-88A4-1C7E37525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4724F-46BF-43C1-88C0-398430D71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59A1C-7968-4380-8437-2F3C99FB9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88DC8-A0A0-48D7-B8B5-3E0D7D481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E6762-E737-4B7A-AC83-AFC324C8B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FFAA-87A9-405D-9BDA-7E20CB4FE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B390-6C6E-4E8E-930B-1CF801A0C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191F-5181-4D34-A578-093E7A00D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15CE-6761-4828-BDF5-F234E740C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23CD-194B-4EDA-93B5-AE96495DD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5931-1807-4DD4-AC39-448ABE0D2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95693-71D4-4D8E-B593-158CF5B298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65FC6-BDE6-4CE7-9AC3-DF72191559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C5299-F3AF-4831-9B99-FC1BBEC86E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life.team22.ru/" TargetMode="External"/><Relationship Id="rId2" Type="http://schemas.openxmlformats.org/officeDocument/2006/relationships/hyperlink" Target="http://olymp2010.rambler.ru/" TargetMode="External"/><Relationship Id="rId3" Type="http://schemas.openxmlformats.org/officeDocument/2006/relationships/hyperlink" Target="http://mymuza.ru/" TargetMode="External"/><Relationship Id="rId4" Type="http://schemas.openxmlformats.org/officeDocument/2006/relationships/hyperlink" Target="http://ru.wikipedia.org/" TargetMode="External"/><Relationship Id="rId5" Type="http://schemas.openxmlformats.org/officeDocument/2006/relationships/hyperlink" Target="http://ru.wikipedia.org/" TargetMode="External"/><Relationship Id="rId6" Type="http://schemas.openxmlformats.org/officeDocument/2006/relationships/hyperlink" Target="http://sochi2014.com/" TargetMode="External"/><Relationship Id="rId7" Type="http://schemas.openxmlformats.org/officeDocument/2006/relationships/hyperlink" Target="http://sochi2014.com/" TargetMode="External"/><Relationship Id="rId8" Type="http://schemas.openxmlformats.org/officeDocument/2006/relationships/hyperlink" Target="http://sochi2014.com/" TargetMode="External"/><Relationship Id="rId9" Type="http://schemas.openxmlformats.org/officeDocument/2006/relationships/hyperlink" Target="http://sochi2014.com/" TargetMode="External"/><Relationship Id="rId10" Type="http://schemas.openxmlformats.org/officeDocument/2006/relationships/hyperlink" Target="http://olympic.kz/" TargetMode="External"/><Relationship Id="rId11" Type="http://schemas.openxmlformats.org/officeDocument/2006/relationships/hyperlink" Target="http://olympic.kz/" TargetMode="External"/><Relationship Id="rId12" Type="http://schemas.openxmlformats.org/officeDocument/2006/relationships/hyperlink" Target="http://olympic.kz/" TargetMode="External"/><Relationship Id="rId13" Type="http://schemas.openxmlformats.org/officeDocument/2006/relationships/hyperlink" Target="http://olympic.kz/" TargetMode="External"/><Relationship Id="rId14" Type="http://schemas.openxmlformats.org/officeDocument/2006/relationships/hyperlink" Target="http://1tv.ru/" TargetMode="External"/><Relationship Id="rId15" Type="http://schemas.openxmlformats.org/officeDocument/2006/relationships/hyperlink" Target="http://1tv.ru/" TargetMode="External"/><Relationship Id="rId16" Type="http://schemas.openxmlformats.org/officeDocument/2006/relationships/hyperlink" Target="http://1tv.ru/" TargetMode="External"/><Relationship Id="rId17" Type="http://schemas.openxmlformats.org/officeDocument/2006/relationships/hyperlink" Target="http://olymps.ru/" TargetMode="External"/><Relationship Id="rId18" Type="http://schemas.openxmlformats.org/officeDocument/2006/relationships/hyperlink" Target="http://olymps.ru/" TargetMode="External"/><Relationship Id="rId19" Type="http://schemas.openxmlformats.org/officeDocument/2006/relationships/hyperlink" Target="http://olymps.ru/" TargetMode="External"/><Relationship Id="rId20" Type="http://schemas.openxmlformats.org/officeDocument/2006/relationships/hyperlink" Target="http://www.uchportal.ru/" TargetMode="External"/><Relationship Id="rId2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3640" y="1557360"/>
            <a:ext cx="83516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История Олимпийских игр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12140" t="20482" r="13548" b="24851"/>
          <a:stretch/>
        </p:blipFill>
        <p:spPr>
          <a:xfrm>
            <a:off x="2124000" y="3216240"/>
            <a:ext cx="4392720" cy="21542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851280" y="5529240"/>
            <a:ext cx="51134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 – Шутова Мария Александровна, учитель русского языка и литерату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СОШ № 216 «Дидакт» г. Заречного Пензен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569080" cy="59389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24000" y="98100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4000" y="364500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24000" y="537372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4000" y="515772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80536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4000" y="2924280"/>
            <a:ext cx="849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" y="141300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4000" y="270828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4000" y="321300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356000" y="404640"/>
            <a:ext cx="4497480" cy="36658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375912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140360" y="2997360"/>
            <a:ext cx="4695840" cy="35226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518472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564000" y="404640"/>
            <a:ext cx="5218200" cy="37054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68360" y="981000"/>
            <a:ext cx="402444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635280" y="476280"/>
            <a:ext cx="5146920" cy="38606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539640" y="2841480"/>
            <a:ext cx="46087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148360" y="333360"/>
            <a:ext cx="3673440" cy="31561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324000" y="404640"/>
            <a:ext cx="4098600" cy="60487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4643280" y="2781360"/>
            <a:ext cx="3662640" cy="36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4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4000"/>
                            </p:stCondLst>
                            <p:childTnLst>
                              <p:par>
                                <p:cTn id="13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2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826920" y="836640"/>
            <a:ext cx="7620120" cy="50482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611280" y="765000"/>
            <a:ext cx="7920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9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3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826920" y="692280"/>
            <a:ext cx="7775640" cy="51829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826920" y="692280"/>
            <a:ext cx="7848720" cy="51670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684360" y="692280"/>
            <a:ext cx="798660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0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4248000" cy="55450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5003640" y="620640"/>
            <a:ext cx="376884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6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1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3840120" cy="57610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4915080" y="620640"/>
            <a:ext cx="38401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8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7980120" cy="53071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547640" y="6021360"/>
            <a:ext cx="61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реция. Олимпия. Современный ви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3998880" cy="56880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5057640" y="549360"/>
            <a:ext cx="366552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4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8261280" cy="55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1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796932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204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07" dur="1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332000" y="1341360"/>
            <a:ext cx="4165560" cy="65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life.team22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olymp2010.rambler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mymuza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ru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.wikipedia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sochi2014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olympic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k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http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1tv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http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olymps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http://www.uchportal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258920" y="620640"/>
            <a:ext cx="59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пользованные материа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rcRect l="0" t="2306" r="0" b="0"/>
          <a:stretch/>
        </p:blipFill>
        <p:spPr>
          <a:xfrm>
            <a:off x="4932360" y="260280"/>
            <a:ext cx="4029120" cy="59054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5364000" y="6165720"/>
            <a:ext cx="31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ьер де Куберт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427176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55640" y="620640"/>
            <a:ext cx="7410600" cy="55580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250920" y="620640"/>
            <a:ext cx="8575560" cy="560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rcRect l="12140" t="20482" r="13548" b="24851"/>
          <a:stretch/>
        </p:blipFill>
        <p:spPr>
          <a:xfrm>
            <a:off x="468360" y="549360"/>
            <a:ext cx="8351640" cy="40957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684360" y="522936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tius, Altius, Fortius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стрее, выше, сильн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900000" y="333360"/>
            <a:ext cx="7404120" cy="5553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826920" y="6021360"/>
            <a:ext cx="77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амони - столица первых зимних Олимпийских иг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8234640" cy="54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35164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5" dur="1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692360" y="404640"/>
            <a:ext cx="6041880" cy="604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3T11:07:22Z</dcterms:created>
  <dc:creator>Admin</dc:creator>
  <dc:description/>
  <dc:language>en-US</dc:language>
  <cp:lastModifiedBy>Катенок</cp:lastModifiedBy>
  <dcterms:modified xsi:type="dcterms:W3CDTF">2010-02-25T18:35:52Z</dcterms:modified>
  <cp:revision>7</cp:revision>
  <dc:subject/>
  <dc:title>История Олимпийских игр</dc:title>
</cp:coreProperties>
</file>