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CDA-88A9-4239-BF39-F5052AFF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5368-C5F4-4BCE-AA1F-5872F863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021F-0308-4803-A344-CC04CCD3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C82-6991-4ABA-99D0-C661D9B8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5325-6585-4CA3-9289-339BE120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C4DA-BA3B-4000-B70C-23AB0ECD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75C3-8644-4C85-BC15-1FF65B09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4D1D-7E25-4D91-A32A-A4CA385F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AFA9-0DDA-41AD-AF10-55867643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CFFC-656A-420B-ACCF-B02E0C89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DED5-9831-4512-B179-CC69F83F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E231-DDC0-428B-B158-8D59DC79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4D68-F7D2-4F84-A515-D3AE4176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3DA3-3342-4C53-A0D8-51C9AE49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810E-5AA9-41FC-8442-57E0C755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BABB-C9E9-49F9-AA33-7835983F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58CA-5CBE-42A2-BE17-85BD157E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504FB-6224-407C-9B66-5135D455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2B2D6-7F77-4BAA-AF7D-B6775FDF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079B6-1B1A-4EED-9394-D389B287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E66B1-CD9F-462A-A0BD-7E191B2D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565DD-587C-4F4E-A152-BA5CF92A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B0B9-952F-496C-86E9-8E3BCFC8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8B5F2-0CFC-41EA-BBEC-172D5373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70D36-FDA3-4385-B0A8-C6C81AC0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1398C-8C36-450C-8F2D-99936D75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97993-E34C-4BDF-9BE9-DBEB50B6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85843-A22A-45B6-B34C-60FF9EE8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5BAD8-7B0D-43EA-B884-DDA25EA7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A90CF-0EB4-4C6D-BB4F-20EEB489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50BAE-AC65-4F36-A998-3B26A278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28C21-7A1E-4DF4-99E7-63E94AAF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92CA9-8AB1-491A-9186-EB6A3EB0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F195-C760-459F-8CC1-D4CA342E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735DD-12DA-4B1D-95FC-4B1292E4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15268-ACAF-4122-8DDF-3DEF824E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967FD-FC16-4C2A-AB9B-D37C998A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8F199-DBCA-4001-AA4F-34B424FF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71FE1-572F-417F-AD8C-F01A67F0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88FDE-FACC-4ACC-90AB-03F26695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908F9-6413-4399-88BE-6A1ED552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365B9-E31E-4C46-B047-87AB9CFA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AFBDA-E041-4AAF-9688-E0EC0EC3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DB185-7D63-4774-8177-C8BD4164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1F7-E618-4A7F-B3CC-40C6B7BD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5D98B-66C5-4A1A-B4EC-36F27C66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52C0B-AFFA-415B-81D6-C7A382F2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1C395-C02A-4681-A88D-673A6DFC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49D1E-64B2-41F8-B3CE-6B65644E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5922A-547F-44BD-98BB-7BDA1F6E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8362C-122D-44E5-BD3D-17B6E088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78C90-9CEC-4E13-8935-76DE3A10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39CEB-90FB-4366-BBB1-763F33C9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D17C6-7332-4A1B-8DA3-8EAAA4AD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B71CF-6562-459B-926A-7BE81F04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FD22-48D8-4C18-A6A2-2EEE2126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64AD1-F106-4A0B-BB76-7409262A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6F0-4AE3-425B-A7DB-5B1DB1BB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0C2-75E7-4630-8031-F3AD4429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A7E7-914F-492A-B58B-E50643FE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968F-50F3-4184-B81A-175D574E438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AED4-1209-4D9E-9532-1FAF2F6652D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B659-509B-4F49-9D67-738FCBEB8F6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B22B-1822-49B5-A0D8-A40C696AFE2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C005-BB31-44C4-8FA2-4E8D5723CD4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krugosvet.ru/enc/gumanitarnye_nauki/lingvistika/NEODNOZNACHNOST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Явление омонимии в русском языке</a:t>
            </a:r>
            <a:endParaRPr b="0" lang="en-US" sz="5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4429080" y="514368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лотникова Ольга Викторовна, учитель русского языка высшей категории МОУ «Гимназия № 2 г. Ор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2560" y="1285560"/>
            <a:ext cx="900108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	</a:t>
            </a: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Очень важную роль здесь играют размеры зёрен: крупнозернистый </a:t>
            </a:r>
            <a:r>
              <a:rPr b="1" lang="ru-RU" sz="2900" spc="-1" strike="noStrike">
                <a:solidFill>
                  <a:srgbClr val="572314"/>
                </a:solidFill>
                <a:latin typeface="Corbel"/>
              </a:rPr>
              <a:t>материал</a:t>
            </a: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 непрочен, легко разрушается по границам кристаллов; мелкозернистая структура прочнее – мелкие кристаллы плотнее прилегают друг к другу и сцепляются с большей силой. 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357120" y="4500720"/>
            <a:ext cx="8286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обсуждения      4) тка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о, сырьё            3) источ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"/>
          <p:cNvSpPr/>
          <p:nvPr/>
        </p:nvSpPr>
        <p:spPr>
          <a:xfrm>
            <a:off x="285840" y="21420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А. 11. Укажите значение слова МАТЕРИАЛ в предложе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56840" y="142560"/>
            <a:ext cx="749772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Запись в словарях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57160"/>
            <a:ext cx="45147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ОРКА см. Нор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ОРКА -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щный пушной зверёк семейства куньих с густым блестящим мехом (серого, белого, чёрного и разных оттенков коричневого цвета)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0" y="999720"/>
            <a:ext cx="44337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Я –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Яркое освещение горизонта перед восходом и после захода солнца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нняя пора, начало, зарождение чего-л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Военный сигнал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27130e"/>
                </a:solidFill>
                <a:latin typeface="Corbel"/>
              </a:rPr>
              <a:t>	</a:t>
            </a:r>
            <a:r>
              <a:rPr b="1" i="1" lang="ru-RU" sz="2900" spc="-1" strike="noStrike">
                <a:solidFill>
                  <a:srgbClr val="27130e"/>
                </a:solidFill>
                <a:latin typeface="Corbel"/>
              </a:rPr>
              <a:t>Можно ли вне контекста выделить морфемы в словах? Одинаков ли будет способ образования данных слов?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бескровный;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мой;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простой.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7130e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Назовите формообразующие морфемы и словообразующие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глубочайший;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вышел;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рассмотри;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сгреб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7130e"/>
                </a:solidFill>
                <a:latin typeface="Corbel"/>
              </a:rPr>
              <a:t>Произведите морфемный и словообразовательный разбор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160020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переносица  и носильщик;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водяной  и водитель,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правовой и справа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900108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i="1" lang="ru-RU" sz="3200" spc="-1" strike="noStrike">
                <a:solidFill>
                  <a:srgbClr val="27130e"/>
                </a:solidFill>
                <a:latin typeface="Corbel"/>
              </a:rPr>
              <a:t>А10. Укажите правильную морфологическую характеристику слова БОГАТЫ из предложения: </a:t>
            </a:r>
            <a:br>
              <a:rPr sz="2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178560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НИ ЗНАЛИ, ГДЕ НАХОДИТСЯ ЛЕС, КУСТАРНИК ИЛИ ЛУГ, ЗНАЛИ, ЧЕМ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БОГАТЫ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ЛЕСА.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) глагол в форме прошедшего времени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2) краткое прилагательное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3) причастие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4) полное прилагательно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2500" spc="-1" strike="noStrike">
                <a:solidFill>
                  <a:srgbClr val="27130e"/>
                </a:solidFill>
                <a:latin typeface="Corbel"/>
              </a:rPr>
              <a:t>В2. Из предложений 5 – 10 выпишите прилагательное в фор­ме простой превосходной степени.</a:t>
            </a:r>
            <a:br>
              <a:rPr sz="39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1589040"/>
            <a:ext cx="90010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(5)Духовность не то, что культура поведения или образованность. (6)Огромное количество людей, не имея образования, обладает высочайшей силой духа. (7)Интеллигентность – не образованность, а духовность. (8)Отчего самые тонкие ценители искусства бывают порой негодными людьми? (9)Да потому, что само по себе чтение книг, посещение театров и музеев не есть духовная жизнь. (10)Духовная жизнь человека – это его собственное стремление к высокому, и тогда книга или театр волнуют его, потому что отвечают его стремлениям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i="1" lang="ru-RU" sz="2900" spc="-1" strike="noStrike">
                <a:solidFill>
                  <a:srgbClr val="27130e"/>
                </a:solidFill>
                <a:latin typeface="Corbel"/>
              </a:rPr>
              <a:t>	</a:t>
            </a:r>
            <a:r>
              <a:rPr b="1" i="1" lang="ru-RU" sz="2900" spc="-1" strike="noStrike">
                <a:solidFill>
                  <a:srgbClr val="27130e"/>
                </a:solidFill>
                <a:latin typeface="Corbel"/>
              </a:rPr>
              <a:t>Определите, что перед нами: сравнительная степень прилагательного,  сравнительная степень наречия, повелительное наклонение глагола?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287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Он стал красней помидор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расней, красней, пусть тебе будет стыдн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то сказал, что твоя кровь краснее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Марс на ночном небе становится все ярче и красне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Обе краснеют, краснее вечерней зар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раснее крови розы лепесто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Алгоритм отличия сравнительной степени наречия и прилагательного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2" name="TextBox 2"/>
          <p:cNvSpPr/>
          <p:nvPr/>
        </p:nvSpPr>
        <p:spPr>
          <a:xfrm>
            <a:off x="1000080" y="1000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Какую синтаксическую функцию выполня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285840" y="185724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стоя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4"/>
          <p:cNvSpPr/>
          <p:nvPr/>
        </p:nvSpPr>
        <p:spPr>
          <a:xfrm>
            <a:off x="3429000" y="185724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зу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2071800" y="278604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редложение двусоставн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6"/>
          <p:cNvSpPr/>
          <p:nvPr/>
        </p:nvSpPr>
        <p:spPr>
          <a:xfrm>
            <a:off x="4929120" y="342900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3071880" y="342900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8"/>
          <p:cNvSpPr/>
          <p:nvPr/>
        </p:nvSpPr>
        <p:spPr>
          <a:xfrm>
            <a:off x="4429080" y="478620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Большая степень признак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трелка вниз 10"/>
          <p:cNvSpPr/>
          <p:nvPr/>
        </p:nvSpPr>
        <p:spPr>
          <a:xfrm>
            <a:off x="1285920" y="1571760"/>
            <a:ext cx="42876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трелка вниз 11"/>
          <p:cNvSpPr/>
          <p:nvPr/>
        </p:nvSpPr>
        <p:spPr>
          <a:xfrm>
            <a:off x="4071960" y="1571760"/>
            <a:ext cx="42876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трелка вниз 12"/>
          <p:cNvSpPr/>
          <p:nvPr/>
        </p:nvSpPr>
        <p:spPr>
          <a:xfrm>
            <a:off x="4000680" y="2357280"/>
            <a:ext cx="42840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трелка вниз 13"/>
          <p:cNvSpPr/>
          <p:nvPr/>
        </p:nvSpPr>
        <p:spPr>
          <a:xfrm>
            <a:off x="3143160" y="3143160"/>
            <a:ext cx="42876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трелка вниз 14"/>
          <p:cNvSpPr/>
          <p:nvPr/>
        </p:nvSpPr>
        <p:spPr>
          <a:xfrm>
            <a:off x="5000760" y="3143160"/>
            <a:ext cx="42840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трелка вниз 15"/>
          <p:cNvSpPr/>
          <p:nvPr/>
        </p:nvSpPr>
        <p:spPr>
          <a:xfrm>
            <a:off x="2643120" y="4500720"/>
            <a:ext cx="42876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трелка вниз 16"/>
          <p:cNvSpPr/>
          <p:nvPr/>
        </p:nvSpPr>
        <p:spPr>
          <a:xfrm>
            <a:off x="4929120" y="4500720"/>
            <a:ext cx="42876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357120" y="585792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е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8"/>
          <p:cNvSpPr/>
          <p:nvPr/>
        </p:nvSpPr>
        <p:spPr>
          <a:xfrm>
            <a:off x="2071800" y="58579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е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9"/>
          <p:cNvSpPr/>
          <p:nvPr/>
        </p:nvSpPr>
        <p:spPr>
          <a:xfrm>
            <a:off x="3929040" y="59292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0"/>
          <p:cNvSpPr/>
          <p:nvPr/>
        </p:nvSpPr>
        <p:spPr>
          <a:xfrm>
            <a:off x="142920" y="228600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прыгнул выше от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Группа 26"/>
          <p:cNvGrpSpPr/>
          <p:nvPr/>
        </p:nvGrpSpPr>
        <p:grpSpPr>
          <a:xfrm>
            <a:off x="1214280" y="2714760"/>
            <a:ext cx="928800" cy="71280"/>
            <a:chOff x="1214280" y="2714760"/>
            <a:chExt cx="928800" cy="71280"/>
          </a:xfrm>
        </p:grpSpPr>
        <p:sp>
          <p:nvSpPr>
            <p:cNvPr id="321" name="Прямоугольник 23"/>
            <p:cNvSpPr/>
            <p:nvPr/>
          </p:nvSpPr>
          <p:spPr>
            <a:xfrm>
              <a:off x="1214280" y="2714760"/>
              <a:ext cx="285840" cy="71280"/>
            </a:xfrm>
            <a:prstGeom prst="rect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Овал 24"/>
            <p:cNvSpPr/>
            <p:nvPr/>
          </p:nvSpPr>
          <p:spPr>
            <a:xfrm>
              <a:off x="1643040" y="2714760"/>
              <a:ext cx="71280" cy="71280"/>
            </a:xfrm>
            <a:prstGeom prst="ellips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Прямоугольник 25"/>
            <p:cNvSpPr/>
            <p:nvPr/>
          </p:nvSpPr>
          <p:spPr>
            <a:xfrm>
              <a:off x="1857240" y="2714760"/>
              <a:ext cx="285840" cy="71280"/>
            </a:xfrm>
            <a:prstGeom prst="rect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Box 27"/>
          <p:cNvSpPr/>
          <p:nvPr/>
        </p:nvSpPr>
        <p:spPr>
          <a:xfrm>
            <a:off x="2000160" y="378612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о теп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Группа 32"/>
          <p:cNvGrpSpPr/>
          <p:nvPr/>
        </p:nvGrpSpPr>
        <p:grpSpPr>
          <a:xfrm>
            <a:off x="2071800" y="4143240"/>
            <a:ext cx="1571400" cy="189000"/>
            <a:chOff x="2071800" y="4143240"/>
            <a:chExt cx="1571400" cy="189000"/>
          </a:xfrm>
        </p:grpSpPr>
        <p:sp>
          <p:nvSpPr>
            <p:cNvPr id="326" name="Прямоугольник 30"/>
            <p:cNvSpPr/>
            <p:nvPr/>
          </p:nvSpPr>
          <p:spPr>
            <a:xfrm>
              <a:off x="2071800" y="4143240"/>
              <a:ext cx="1571400" cy="46080"/>
            </a:xfrm>
            <a:prstGeom prst="rect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Прямоугольник 31"/>
            <p:cNvSpPr/>
            <p:nvPr/>
          </p:nvSpPr>
          <p:spPr>
            <a:xfrm>
              <a:off x="2071800" y="4286160"/>
              <a:ext cx="1571400" cy="46080"/>
            </a:xfrm>
            <a:prstGeom prst="rect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Box 33"/>
          <p:cNvSpPr/>
          <p:nvPr/>
        </p:nvSpPr>
        <p:spPr>
          <a:xfrm>
            <a:off x="4357800" y="38577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выше от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Группа 37"/>
          <p:cNvGrpSpPr/>
          <p:nvPr/>
        </p:nvGrpSpPr>
        <p:grpSpPr>
          <a:xfrm>
            <a:off x="4357800" y="4214880"/>
            <a:ext cx="1133280" cy="189000"/>
            <a:chOff x="4357800" y="4214880"/>
            <a:chExt cx="1133280" cy="189000"/>
          </a:xfrm>
        </p:grpSpPr>
        <p:sp>
          <p:nvSpPr>
            <p:cNvPr id="330" name="Прямоугольник 34"/>
            <p:cNvSpPr/>
            <p:nvPr/>
          </p:nvSpPr>
          <p:spPr>
            <a:xfrm>
              <a:off x="4357800" y="4214880"/>
              <a:ext cx="428400" cy="71280"/>
            </a:xfrm>
            <a:prstGeom prst="rect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Прямоугольник 35"/>
            <p:cNvSpPr/>
            <p:nvPr/>
          </p:nvSpPr>
          <p:spPr>
            <a:xfrm flipV="1">
              <a:off x="4857840" y="4214880"/>
              <a:ext cx="633240" cy="46080"/>
            </a:xfrm>
            <a:prstGeom prst="rect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Прямоугольник 36"/>
            <p:cNvSpPr/>
            <p:nvPr/>
          </p:nvSpPr>
          <p:spPr>
            <a:xfrm flipV="1">
              <a:off x="4857840" y="4357800"/>
              <a:ext cx="633240" cy="46080"/>
            </a:xfrm>
            <a:prstGeom prst="rect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Стрелка вниз 38"/>
          <p:cNvSpPr/>
          <p:nvPr/>
        </p:nvSpPr>
        <p:spPr>
          <a:xfrm>
            <a:off x="2643120" y="5572080"/>
            <a:ext cx="42876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Стрелка вниз 39"/>
          <p:cNvSpPr/>
          <p:nvPr/>
        </p:nvSpPr>
        <p:spPr>
          <a:xfrm>
            <a:off x="5286240" y="5572080"/>
            <a:ext cx="42876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трелка вниз 40"/>
          <p:cNvSpPr/>
          <p:nvPr/>
        </p:nvSpPr>
        <p:spPr>
          <a:xfrm>
            <a:off x="928800" y="3000240"/>
            <a:ext cx="428400" cy="278604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00b0f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трелка вниз 41"/>
          <p:cNvSpPr/>
          <p:nvPr/>
        </p:nvSpPr>
        <p:spPr>
          <a:xfrm>
            <a:off x="6500880" y="1500120"/>
            <a:ext cx="42840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42"/>
          <p:cNvSpPr/>
          <p:nvPr/>
        </p:nvSpPr>
        <p:spPr>
          <a:xfrm>
            <a:off x="6000840" y="185724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43"/>
          <p:cNvSpPr/>
          <p:nvPr/>
        </p:nvSpPr>
        <p:spPr>
          <a:xfrm>
            <a:off x="5929200" y="23572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й мне тарелку помен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Двойная волна 47"/>
          <p:cNvSpPr/>
          <p:nvPr/>
        </p:nvSpPr>
        <p:spPr>
          <a:xfrm>
            <a:off x="7858080" y="2714760"/>
            <a:ext cx="1071720" cy="285480"/>
          </a:xfrm>
          <a:custGeom>
            <a:avLst/>
            <a:gdLst>
              <a:gd name="textAreaLeft" fmla="*/ 0 w 1071720"/>
              <a:gd name="textAreaRight" fmla="*/ 1072080 w 1071720"/>
              <a:gd name="textAreaTop" fmla="*/ 35640 h 285480"/>
              <a:gd name="textAreaBottom" fmla="*/ 249840 h 28548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Стрелка вниз 48"/>
          <p:cNvSpPr/>
          <p:nvPr/>
        </p:nvSpPr>
        <p:spPr>
          <a:xfrm>
            <a:off x="8215200" y="3071880"/>
            <a:ext cx="428760" cy="278604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00b0f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49"/>
          <p:cNvSpPr/>
          <p:nvPr/>
        </p:nvSpPr>
        <p:spPr>
          <a:xfrm>
            <a:off x="6572160" y="5929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Выгнутая вверх стрелка 51"/>
          <p:cNvSpPr/>
          <p:nvPr/>
        </p:nvSpPr>
        <p:spPr>
          <a:xfrm>
            <a:off x="1000080" y="2214720"/>
            <a:ext cx="785880" cy="214200"/>
          </a:xfrm>
          <a:custGeom>
            <a:avLst/>
            <a:gdLst>
              <a:gd name="textAreaLeft" fmla="*/ 176400 w 785880"/>
              <a:gd name="textAreaRight" fmla="*/ 582840 w 78588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96" hR="21600" stAng="10800000" swAng="5400000"/>
                <a:lnTo>
                  <a:pt x="11169" y="0"/>
                </a:lnTo>
                <a:arcTo wR="9696" hR="21600" stAng="-5400000" swAng="3605484"/>
                <a:lnTo>
                  <a:pt x="21292" y="16200"/>
                </a:lnTo>
                <a:lnTo>
                  <a:pt x="20128" y="21600"/>
                </a:lnTo>
                <a:lnTo>
                  <a:pt x="18347" y="16200"/>
                </a:lnTo>
                <a:lnTo>
                  <a:pt x="19083" y="16200"/>
                </a:lnTo>
                <a:arcTo wR="9696" hR="21600" stAng="-1794516" swAng="-3487973"/>
                <a:lnTo>
                  <a:pt x="10432" y="62"/>
                </a:lnTo>
                <a:arcTo wR="9696" hR="21600" stAng="-5517511" swAng="-5282489"/>
                <a:close/>
              </a:path>
              <a:path fill="darkenLess" w="21600" h="21600">
                <a:moveTo>
                  <a:pt x="0" y="21600"/>
                </a:moveTo>
                <a:arcTo wR="9696" hR="21600" stAng="10800000" swAng="5400000"/>
                <a:lnTo>
                  <a:pt x="9696" y="0"/>
                </a:lnTo>
                <a:arcTo wR="9696" hR="21600" stAng="-5400000" swAng="117511"/>
                <a:lnTo>
                  <a:pt x="10432" y="62"/>
                </a:lnTo>
                <a:arcTo wR="9696" hR="21600" stAng="-5517511" swAng="-5282489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Выгнутая вверх стрелка 52"/>
          <p:cNvSpPr/>
          <p:nvPr/>
        </p:nvSpPr>
        <p:spPr>
          <a:xfrm>
            <a:off x="7358040" y="2214720"/>
            <a:ext cx="857160" cy="285480"/>
          </a:xfrm>
          <a:custGeom>
            <a:avLst/>
            <a:gdLst>
              <a:gd name="textAreaLeft" fmla="*/ 187560 w 857160"/>
              <a:gd name="textAreaRight" fmla="*/ 633960 w 85716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Выгнутая вверх стрелка 53"/>
          <p:cNvSpPr/>
          <p:nvPr/>
        </p:nvSpPr>
        <p:spPr>
          <a:xfrm>
            <a:off x="2428920" y="3643200"/>
            <a:ext cx="785880" cy="214560"/>
          </a:xfrm>
          <a:custGeom>
            <a:avLst/>
            <a:gdLst>
              <a:gd name="textAreaLeft" fmla="*/ 176400 w 785880"/>
              <a:gd name="textAreaRight" fmla="*/ 582840 w 785880"/>
              <a:gd name="textAreaTop" fmla="*/ 28440 h 214560"/>
              <a:gd name="textAreaBottom" fmla="*/ 1861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96" hR="21600" stAng="10800000" swAng="5400000"/>
                <a:lnTo>
                  <a:pt x="11169" y="0"/>
                </a:lnTo>
                <a:arcTo wR="9696" hR="21600" stAng="-5400000" swAng="3605484"/>
                <a:lnTo>
                  <a:pt x="21292" y="16200"/>
                </a:lnTo>
                <a:lnTo>
                  <a:pt x="20128" y="21600"/>
                </a:lnTo>
                <a:lnTo>
                  <a:pt x="18347" y="16200"/>
                </a:lnTo>
                <a:lnTo>
                  <a:pt x="19083" y="16200"/>
                </a:lnTo>
                <a:arcTo wR="9696" hR="21600" stAng="-1794516" swAng="-3487973"/>
                <a:lnTo>
                  <a:pt x="10432" y="62"/>
                </a:lnTo>
                <a:arcTo wR="9696" hR="21600" stAng="-5517511" swAng="-5282489"/>
                <a:close/>
              </a:path>
              <a:path fill="darkenLess" w="21600" h="21600">
                <a:moveTo>
                  <a:pt x="0" y="21600"/>
                </a:moveTo>
                <a:arcTo wR="9696" hR="21600" stAng="10800000" swAng="5400000"/>
                <a:lnTo>
                  <a:pt x="9696" y="0"/>
                </a:lnTo>
                <a:arcTo wR="9696" hR="21600" stAng="-5400000" swAng="117511"/>
                <a:lnTo>
                  <a:pt x="10432" y="62"/>
                </a:lnTo>
                <a:arcTo wR="9696" hR="21600" stAng="-5517511" swAng="-5282489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Выгнутая вверх стрелка 54"/>
          <p:cNvSpPr/>
          <p:nvPr/>
        </p:nvSpPr>
        <p:spPr>
          <a:xfrm>
            <a:off x="4500720" y="3786120"/>
            <a:ext cx="785520" cy="214560"/>
          </a:xfrm>
          <a:custGeom>
            <a:avLst/>
            <a:gdLst>
              <a:gd name="textAreaLeft" fmla="*/ 176040 w 785520"/>
              <a:gd name="textAreaRight" fmla="*/ 582480 w 785520"/>
              <a:gd name="textAreaTop" fmla="*/ 28440 h 214560"/>
              <a:gd name="textAreaBottom" fmla="*/ 1861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96" hR="21600" stAng="10800000" swAng="5400000"/>
                <a:lnTo>
                  <a:pt x="11169" y="0"/>
                </a:lnTo>
                <a:arcTo wR="9696" hR="21600" stAng="-5400000" swAng="3605484"/>
                <a:lnTo>
                  <a:pt x="21292" y="16200"/>
                </a:lnTo>
                <a:lnTo>
                  <a:pt x="20128" y="21600"/>
                </a:lnTo>
                <a:lnTo>
                  <a:pt x="18347" y="16200"/>
                </a:lnTo>
                <a:lnTo>
                  <a:pt x="19083" y="16200"/>
                </a:lnTo>
                <a:arcTo wR="9696" hR="21600" stAng="-1794516" swAng="-3487973"/>
                <a:lnTo>
                  <a:pt x="10432" y="62"/>
                </a:lnTo>
                <a:arcTo wR="9696" hR="21600" stAng="-5517511" swAng="-5282489"/>
                <a:close/>
              </a:path>
              <a:path fill="darkenLess" w="21600" h="21600">
                <a:moveTo>
                  <a:pt x="0" y="21600"/>
                </a:moveTo>
                <a:arcTo wR="9696" hR="21600" stAng="10800000" swAng="5400000"/>
                <a:lnTo>
                  <a:pt x="9696" y="0"/>
                </a:lnTo>
                <a:arcTo wR="9696" hR="21600" stAng="-5400000" swAng="117511"/>
                <a:lnTo>
                  <a:pt x="10432" y="62"/>
                </a:lnTo>
                <a:arcTo wR="9696" hR="21600" stAng="-5517511" swAng="-5282489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8"/>
          <p:cNvSpPr/>
          <p:nvPr/>
        </p:nvSpPr>
        <p:spPr>
          <a:xfrm>
            <a:off x="1285920" y="478620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Большая степень признак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i="1" lang="ru-RU" sz="2900" spc="-1" strike="noStrike">
                <a:solidFill>
                  <a:srgbClr val="572314"/>
                </a:solidFill>
                <a:latin typeface="Corbel"/>
              </a:rPr>
              <a:t>1 вариант: Укажите, какой частью речи является слово </a:t>
            </a:r>
            <a:r>
              <a:rPr b="1" i="1" lang="ru-RU" sz="2900" spc="-1" strike="noStrike" u="sng">
                <a:solidFill>
                  <a:srgbClr val="572314"/>
                </a:solidFill>
                <a:uFillTx/>
                <a:latin typeface="Corbel"/>
              </a:rPr>
              <a:t>смелее</a:t>
            </a:r>
            <a:r>
              <a:rPr b="1" i="1" lang="ru-RU" sz="2900" spc="-1" strike="noStrike">
                <a:solidFill>
                  <a:srgbClr val="572314"/>
                </a:solidFill>
                <a:latin typeface="Corbel"/>
              </a:rPr>
              <a:t>?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14200" y="1214280"/>
            <a:ext cx="87868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668520" indent="-66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мелее тигра, зверя нет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68520" indent="-66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н стал смелее, увереннее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68520" indent="-66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мелее, упорней — отличный девиз!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68520" indent="-66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Мечтай смелее!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68520" indent="-66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от мальчик тот, что всех смелее был.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68520" indent="-66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сё смелее критикуют меня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68520" indent="-66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Робкие лучи пробивались сквозь толщу тьмы, становясь все смелее и смелее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68520" indent="-66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ерно расставьте ударени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142920" y="1143000"/>
            <a:ext cx="8715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бок с изображением короб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ьный  угольный  подвал пугал мен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лянуть в пропасть, но не пропа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ак сужу, что сужу эту те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отри на пряди, а пря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е к общему знаменателю – недостающее сведение в задач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аписал на извести, тот должен пятно изве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ru-RU" sz="2500" spc="-1" strike="noStrike">
                <a:solidFill>
                  <a:srgbClr val="572314"/>
                </a:solidFill>
                <a:latin typeface="Corbel"/>
              </a:rPr>
              <a:t>2 вариант: Укажите, какой частью речи является слово </a:t>
            </a:r>
            <a:r>
              <a:rPr b="1" i="1" lang="ru-RU" sz="2500" spc="-1" strike="noStrike" u="sng">
                <a:solidFill>
                  <a:srgbClr val="572314"/>
                </a:solidFill>
                <a:uFillTx/>
                <a:latin typeface="Corbel"/>
              </a:rPr>
              <a:t>здоровей</a:t>
            </a:r>
            <a:r>
              <a:rPr b="1" i="1" lang="ru-RU" sz="2500" spc="-1" strike="noStrike">
                <a:solidFill>
                  <a:srgbClr val="572314"/>
                </a:solidFill>
                <a:latin typeface="Corbel"/>
              </a:rPr>
              <a:t>?</a:t>
            </a: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2560" y="1071720"/>
            <a:ext cx="90010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лебцы "Здоровей" подходят для вашего пита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8520" indent="-48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доровей видал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8520" indent="-48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сех краше и милей, здоровей, умней, раст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8520" indent="-48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шучивай сам над собой -  здоровей смеяться будеш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8520" indent="-48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доровей с умо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8520" indent="-48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Чем чахнуть от любви унылой, Ах, что здоровей может быть, Как подписать отставку милой.» (Д. Давыдов)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8520" indent="-488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Домашнее задани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642600"/>
            <a:ext cx="89298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 Ответить на вопрос: «Всякий ли предлог и наречие являются частями речи?»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2. Прочитать о явлении синтаксической омонимии и приготовить ответ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http://www.krugosvet.ru/enc/gumanitarnye_nauki/lingvistika/NEODNOZNACHNOST.htm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Пособие В.Ф. Грекова, С.Е. Крючкова № 356, стр 225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0" y="785880"/>
            <a:ext cx="91440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бОк с изображением корОб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ьный (уголь) угОльный  (угол)подвал пугал мен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лянуть в прОпасть, но не пропА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ак сужУ, что сУжу эту те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отри на прЯди, а пря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е к общему знаменателю – недостающее свЕдение в задач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аписал на Извести, тот должен пятно изве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2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solidFill>
            <a:srgbClr val="8ea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ни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греч. ὁμός — одинаковый и ονομα — имя) - разные по значению, но одинаковые по написанию и звучанию единицы языка (слова, морфемы и др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3"/>
          <p:cNvSpPr/>
          <p:nvPr/>
        </p:nvSpPr>
        <p:spPr>
          <a:xfrm>
            <a:off x="0" y="1428840"/>
            <a:ext cx="4357800" cy="1428840"/>
          </a:xfrm>
          <a:prstGeom prst="roundRect">
            <a:avLst>
              <a:gd name="adj" fmla="val 16667"/>
            </a:avLst>
          </a:prstGeom>
          <a:solidFill>
            <a:srgbClr val="fdd7b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нимы полные (абсолютные) — омонимы, у которых совпадает вся система фо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4"/>
          <p:cNvSpPr/>
          <p:nvPr/>
        </p:nvSpPr>
        <p:spPr>
          <a:xfrm>
            <a:off x="4714920" y="1428840"/>
            <a:ext cx="4286160" cy="1428840"/>
          </a:xfrm>
          <a:prstGeom prst="roundRect">
            <a:avLst>
              <a:gd name="adj" fmla="val 16667"/>
            </a:avLst>
          </a:prstGeom>
          <a:solidFill>
            <a:srgbClr val="faae76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нимы частичные — омонимы, у которых совпадают по звучанию не все 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кругленный прямоугольник 5"/>
          <p:cNvSpPr/>
          <p:nvPr/>
        </p:nvSpPr>
        <p:spPr>
          <a:xfrm>
            <a:off x="1071720" y="2928960"/>
            <a:ext cx="8072280" cy="1071720"/>
          </a:xfrm>
          <a:prstGeom prst="roundRect">
            <a:avLst>
              <a:gd name="adj" fmla="val 16667"/>
            </a:avLst>
          </a:prstGeom>
          <a:solidFill>
            <a:srgbClr val="faae76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раф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— слова, которые совпадают в написании, но различаются в произнош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6"/>
          <p:cNvSpPr/>
          <p:nvPr/>
        </p:nvSpPr>
        <p:spPr>
          <a:xfrm>
            <a:off x="1071720" y="4071960"/>
            <a:ext cx="8072280" cy="1071720"/>
          </a:xfrm>
          <a:prstGeom prst="roundRect">
            <a:avLst>
              <a:gd name="adj" fmla="val 16667"/>
            </a:avLst>
          </a:prstGeom>
          <a:solidFill>
            <a:srgbClr val="faae76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фо́н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— слова, которые звучат одинаково, но пишутся по-разному и имеют разное зна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Скругленный прямоугольник 7"/>
          <p:cNvSpPr/>
          <p:nvPr/>
        </p:nvSpPr>
        <p:spPr>
          <a:xfrm>
            <a:off x="1071720" y="5214960"/>
            <a:ext cx="8072280" cy="1643040"/>
          </a:xfrm>
          <a:prstGeom prst="roundRect">
            <a:avLst>
              <a:gd name="adj" fmla="val 16667"/>
            </a:avLst>
          </a:prstGeom>
          <a:solidFill>
            <a:srgbClr val="faae76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фор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лова, которые одинаково звучат лишь в некоторых грамматических формах и при этом чаще всего принадлежат к разным частям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472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7130e"/>
                </a:solidFill>
                <a:latin typeface="Corbel"/>
              </a:rPr>
              <a:t>Какое слово нельзя написать иначе?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емежку;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шь;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ру;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б;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орозь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Содержимое 3"/>
          <p:cNvSpPr/>
          <p:nvPr/>
        </p:nvSpPr>
        <p:spPr>
          <a:xfrm>
            <a:off x="4643280" y="1571760"/>
            <a:ext cx="3614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емешку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ш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ру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п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орос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7130e"/>
                </a:solidFill>
                <a:latin typeface="Corbel"/>
              </a:rPr>
              <a:t>Подчеркнутые слова - омонимы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Corbel"/>
              </a:rPr>
              <a:t>Ах, она</a:t>
            </a: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0" i="1" lang="ru-RU" sz="6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6000" spc="-1" strike="noStrike" u="sng">
                <a:solidFill>
                  <a:srgbClr val="000000"/>
                </a:solidFill>
                <a:uFillTx/>
                <a:latin typeface="Corbel"/>
              </a:rPr>
              <a:t>сердечная</a:t>
            </a: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0" i="1" lang="ru-RU" sz="6000" spc="-1" strike="noStrike">
                <a:solidFill>
                  <a:srgbClr val="000000"/>
                </a:solidFill>
                <a:latin typeface="Corbel"/>
              </a:rPr>
              <a:t> у неё болезнь</a:t>
            </a:r>
            <a:r>
              <a:rPr b="0" i="1" lang="ru-RU" sz="6000" spc="-1" strike="noStrike" u="sng">
                <a:solidFill>
                  <a:srgbClr val="000000"/>
                </a:solidFill>
                <a:uFillTx/>
                <a:latin typeface="Corbel"/>
              </a:rPr>
              <a:t> сердечная !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27130e"/>
                </a:solidFill>
                <a:latin typeface="Corbel"/>
              </a:rPr>
              <a:t>В каких заданиях ЕГЭ пригодиться знание омонимии?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42920" y="1071720"/>
            <a:ext cx="88581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. 10 . Определение морфологической характеристики слов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 11. Определение значения слова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 18. Слитное, раздельное, дефисное написание омонимичных и производных частей реч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 30. Нахождение предложения с омонима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1. Определение способа образования слов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2. Умение определять часть реч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8. Умение находить средства выразительност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. Умение избегать в своем сочинении двусмысленност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357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 11. 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7" name="TextBox 2"/>
          <p:cNvSpPr/>
          <p:nvPr/>
        </p:nvSpPr>
        <p:spPr>
          <a:xfrm>
            <a:off x="0" y="0"/>
            <a:ext cx="900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2082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7130e"/>
                </a:solidFill>
                <a:latin typeface="Arial"/>
              </a:rPr>
              <a:t>Задание</a:t>
            </a:r>
            <a:r>
              <a:rPr b="0" lang="ru-RU" sz="2800" spc="-1" strike="noStrike">
                <a:solidFill>
                  <a:srgbClr val="27130e"/>
                </a:solidFill>
                <a:latin typeface="Arial"/>
              </a:rPr>
              <a:t>. </a:t>
            </a:r>
            <a:r>
              <a:rPr b="0" i="1" lang="ru-RU" sz="2800" spc="-1" strike="noStrike">
                <a:solidFill>
                  <a:srgbClr val="27130e"/>
                </a:solidFill>
                <a:latin typeface="Arial"/>
              </a:rPr>
              <a:t>Определите, в каких предложениях слово </a:t>
            </a:r>
            <a:r>
              <a:rPr b="1" i="1" lang="ru-RU" sz="2800" spc="-1" strike="noStrike">
                <a:solidFill>
                  <a:srgbClr val="27130e"/>
                </a:solidFill>
                <a:latin typeface="Arial"/>
              </a:rPr>
              <a:t>образ</a:t>
            </a:r>
            <a:r>
              <a:rPr b="0" i="1" lang="ru-RU" sz="2800" spc="-1" strike="noStrike">
                <a:solidFill>
                  <a:srgbClr val="27130e"/>
                </a:solidFill>
                <a:latin typeface="Arial"/>
              </a:rPr>
              <a:t> имеет значе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7130e"/>
                </a:solidFill>
                <a:latin typeface="Arial"/>
              </a:rPr>
              <a:t>внешний вид, об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4"/>
          <p:cNvSpPr/>
          <p:nvPr/>
        </p:nvSpPr>
        <p:spPr>
          <a:xfrm>
            <a:off x="0" y="1500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Император Александр объявил, что он предоставит самим французам выбрать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ра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авления (Л.Толсто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5"/>
          <p:cNvSpPr/>
          <p:nvPr/>
        </p:nvSpPr>
        <p:spPr>
          <a:xfrm>
            <a:off x="0" y="3000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 углу перед тяжелым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раз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серебряном окладе теплилась лампадка (И.Тургене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6"/>
          <p:cNvSpPr/>
          <p:nvPr/>
        </p:nvSpPr>
        <p:spPr>
          <a:xfrm>
            <a:off x="0" y="4143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 этом-то хуторе показывался часто человек, или лучше дьявол в человеческом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раз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Н.Гоголь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7"/>
          <p:cNvSpPr/>
          <p:nvPr/>
        </p:nvSpPr>
        <p:spPr>
          <a:xfrm>
            <a:off x="0" y="5473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Я влюблен в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раз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тьяны, я очарован стихами Пушкина и пишу на них музыку, потому что меня к этому тянет (П.Чайковски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2"/>
          <p:cNvSpPr/>
          <p:nvPr/>
        </p:nvSpPr>
        <p:spPr>
          <a:xfrm>
            <a:off x="214200" y="142920"/>
            <a:ext cx="8786880" cy="71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1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значение слова ЗАРЯ в данном предложении: </a:t>
            </a:r>
            <a:r>
              <a:rPr b="0" i="1" lang="ru-RU" sz="3600" spc="-1" strike="noStrike">
                <a:solidFill>
                  <a:srgbClr val="27130e"/>
                </a:solidFill>
                <a:latin typeface="Times New Roman"/>
                <a:ea typeface="Times New Roman"/>
              </a:rPr>
              <a:t>«Даже на заре своей истории люди всегда что-то знали о той местности, в которой жил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ое освещение горизонта перед восходом или заходом солнц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Начало, зарождение чего-то радостно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тренний или вечерний военный сигна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Начало, зарождение чего-т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24T20:01:54Z</dcterms:modified>
  <cp:revision>90</cp:revision>
  <dc:subject/>
  <dc:title>В каком предложении оба выделенных слова пишутся раздельно?</dc:title>
</cp:coreProperties>
</file>