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23.wmf" ContentType="image/x-wmf"/>
  <Override PartName="/ppt/media/image21.jpeg" ContentType="image/jpeg"/>
  <Override PartName="/ppt/media/image19.jpeg" ContentType="image/jpeg"/>
  <Override PartName="/ppt/media/image16.gif" ContentType="image/gif"/>
  <Override PartName="/ppt/media/image14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2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A62-8A12-442C-BEDD-6CD35973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7FD5-41B6-439C-AB78-56C1EEE3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F6E-8D82-4551-83EF-6F905FC0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6E3-A82F-4F22-BDFD-8E7F9A93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EB9-4352-49E6-ABB1-6D6E9E0A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3D2-DA03-4FD6-93AD-CDB569BD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FDC-EBA9-40CD-BF24-C26E1913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E75-DCB1-48CF-A265-5F7D751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2D0-A39A-42E4-B00A-40FDBCF9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32F-70C1-4E3D-B96D-45CBFD2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72E-3049-4721-82C9-CBBF743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979-E5EE-46F3-8785-1440A03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76A0-9DFB-4378-9CF3-5AD0E59A6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26920" y="98100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OCABULARY WORK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 TRANSPOR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03280" y="3081240"/>
            <a:ext cx="648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wide T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it1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cars-cartoon-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250920" y="1268280"/>
            <a:ext cx="3097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rk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-wa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ter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edest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gn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b's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067280" y="1197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382920" y="1844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лица с односторонним дви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924360" y="23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зем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4067280" y="29242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д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4067280" y="350028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овлетворя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 требования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4211640" y="40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4211640" y="458136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зов типа "лимуз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5157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знач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284720" y="566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95280" y="333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j0401344"/>
          <p:cNvPicPr/>
          <p:nvPr/>
        </p:nvPicPr>
        <p:blipFill>
          <a:blip r:embed="rId2"/>
          <a:stretch/>
        </p:blipFill>
        <p:spPr>
          <a:xfrm>
            <a:off x="971640" y="981000"/>
            <a:ext cx="74880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IMG_2804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971640" y="0"/>
            <a:ext cx="74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9640" y="1125360"/>
            <a:ext cx="3384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Pedest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ign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ead-on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Reck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Wor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dying b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219640" y="1197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ш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184720" y="184464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з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а "лимузин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219640" y="2349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начить, означ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5219640" y="285264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бовое столкнов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5292720" y="3357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ссу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5508720" y="3789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292720" y="443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чего не сто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894200" y="5013360"/>
            <a:ext cx="424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мирающее поко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4932360" y="566100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имость про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j0321006"/>
          <p:cNvPicPr/>
          <p:nvPr/>
        </p:nvPicPr>
        <p:blipFill>
          <a:blip r:embed="rId2"/>
          <a:stretch/>
        </p:blipFill>
        <p:spPr>
          <a:xfrm>
            <a:off x="1042920" y="1557360"/>
            <a:ext cx="65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97800" y="403560"/>
            <a:ext cx="803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0_8e50_9fcdf027_XL"/>
          <p:cNvPicPr/>
          <p:nvPr/>
        </p:nvPicPr>
        <p:blipFill>
          <a:blip r:embed="rId1"/>
          <a:stretch/>
        </p:blipFill>
        <p:spPr>
          <a:xfrm>
            <a:off x="0" y="0"/>
            <a:ext cx="8667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1042920" y="47628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258920" y="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95280" y="907920"/>
            <a:ext cx="208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Rick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k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ying b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5429160" y="1000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724360" y="134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рик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580000" y="1844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тоимость про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5651640" y="2349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651640" y="2924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у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508720" y="34290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чего не сто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724360" y="3933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5867280" y="4581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5219640" y="522936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мирающее поко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j0433895"/>
          <p:cNvPicPr/>
          <p:nvPr/>
        </p:nvPicPr>
        <p:blipFill>
          <a:blip r:embed="rId2"/>
          <a:stretch/>
        </p:blipFill>
        <p:spPr>
          <a:xfrm>
            <a:off x="2071800" y="-214200"/>
            <a:ext cx="59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12880_49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539640" y="1484280"/>
            <a:ext cx="266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ne-wa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ter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508720" y="148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500720" y="1916280"/>
            <a:ext cx="26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нор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419640" y="24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лица с односторонним дви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003640" y="3068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биться с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003640" y="3645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5003640" y="407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дзем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148360" y="472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д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508720" y="530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140360" y="58770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овлетворять ( требования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j0396121"/>
          <p:cNvPicPr/>
          <p:nvPr/>
        </p:nvPicPr>
        <p:blipFill>
          <a:blip r:embed="rId2"/>
          <a:stretch/>
        </p:blipFill>
        <p:spPr>
          <a:xfrm>
            <a:off x="2627280" y="1197000"/>
            <a:ext cx="3664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ars-cartoon-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11280" y="189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468360" y="1268280"/>
            <a:ext cx="3456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edest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fine sb/sth to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ign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ad-on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ck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ns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aring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6"/>
          <p:cNvSpPr/>
          <p:nvPr/>
        </p:nvSpPr>
        <p:spPr>
          <a:xfrm>
            <a:off x="5003640" y="119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ш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4788000" y="177336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зов типа "лимуз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8"/>
          <p:cNvSpPr/>
          <p:nvPr/>
        </p:nvSpPr>
        <p:spPr>
          <a:xfrm>
            <a:off x="500364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9"/>
          <p:cNvSpPr/>
          <p:nvPr/>
        </p:nvSpPr>
        <p:spPr>
          <a:xfrm>
            <a:off x="5003640" y="2781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ч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0"/>
          <p:cNvSpPr/>
          <p:nvPr/>
        </p:nvSpPr>
        <p:spPr>
          <a:xfrm>
            <a:off x="3851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бовое столкнов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4859280" y="3933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рассу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5003640" y="450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н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5148360" y="50846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4"/>
          <p:cNvSpPr/>
          <p:nvPr/>
        </p:nvSpPr>
        <p:spPr>
          <a:xfrm>
            <a:off x="3995640" y="558972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е станции в Лонд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6" descr="j0413508"/>
          <p:cNvPicPr/>
          <p:nvPr/>
        </p:nvPicPr>
        <p:blipFill>
          <a:blip r:embed="rId2"/>
          <a:stretch/>
        </p:blipFill>
        <p:spPr>
          <a:xfrm>
            <a:off x="1116000" y="836640"/>
            <a:ext cx="698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volkswagen_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1"/>
          <p:cNvSpPr/>
          <p:nvPr/>
        </p:nvSpPr>
        <p:spPr>
          <a:xfrm>
            <a:off x="755640" y="18828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250920" y="979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b's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395280" y="15912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ee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324720" y="2132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on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24000" y="2707200"/>
            <a:ext cx="11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324000" y="32115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253440" y="43646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326160" y="3715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24000" y="501192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ental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397080" y="5804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5005440" y="979560"/>
            <a:ext cx="136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5150160" y="1555920"/>
            <a:ext cx="71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4934520" y="196920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нд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4790160" y="26359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ашив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5221440" y="3167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5653440" y="4364640"/>
            <a:ext cx="1729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5437800" y="371520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атривать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5508720" y="515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чет в 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5580000" y="580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1" descr="италия"/>
          <p:cNvPicPr/>
          <p:nvPr/>
        </p:nvPicPr>
        <p:blipFill>
          <a:blip r:embed="rId2"/>
          <a:stretch/>
        </p:blipFill>
        <p:spPr>
          <a:xfrm>
            <a:off x="2916360" y="1989000"/>
            <a:ext cx="495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cars-cartoon-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324000" y="1241280"/>
            <a:ext cx="381636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e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ntal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n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eg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292720" y="112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148360" y="184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еш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529272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ет в у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219640" y="2852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ре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5364000" y="37162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нд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492360" y="4365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прашивать ц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56400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3635280" y="5516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сматривать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3564000" y="595008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зов типа "лиму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755640" y="333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1" descr="j0083966"/>
          <p:cNvPicPr/>
          <p:nvPr/>
        </p:nvPicPr>
        <p:blipFill>
          <a:blip r:embed="rId2"/>
          <a:stretch/>
        </p:blipFill>
        <p:spPr>
          <a:xfrm>
            <a:off x="1042920" y="0"/>
            <a:ext cx="651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ars-cartoon-008"/>
          <p:cNvPicPr/>
          <p:nvPr/>
        </p:nvPicPr>
        <p:blipFill>
          <a:blip r:embed="rId1"/>
          <a:stretch/>
        </p:blipFill>
        <p:spPr>
          <a:xfrm>
            <a:off x="0" y="-10800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258920" y="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0" y="476280"/>
            <a:ext cx="2089080" cy="686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icksh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ork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ying b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211640" y="5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4211640" y="105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к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067280" y="177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про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4067280" y="2421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7672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у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419640" y="4005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чего не сто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564000" y="47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анавли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370836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635280" y="6237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ирающее поко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j0331727"/>
          <p:cNvPicPr/>
          <p:nvPr/>
        </p:nvPicPr>
        <p:blipFill>
          <a:blip r:embed="rId2"/>
          <a:stretch/>
        </p:blipFill>
        <p:spPr>
          <a:xfrm>
            <a:off x="2411280" y="549360"/>
            <a:ext cx="655344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cars-cartoon-010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90000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THE RUSSIAN EQUIVAL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50920" y="549360"/>
            <a:ext cx="252072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-wa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ter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995640" y="549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995640" y="119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нор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3059280" y="198900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улица с односторонним дви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4788000" y="2852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иться с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716360" y="3573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ь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4643280" y="414972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ем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788000" y="4797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д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4859280" y="5589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3780000" y="64008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довлетворять ( требования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9" descr="j0237922"/>
          <p:cNvPicPr/>
          <p:nvPr/>
        </p:nvPicPr>
        <p:blipFill>
          <a:blip r:embed="rId2"/>
          <a:stretch/>
        </p:blipFill>
        <p:spPr>
          <a:xfrm>
            <a:off x="5364000" y="1268280"/>
            <a:ext cx="2382840" cy="206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j0286764"/>
          <p:cNvPicPr/>
          <p:nvPr/>
        </p:nvPicPr>
        <p:blipFill>
          <a:blip r:embed="rId3"/>
          <a:stretch/>
        </p:blipFill>
        <p:spPr>
          <a:xfrm>
            <a:off x="1143000" y="3033720"/>
            <a:ext cx="2060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400_1206205599_cadillac-escala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"/>
          <p:cNvSpPr/>
          <p:nvPr/>
        </p:nvSpPr>
        <p:spPr>
          <a:xfrm>
            <a:off x="250920" y="549360"/>
            <a:ext cx="41036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ons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M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haring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onfine sb/sth to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Opti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219640" y="549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нате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364000" y="1052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390920" y="1557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вание станции в Лонд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148360" y="2205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5364000" y="2708280"/>
            <a:ext cx="22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364000" y="314172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нор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5508720" y="3789360"/>
            <a:ext cx="21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580000" y="44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435640" y="5013360"/>
            <a:ext cx="187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у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468360" y="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THE RUSSIAN EQUIVAL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0" descr="j0326658"/>
          <p:cNvPicPr/>
          <p:nvPr/>
        </p:nvPicPr>
        <p:blipFill>
          <a:blip r:embed="rId2"/>
          <a:stretch/>
        </p:blipFill>
        <p:spPr>
          <a:xfrm>
            <a:off x="4932360" y="5300640"/>
            <a:ext cx="1795320" cy="1785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1" descr="j0433039"/>
          <p:cNvPicPr/>
          <p:nvPr/>
        </p:nvPicPr>
        <p:blipFill>
          <a:blip r:embed="rId3"/>
          <a:stretch/>
        </p:blipFill>
        <p:spPr>
          <a:xfrm>
            <a:off x="1042920" y="549360"/>
            <a:ext cx="69771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13:25:44Z</dcterms:created>
  <dc:creator>Владимир</dc:creator>
  <dc:description/>
  <dc:language>en-US</dc:language>
  <cp:lastModifiedBy>Белозерова </cp:lastModifiedBy>
  <dcterms:modified xsi:type="dcterms:W3CDTF">2010-02-23T09:09:20Z</dcterms:modified>
  <cp:revision>5</cp:revision>
  <dc:subject/>
  <dc:title>VOCABULARY WORK “ TRANSPORT”</dc:title>
</cp:coreProperties>
</file>