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E6D6-D781-43AB-B68E-25928BA08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FE45-0B27-4017-BAB3-DE360AE131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4DA-7F4C-4B0A-BC6B-8EDA5EE3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367-3AE6-4C76-96F3-F66F349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112-D3D3-48E6-A248-28E7C387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0DE-CA53-4BFF-9298-30CCEA39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C3A8-196B-451F-9703-C4C33482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8722-8436-45F0-B8FE-51BA3C5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1ED3-3DEC-4938-AADA-F87DA8B3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DB1C-15E2-4EDF-9585-BA61307C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07F8-DBB3-499C-90AC-BC0648D7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1620-7908-4F1E-991C-7FC96157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E5E-260E-43AE-86F4-519B436D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200-5DA9-4445-8A55-AA330F16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61FA-3DF6-4DFE-BD3B-6D979DE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6BD0-D862-4387-8469-416BDC9D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6EEE-9B39-4C2C-B794-D7D76BD7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19D4-EFE9-4838-92A7-A40ECE75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306D-574B-4FBC-8B6E-C47B2D0F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D64-165C-4E71-BE87-809B7BE7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5E0-F167-42D6-82AA-D9528C9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E97-EACA-459C-B310-AB89D6BC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35C-C6B9-4D1F-B4F9-CFAF277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03C-7449-409D-9683-5F2B417D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007-0B27-4118-A2C2-C40D0F9C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536-9142-4631-93A1-092BD55F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DBB1-AFF2-435B-8879-771C42C185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6F97-8356-41AE-B0C8-2B69FA05AD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28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родный костюм Русского Сев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5280" y="3212640"/>
            <a:ext cx="74390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вязь народного костюма с национальным характером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сторией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укладом жизни народ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духовными и нравственными ценност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Исследовательская работа выполнена учениц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9А класса МОУ «СОШ №23» г.Северодвинс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Юрьевой Наталь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Научный руководитель –Пичугина Н.В., учите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русского языка и литературы МОУ «СОШ №23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Бабушка 072"/>
          <p:cNvPicPr/>
          <p:nvPr/>
        </p:nvPicPr>
        <p:blipFill>
          <a:blip r:embed="rId1"/>
          <a:stretch/>
        </p:blipFill>
        <p:spPr>
          <a:xfrm>
            <a:off x="395280" y="115920"/>
            <a:ext cx="2494080" cy="1870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CIMG0744.JPG"/>
          <p:cNvPicPr/>
          <p:nvPr/>
        </p:nvPicPr>
        <p:blipFill>
          <a:blip r:embed="rId2"/>
          <a:stretch/>
        </p:blipFill>
        <p:spPr>
          <a:xfrm>
            <a:off x="6443640" y="4941720"/>
            <a:ext cx="255096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Documents and Settings\admin\Рабочий стол\3 апреля\КОСТЮМ.jpg"/>
          <p:cNvPicPr/>
          <p:nvPr/>
        </p:nvPicPr>
        <p:blipFill>
          <a:blip r:embed="rId3"/>
          <a:stretch/>
        </p:blipFill>
        <p:spPr>
          <a:xfrm>
            <a:off x="6227640" y="115920"/>
            <a:ext cx="26434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«Каргополье. Художественные сокровища.» М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«Советская Россия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198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А.Ю.Андреева «Русский народный костюм. Путешествие с Севера на юг.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.-Петб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А.Иванова «Северный русский народный костюм конца 19-начала 20 века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открытк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Г.А. Григорьева «Головные уборы Русского Севера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рх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199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Г.А.Григорьева «Русский Север глазами реставратора. Праздничная одежда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рх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Г.А.Григорьева «Ткани и одежда Поморья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рх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Журнал «Культура.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rd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«Мастера Русского Севера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энциклопедия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рец. Лихачёв Д.С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М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«Планета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198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 «Костюм: история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крой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шитьё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вышивка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журнал 2Чудесные мгновения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Бабушка 110"/>
          <p:cNvPicPr/>
          <p:nvPr/>
        </p:nvPicPr>
        <p:blipFill>
          <a:blip r:embed="rId1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Бабушка 112"/>
          <p:cNvPicPr/>
          <p:nvPr/>
        </p:nvPicPr>
        <p:blipFill>
          <a:blip r:embed="rId2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ЦЕЛЬ  ИССЛЕДОВАТЕЛЬСКОЙ РАБОТЫ: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иобщиться к истокам народной культуры и истории Русского Севе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изучить многообразие комплексов народной одеж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выявить особенности народного северного костюма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отметив при этом своеобразие национального характера северян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х особый уклад жизн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т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зучить научную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ую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художественную литературу по теме исслед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отобрать необходимый материал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проанализировать 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описать результаты исслед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продемонстрировать народный костюм Русского Севе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показать элементы народного костю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Бабушка 071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4929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Уклад жизни северян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392904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ХОРОМ»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«ХРАМ» =ЖИЛИЩ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(древнеславянский язык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Бани</a:t>
            </a: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овины стояли поодаль от дома</a:t>
            </a: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ближе к воде  (считали</a:t>
            </a: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что там обитает нечистая сила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Будни чередовались с праздникам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ИМА – время прядения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вязания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вышива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Прялка – важный предмет домашнего обихода. Прясть девочек учили с 10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Ткацкий стан стоял в каждом доме</a:t>
            </a: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ткани делали в домашних условиях: льняную</a:t>
            </a: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конопляную</a:t>
            </a: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суконну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2d050"/>
                </a:solidFill>
                <a:uFillTx/>
                <a:latin typeface="Tahoma"/>
              </a:rPr>
              <a:t>Ремёсла Русского Север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Столярно-плотницкое дело </a:t>
            </a:r>
            <a:r>
              <a:rPr b="0" i="1" lang="ru-RU" sz="1600" spc="-1" strike="noStrike">
                <a:solidFill>
                  <a:srgbClr val="00b0f0"/>
                </a:solidFill>
                <a:latin typeface="Tahoma"/>
              </a:rPr>
              <a:t>(деревянное зодчество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Гончарное ремесло (</a:t>
            </a:r>
            <a:r>
              <a:rPr b="0" i="1" lang="ru-RU" sz="1600" spc="-1" strike="noStrike">
                <a:solidFill>
                  <a:srgbClr val="00b0f0"/>
                </a:solidFill>
                <a:latin typeface="Tahoma"/>
              </a:rPr>
              <a:t>глиняная игрушк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Иконопис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Несколько видов росписи (</a:t>
            </a:r>
            <a:r>
              <a:rPr b="0" i="1" lang="ru-RU" sz="1600" spc="-1" strike="noStrike">
                <a:solidFill>
                  <a:srgbClr val="00b0f0"/>
                </a:solidFill>
                <a:latin typeface="Tahoma"/>
              </a:rPr>
              <a:t>Мезенская</a:t>
            </a:r>
            <a:r>
              <a:rPr b="0" i="1" lang="en-US" sz="1600" spc="-1" strike="noStrike">
                <a:solidFill>
                  <a:srgbClr val="00b0f0"/>
                </a:solidFill>
                <a:latin typeface="Tahoma"/>
              </a:rPr>
              <a:t>,</a:t>
            </a:r>
            <a:r>
              <a:rPr b="0" i="1" lang="ru-RU" sz="1600" spc="-1" strike="noStrike">
                <a:solidFill>
                  <a:srgbClr val="00b0f0"/>
                </a:solidFill>
                <a:latin typeface="Tahoma"/>
              </a:rPr>
              <a:t> Оракульская</a:t>
            </a:r>
            <a:r>
              <a:rPr b="0" i="1" lang="en-US" sz="1600" spc="-1" strike="noStrike">
                <a:solidFill>
                  <a:srgbClr val="00b0f0"/>
                </a:solidFill>
                <a:latin typeface="Tahoma"/>
              </a:rPr>
              <a:t>,</a:t>
            </a:r>
            <a:r>
              <a:rPr b="0" i="1" lang="ru-RU" sz="1600" spc="-1" strike="noStrike">
                <a:solidFill>
                  <a:srgbClr val="00b0f0"/>
                </a:solidFill>
                <a:latin typeface="Tahoma"/>
              </a:rPr>
              <a:t> Пермогорская</a:t>
            </a:r>
            <a:r>
              <a:rPr b="0" i="1" lang="en-US" sz="1600" spc="-1" strike="noStrike">
                <a:solidFill>
                  <a:srgbClr val="00b0f0"/>
                </a:solidFill>
                <a:latin typeface="Tahoma"/>
              </a:rPr>
              <a:t>,</a:t>
            </a:r>
            <a:r>
              <a:rPr b="0" i="1" lang="ru-RU" sz="1600" spc="-1" strike="noStrike">
                <a:solidFill>
                  <a:srgbClr val="00b0f0"/>
                </a:solidFill>
                <a:latin typeface="Tahoma"/>
              </a:rPr>
              <a:t> Тоемская и др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Ткаче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Плетение из берес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Кружевоплет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Вяза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Золотошвейный промысел</a:t>
            </a:r>
            <a:r>
              <a:rPr b="0" lang="en-US" sz="1600" spc="-1" strike="noStrike">
                <a:solidFill>
                  <a:srgbClr val="00b0f0"/>
                </a:solidFill>
                <a:latin typeface="Tahoma"/>
              </a:rPr>
              <a:t>,</a:t>
            </a: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 и друг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Рисунок 4" descr="Бабушка 074.jpg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Бабушка 064.jpg"/>
          <p:cNvPicPr/>
          <p:nvPr/>
        </p:nvPicPr>
        <p:blipFill>
          <a:blip r:embed="rId2"/>
          <a:stretch/>
        </p:blipFill>
        <p:spPr>
          <a:xfrm>
            <a:off x="5429160" y="214200"/>
            <a:ext cx="1428840" cy="1214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Бабушка 105.jpg"/>
          <p:cNvPicPr/>
          <p:nvPr/>
        </p:nvPicPr>
        <p:blipFill>
          <a:blip r:embed="rId3"/>
          <a:stretch/>
        </p:blipFill>
        <p:spPr>
          <a:xfrm>
            <a:off x="2071800" y="4929120"/>
            <a:ext cx="2428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Традиционный женский наряд Русского Север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38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радиционный женский наряд Русского Севера часто называют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САРАФАННЫМ КОМПЛЕКСОМ»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так как его основные части – РУБАХА И САРАФА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Бабушка 082"/>
          <p:cNvPicPr/>
          <p:nvPr/>
        </p:nvPicPr>
        <p:blipFill>
          <a:blip r:embed="rId1"/>
          <a:stretch/>
        </p:blipFill>
        <p:spPr>
          <a:xfrm>
            <a:off x="7515360" y="1214280"/>
            <a:ext cx="1628640" cy="2171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Бабушка 084"/>
          <p:cNvPicPr/>
          <p:nvPr/>
        </p:nvPicPr>
        <p:blipFill>
          <a:blip r:embed="rId2"/>
          <a:stretch/>
        </p:blipFill>
        <p:spPr>
          <a:xfrm>
            <a:off x="2214720" y="414324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Бабушка 088"/>
          <p:cNvPicPr/>
          <p:nvPr/>
        </p:nvPicPr>
        <p:blipFill>
          <a:blip r:embed="rId3"/>
          <a:stretch/>
        </p:blipFill>
        <p:spPr>
          <a:xfrm>
            <a:off x="5072040" y="1143000"/>
            <a:ext cx="1766880" cy="235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Бабушка 106"/>
          <p:cNvPicPr/>
          <p:nvPr/>
        </p:nvPicPr>
        <p:blipFill>
          <a:blip r:embed="rId4"/>
          <a:stretch/>
        </p:blipFill>
        <p:spPr>
          <a:xfrm>
            <a:off x="179280" y="2565360"/>
            <a:ext cx="1874880" cy="2498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Бабушка 107"/>
          <p:cNvPicPr/>
          <p:nvPr/>
        </p:nvPicPr>
        <p:blipFill>
          <a:blip r:embed="rId5"/>
          <a:stretch/>
        </p:blipFill>
        <p:spPr>
          <a:xfrm>
            <a:off x="5715000" y="4214880"/>
            <a:ext cx="1868400" cy="2490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142920" y="5214960"/>
            <a:ext cx="20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Женский  костюм 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половины 19 века Вологодская губерния Великоустюгский уезд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2000160" y="6143760"/>
            <a:ext cx="314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Рукава праздничной женской рубахи  19 век  Олонецкая губерния Каргопольский уезд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4357800" y="342900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Женский костюм  19 век Вологодская губерния  Тотемский уезд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7286760" y="33577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Праздничная женская рубаха нач.19 века Каргополье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7643880" y="4643280"/>
            <a:ext cx="1500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Праздничный женский костюм конец 19 века Каргополье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Способы украшения тканей</a:t>
            </a:r>
            <a:r>
              <a:rPr b="1" i="1" lang="en-US" sz="2000" spc="-1" strike="noStrike" u="sng">
                <a:solidFill>
                  <a:srgbClr val="ffffcc"/>
                </a:solidFill>
                <a:uFillTx/>
                <a:latin typeface="Tahoma"/>
              </a:rPr>
              <a:t>,</a:t>
            </a: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 бытовавшие на Русском Севере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39240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-  НАБОЙ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- БРАНОЕ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УЗОРНОЕ  ТКА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- ВЫШИВ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- КРУЖЕВОПЛЕТ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- ЗОЛОТОШВЕЙНЫ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МЫСЕ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Бабушка 067"/>
          <p:cNvPicPr/>
          <p:nvPr/>
        </p:nvPicPr>
        <p:blipFill>
          <a:blip r:embed="rId1"/>
          <a:stretch/>
        </p:blipFill>
        <p:spPr>
          <a:xfrm>
            <a:off x="6715080" y="142920"/>
            <a:ext cx="2141640" cy="160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Бабушка 079"/>
          <p:cNvPicPr/>
          <p:nvPr/>
        </p:nvPicPr>
        <p:blipFill>
          <a:blip r:embed="rId2"/>
          <a:stretch/>
        </p:blipFill>
        <p:spPr>
          <a:xfrm>
            <a:off x="6786720" y="2286000"/>
            <a:ext cx="2141280" cy="1606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Бабушка 086"/>
          <p:cNvPicPr/>
          <p:nvPr/>
        </p:nvPicPr>
        <p:blipFill>
          <a:blip r:embed="rId3"/>
          <a:stretch/>
        </p:blipFill>
        <p:spPr>
          <a:xfrm>
            <a:off x="4284720" y="1916280"/>
            <a:ext cx="2144520" cy="1608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Бабушка 087"/>
          <p:cNvPicPr/>
          <p:nvPr/>
        </p:nvPicPr>
        <p:blipFill>
          <a:blip r:embed="rId4"/>
          <a:stretch/>
        </p:blipFill>
        <p:spPr>
          <a:xfrm>
            <a:off x="4203720" y="4551480"/>
            <a:ext cx="2144520" cy="1609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Бабушка 080"/>
          <p:cNvPicPr/>
          <p:nvPr/>
        </p:nvPicPr>
        <p:blipFill>
          <a:blip r:embed="rId5"/>
          <a:stretch/>
        </p:blipFill>
        <p:spPr>
          <a:xfrm>
            <a:off x="6786720" y="4572000"/>
            <a:ext cx="2144520" cy="1608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Бабушка 093"/>
          <p:cNvPicPr/>
          <p:nvPr/>
        </p:nvPicPr>
        <p:blipFill>
          <a:blip r:embed="rId6"/>
          <a:stretch/>
        </p:blipFill>
        <p:spPr>
          <a:xfrm>
            <a:off x="539640" y="4292640"/>
            <a:ext cx="2144880" cy="1608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3"/>
          <p:cNvSpPr/>
          <p:nvPr/>
        </p:nvSpPr>
        <p:spPr>
          <a:xfrm>
            <a:off x="357120" y="6072120"/>
            <a:ext cx="221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Нач.19 века, холст льняные, х/б, шелковые нити . Ажурное ткачество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4214880" y="6286680"/>
            <a:ext cx="221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Кружевоплетение Вологодская губерния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4429080" y="371484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Фрагмент подола женской рубахи. Вышивка. Каргополье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6643800" y="185724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Кубовая набойка 19 век Вологодская губерния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6745320" y="4000680"/>
            <a:ext cx="239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Плат «золотой» К.19 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века.Шитье.Вышивка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6786720" y="6211800"/>
            <a:ext cx="235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Конец полотенца. Холст, кумач, льняные и шерстяные нити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043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Головные уборы Русского Север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ЕВИЧЬИ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одчело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лачея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овязки (перевязки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Обру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н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ЖЕНСК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окош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лато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Соро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Сдерих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ору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овой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Бабушка 077"/>
          <p:cNvPicPr/>
          <p:nvPr/>
        </p:nvPicPr>
        <p:blipFill>
          <a:blip r:embed="rId1"/>
          <a:stretch/>
        </p:blipFill>
        <p:spPr>
          <a:xfrm>
            <a:off x="6858000" y="214200"/>
            <a:ext cx="2141640" cy="160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Бабушка 078"/>
          <p:cNvPicPr/>
          <p:nvPr/>
        </p:nvPicPr>
        <p:blipFill>
          <a:blip r:embed="rId2"/>
          <a:stretch/>
        </p:blipFill>
        <p:spPr>
          <a:xfrm>
            <a:off x="6858000" y="2643120"/>
            <a:ext cx="2141640" cy="1606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Бабушка 079"/>
          <p:cNvPicPr/>
          <p:nvPr/>
        </p:nvPicPr>
        <p:blipFill>
          <a:blip r:embed="rId3"/>
          <a:stretch/>
        </p:blipFill>
        <p:spPr>
          <a:xfrm>
            <a:off x="6858000" y="4857840"/>
            <a:ext cx="2144880" cy="1608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7072200" y="655020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Плат золотой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6858000" y="43578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Сорока кон.19 века. Каргополье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6643800" y="185724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Перевязка, кокошник, украшенные жемчугом, бисером, перламутром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143" name="Picture 4" descr="S6002503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3786120" y="85716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6002510"/>
          <p:cNvPicPr/>
          <p:nvPr/>
        </p:nvPicPr>
        <p:blipFill>
          <a:blip r:embed="rId5"/>
          <a:stretch/>
        </p:blipFill>
        <p:spPr>
          <a:xfrm>
            <a:off x="3786120" y="292896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Рисунок13"/>
          <p:cNvPicPr/>
          <p:nvPr/>
        </p:nvPicPr>
        <p:blipFill>
          <a:blip r:embed="rId6"/>
          <a:stretch/>
        </p:blipFill>
        <p:spPr>
          <a:xfrm>
            <a:off x="3714840" y="5000760"/>
            <a:ext cx="2374920" cy="1357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4"/>
          <p:cNvSpPr/>
          <p:nvPr/>
        </p:nvSpPr>
        <p:spPr>
          <a:xfrm>
            <a:off x="3643200" y="2428920"/>
            <a:ext cx="257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Головные уборы  Каргополья и Мелентьевской волости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3714840" y="450072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Девичий головной убор в современном исполнении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714840" y="6396120"/>
            <a:ext cx="235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Девичий головной убор д.Шенкурская (Няндома)</a:t>
            </a:r>
            <a:endParaRPr b="1" i="1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Символы в вышивке</a:t>
            </a:r>
            <a:r>
              <a:rPr b="1" i="1" lang="en-US" sz="2000" spc="-1" strike="noStrike" u="sng">
                <a:solidFill>
                  <a:srgbClr val="ffffcc"/>
                </a:solidFill>
                <a:uFillTx/>
                <a:latin typeface="Tahoma"/>
              </a:rPr>
              <a:t>,</a:t>
            </a: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 ткачестве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ШИВАЛ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ФИГУРЫ ЛЮДЕЙ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ЧУДО-ПТИЦ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СКАЗОЧНЫХ КОНЕЙ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ОЛЕНЕЙ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ГЕОМЕТРИЧЕСКИЕ ФИГ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Женская фигура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лицетворяла Мать-Землю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которая для людей словно живое существо: она пьёт воду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родит урожай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засыпает на зиму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просыпается по вес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Дивная жар-птица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лицетворяет пробуждение природы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таяние снега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зелень листвы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цветение растений. Жар-птица – вешнее солнце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 её перья – лучик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огревающие землю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дарящие тепл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Изображение сказочных животных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например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львов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барсов) – считается покровительством растениям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еменам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корням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всход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Фантастические кони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луги Солнца и его олицетвор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КРАСНЫЙ ЦВЕТ ВЫШИВКИ символизирует производительные силы природы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земное плодородие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стихию огня и солнц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Бабушка 086"/>
          <p:cNvPicPr/>
          <p:nvPr/>
        </p:nvPicPr>
        <p:blipFill>
          <a:blip r:embed="rId1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Бабушка 091"/>
          <p:cNvPicPr/>
          <p:nvPr/>
        </p:nvPicPr>
        <p:blipFill>
          <a:blip r:embed="rId2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Мужская народная одежд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адиционная мужская одежда состояла из: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УБАХИ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которую ещё называли ИСПОДНЯЯ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ПОРТЫ (ПОДШТАННИКИ)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ПОЯС – ОБЯЗАТЕЛЬНЫЙ ЭЛЕМЕНТ КОСТЮМА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САПОГИ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КАТАНКИ (зимой)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ЛАП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УДНИЧНУЮ РУБАХУ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или из ЛЬНЯНОГО или КОНОПЛЯНОГО ХОЛ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ВОЛОГОДЧИНЕ рубаху называли </a:t>
            </a:r>
            <a:r>
              <a:rPr b="0" i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проходниц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КАРГОПОЛЬЕ(Олонецкая губерния) и в уездах Архангельской губернии будничную рубаху (и женскую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 мужскую) называли </a:t>
            </a:r>
            <a:r>
              <a:rPr b="0" i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покосниц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мерно 100 лет назад появились мужские рубахи – </a:t>
            </a:r>
            <a:r>
              <a:rPr b="0" i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косоворот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имой мужчины носили </a:t>
            </a:r>
            <a:r>
              <a:rPr b="0" i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шубы</a:t>
            </a: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i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торые были почти в каждой семье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подвязывали их </a:t>
            </a:r>
            <a:r>
              <a:rPr b="0" i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кушаками</a:t>
            </a: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i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тулупы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же были редкость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Бабушка 102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86040" y="428400"/>
            <a:ext cx="357192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4038480" cy="32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.С.Лихачёв писал: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« Отношение к прошлому формирует собственный национальный облик. Ибо каждый человек – носитель прошлого и носитель национального характера. Человек – часть общества и часть его истории. Не сохраняя в себе самом  прошлого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он губит часть своей личности. Отрывая себя от национальных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семейных и личных корней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он обрекает себя на преждевременное увядание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СОКРОВИЩА РУССКОГО СЕВЕРА – ЭТО ГЛУБОКАЯ МУДРОСТЬ ТРАДИЦИЙ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ОТРАЖАЮЩИХ ПОЭТИЧЕСКИЕ И ХУДОЖЕСТВЕННЫЕ ВОЗЗРЕНИЯ НАРОДА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ЕГО ДУХОВНЫЙ ОПЫТ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ВЫСОКИЙ СМЫСЛ КОТОРОГО НЕ УТРАТИЛ СВОЕГО ЗНАЧЕНИЯ И В НАШЕ ВРЕМ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Рисунок 4" descr="Бабушка 066.jpg"/>
          <p:cNvPicPr/>
          <p:nvPr/>
        </p:nvPicPr>
        <p:blipFill>
          <a:blip r:embed="rId1"/>
          <a:stretch/>
        </p:blipFill>
        <p:spPr>
          <a:xfrm>
            <a:off x="5572080" y="428616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Бабушка 070.jpg"/>
          <p:cNvPicPr/>
          <p:nvPr/>
        </p:nvPicPr>
        <p:blipFill>
          <a:blip r:embed="rId2"/>
          <a:stretch/>
        </p:blipFill>
        <p:spPr>
          <a:xfrm>
            <a:off x="714240" y="142920"/>
            <a:ext cx="1857600" cy="25002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Бабушка 111.jpg"/>
          <p:cNvPicPr/>
          <p:nvPr/>
        </p:nvPicPr>
        <p:blipFill>
          <a:blip r:embed="rId3"/>
          <a:stretch/>
        </p:blipFill>
        <p:spPr>
          <a:xfrm>
            <a:off x="6572160" y="142920"/>
            <a:ext cx="2000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1:38:16Z</dcterms:created>
  <dc:creator>Name</dc:creator>
  <dc:description/>
  <dc:language>en-US</dc:language>
  <cp:lastModifiedBy>Катенок</cp:lastModifiedBy>
  <dcterms:modified xsi:type="dcterms:W3CDTF">2010-02-28T08:37:07Z</dcterms:modified>
  <cp:revision>35</cp:revision>
  <dc:subject/>
  <dc:title>Народный костюм Русского Сев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