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015-2F4E-4660-985B-32CA2273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E0F-A647-476C-945A-6E899BF2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0FF-7879-4F98-8B42-BE7D5E1C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8E6-694F-4D49-BDA5-3837735F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9F2-9735-4A74-9B1D-BE591291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122-2114-4673-B58A-1617D993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B57-B0AC-4CC7-8C0B-24B328B2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871-CFD0-41FF-B64F-E92566CF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2D3-EDF8-4514-8FBA-AEED6081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A93-8AE7-40A7-9637-C48E6E3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7F2-0A7A-48ED-B026-F513E8CE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4F9-696F-4C5A-B038-C063CF53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D8C6-DC57-45E4-9DC2-CA5592168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ESTIONS 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MMAR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85840" y="78588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4360" y="249228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556000" y="62064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867280" y="170028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doni MT Black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6012000" y="465300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900000" y="501336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419640" y="479736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140360" y="1484280"/>
            <a:ext cx="7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5848200" y="475560"/>
            <a:ext cx="5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gency FB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7524720" y="393372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7812000" y="177336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imSu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7308720" y="33336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1857240" y="5929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английского языка ГОУ ЦО 1158 ЮАО г.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ЛОЗЕРОВА ИРИ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member the verbs in some tag ques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j0356671"/>
          <p:cNvPicPr/>
          <p:nvPr/>
        </p:nvPicPr>
        <p:blipFill>
          <a:blip r:embed="rId1"/>
          <a:stretch/>
        </p:blipFill>
        <p:spPr>
          <a:xfrm>
            <a:off x="395280" y="1700280"/>
            <a:ext cx="2271600" cy="21096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2843280" y="22050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 him turn on the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80000" y="2205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l \ won’t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987640" y="3284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 Who?-Y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500" autoRev="1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57" dur="500" autoRev="1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58" dur="500" autoRev="1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member the verbs in some tag ques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j0427854"/>
          <p:cNvPicPr/>
          <p:nvPr/>
        </p:nvPicPr>
        <p:blipFill>
          <a:blip r:embed="rId1"/>
          <a:stretch/>
        </p:blipFill>
        <p:spPr>
          <a:xfrm>
            <a:off x="1403280" y="1413000"/>
            <a:ext cx="5751720" cy="38559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468360" y="544500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some people on th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012000" y="544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n’t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755640" y="6165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is/there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3564000" y="638172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284720" y="6165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n’t there/isn’t t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611280" y="5877000"/>
            <a:ext cx="1224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member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onation is importa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 are sure and don’t expect an answ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voice goes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58920" y="33577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esson is over, isn’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4140360" y="3284640"/>
            <a:ext cx="720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4932360" y="3284640"/>
            <a:ext cx="433440" cy="288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755640" y="407664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 aren’t sure and you expect an answer, your voice goe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619280" y="537372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esson is over, isn’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4572000" y="5877000"/>
            <a:ext cx="936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V="1">
            <a:off x="5508720" y="5516280"/>
            <a:ext cx="35856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Грамматические прави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имеры – учебни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Ahead 1 Grammar( unit8), Printha Ellis,Macmillan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Картинки -http://nova.rambler.ru/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Личная фот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73" descr="Skip to main content"/>
          <p:cNvPicPr/>
          <p:nvPr/>
        </p:nvPicPr>
        <p:blipFill>
          <a:blip r:embed="rId1"/>
          <a:stretch/>
        </p:blipFill>
        <p:spPr>
          <a:xfrm>
            <a:off x="0" y="16430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72" descr="Access keys help"/>
          <p:cNvPicPr/>
          <p:nvPr/>
        </p:nvPicPr>
        <p:blipFill>
          <a:blip r:embed="rId2"/>
          <a:stretch/>
        </p:blipFill>
        <p:spPr>
          <a:xfrm>
            <a:off x="0" y="1652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1" descr="A-Z index"/>
          <p:cNvPicPr/>
          <p:nvPr/>
        </p:nvPicPr>
        <p:blipFill>
          <a:blip r:embed="rId3"/>
          <a:stretch/>
        </p:blipFill>
        <p:spPr>
          <a:xfrm>
            <a:off x="0" y="16621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74"/>
          <p:cNvSpPr/>
          <p:nvPr/>
        </p:nvSpPr>
        <p:spPr>
          <a:xfrm>
            <a:off x="720" y="986400"/>
            <a:ext cx="63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75"/>
          <p:cNvSpPr/>
          <p:nvPr/>
        </p:nvSpPr>
        <p:spPr>
          <a:xfrm>
            <a:off x="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6"/>
          <p:cNvSpPr/>
          <p:nvPr/>
        </p:nvSpPr>
        <p:spPr>
          <a:xfrm>
            <a:off x="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77"/>
          <p:cNvSpPr/>
          <p:nvPr/>
        </p:nvSpPr>
        <p:spPr>
          <a:xfrm>
            <a:off x="1800" y="1730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81" descr="Skip to main content"/>
          <p:cNvPicPr/>
          <p:nvPr/>
        </p:nvPicPr>
        <p:blipFill>
          <a:blip r:embed="rId4"/>
          <a:stretch/>
        </p:blipFill>
        <p:spPr>
          <a:xfrm>
            <a:off x="0" y="16430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80" descr="Access keys help"/>
          <p:cNvPicPr/>
          <p:nvPr/>
        </p:nvPicPr>
        <p:blipFill>
          <a:blip r:embed="rId5"/>
          <a:stretch/>
        </p:blipFill>
        <p:spPr>
          <a:xfrm>
            <a:off x="0" y="1652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9" descr="A-Z index"/>
          <p:cNvPicPr/>
          <p:nvPr/>
        </p:nvPicPr>
        <p:blipFill>
          <a:blip r:embed="rId6"/>
          <a:stretch/>
        </p:blipFill>
        <p:spPr>
          <a:xfrm>
            <a:off x="0" y="16621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82"/>
          <p:cNvSpPr/>
          <p:nvPr/>
        </p:nvSpPr>
        <p:spPr>
          <a:xfrm>
            <a:off x="720" y="986400"/>
            <a:ext cx="63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83"/>
          <p:cNvSpPr/>
          <p:nvPr/>
        </p:nvSpPr>
        <p:spPr>
          <a:xfrm>
            <a:off x="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4"/>
          <p:cNvSpPr/>
          <p:nvPr/>
        </p:nvSpPr>
        <p:spPr>
          <a:xfrm>
            <a:off x="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85"/>
          <p:cNvSpPr/>
          <p:nvPr/>
        </p:nvSpPr>
        <p:spPr>
          <a:xfrm>
            <a:off x="1800" y="1730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8"/>
          <p:cNvSpPr/>
          <p:nvPr/>
        </p:nvSpPr>
        <p:spPr>
          <a:xfrm>
            <a:off x="1189440" y="114840"/>
            <a:ext cx="6517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a tag question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9"/>
          <p:cNvSpPr/>
          <p:nvPr/>
        </p:nvSpPr>
        <p:spPr>
          <a:xfrm>
            <a:off x="1332000" y="5012280"/>
            <a:ext cx="56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tag question is a short question ad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 the end of a positive or negative stateme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0"/>
          <p:cNvSpPr/>
          <p:nvPr/>
        </p:nvSpPr>
        <p:spPr>
          <a:xfrm>
            <a:off x="971640" y="2565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ork  at the travel agenc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1"/>
          <p:cNvSpPr/>
          <p:nvPr/>
        </p:nvSpPr>
        <p:spPr>
          <a:xfrm>
            <a:off x="1042920" y="213372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2"/>
          <p:cNvSpPr/>
          <p:nvPr/>
        </p:nvSpPr>
        <p:spPr>
          <a:xfrm>
            <a:off x="1116000" y="4149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ys don’t wear dress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3"/>
          <p:cNvSpPr/>
          <p:nvPr/>
        </p:nvSpPr>
        <p:spPr>
          <a:xfrm>
            <a:off x="1187280" y="3645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th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67 0.01179 C 0.26233 0.00855 0.27847 0.00855 0.29427 0.01064 C 0.3125 0.00855 0.32691 0.01411 0.34462 0.01549 C 0.35712 0.02012 0.37049 0.01873 0.38316 0.02197 C 0.39722 0.02058 0.40278 0.01781 0.41753 0.01665 C 0.43594 0.02012 0.44271 0.02105 0.46389 0.02197 C 0.4783 0.02428 0.49219 0.01943 0.5066 0.02197 C 0.50451 0.02822 0.50139 0.03423 0.49965 0.04071 C 0.4993 0.04233 0.49948 0.04418 0.49861 0.0458 C 0.49757 0.04695 0.49583 0.04718 0.49444 0.04811 C 0.49549 0.0495 0.49618 0.05089 0.49722 0.05181 C 0.49844 0.05297 0.50087 0.05297 0.50121 0.05459 C 0.50156 0.05598 0.49687 0.05991 0.49583 0.06106 E">
                                      <p:cBhvr>
                                        <p:cTn id="8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402 -0.03539 C 0.1526 -0.02776 0.17465 -0.04372 0.19097 -0.02776 C 0.20382 -0.03354 0.22309 -0.0266 0.23663 -0.02382 C 0.24236 -0.02244 0.25364 -0.01966 0.25364 -0.01897 C 0.26406 -0.02429 0.27031 -0.02429 0.28246 -0.02544 C 0.30104 -0.02984 0.32066 -0.02521 0.33941 -0.02151 C 0.34791 -0.01735 0.35659 -0.01827 0.3651 -0.01341 C 0.36857 -0.01411 0.3717 -0.01573 0.37517 -0.01573 C 0.38003 -0.01573 0.38055 -0.01133 0.38368 -0.0074 C 0.3875 -0.00231 0.38854 -0.00324 0.39357 -0.00115 C 0.39462 0.00116 0.39514 0.0044 0.39652 0.00671 C 0.39809 0.00902 0.40069 0.01018 0.40225 0.01273 C 0.4033 0.01504 0.40277 0.01828 0.40364 0.02082 C 0.40434 0.02313 0.40573 0.02452 0.40642 0.02707 C 0.40764 0.031 0.40937 0.0391 0.40937 0.03933 C 0.40642 0.04048 0.40277 0.04025 0.40069 0.04326 C 0.39722 0.04835 0.40937 0.05459 0.41093 0.05552 C 0.40937 0.05598 0.40642 0.05529 0.40642 0.05714 C 0.40642 0.05968 0.40937 0.06015 0.41093 0.0613 C 0.41545 0.06477 0.42118 0.07171 0.42534 0.07171 E">
                                      <p:cBhvr>
                                        <p:cTn id="9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80000" y="188280"/>
            <a:ext cx="8247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ow are they formed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50920" y="170028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ly a positive statement is follow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299736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nd I are going to the par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372360" y="17002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a negative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859280" y="299736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n't we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268360" y="2492280"/>
            <a:ext cx="2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 flipH="1">
            <a:off x="5292000" y="2349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08000" y="3933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a negative statement is follow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651640" y="3933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a positive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84360" y="5013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n't Englis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971640" y="4581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3203640" y="5013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you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3203640" y="458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2091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!The statement a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tag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ways separated by a com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9280" y="2565360"/>
            <a:ext cx="67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doesn't want to come with 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588000" y="2565360"/>
            <a:ext cx="2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948360" y="2637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es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! Treat any statements with nothing, nobody etc like negative stateme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28360" y="2558880"/>
            <a:ext cx="48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  never complain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340000" y="1989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1692360" y="3141720"/>
            <a:ext cx="1150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435640" y="2565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es h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374520" y="2060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900000" y="40766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e nobody he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219640" y="40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 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411280" y="3573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5580000" y="37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124000" y="4653000"/>
            <a:ext cx="151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verb in the statement should be the same tense as the verb in the ta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11280" y="1916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'll be ther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1128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Maggie failed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11280" y="37893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've already seen that movi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84360" y="465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has lun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916360" y="1916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n't you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580000" y="1989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ture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2843280" y="285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didn't she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580000" y="2852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5292720" y="3789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n't we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7380360" y="364500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3492360" y="4653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n’t h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5580000" y="4653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755640" y="5516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can do this we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651640" y="54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al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332000" y="2349360"/>
            <a:ext cx="21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1835280" y="328464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1187280" y="4221000"/>
            <a:ext cx="230508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1187280" y="5084640"/>
            <a:ext cx="64800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>
            <a:off x="971640" y="5950080"/>
            <a:ext cx="57600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708360" y="551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’t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member the verbs in some tag ques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j0403645"/>
          <p:cNvPicPr/>
          <p:nvPr/>
        </p:nvPicPr>
        <p:blipFill>
          <a:blip r:embed="rId1"/>
          <a:stretch/>
        </p:blipFill>
        <p:spPr>
          <a:xfrm>
            <a:off x="3699000" y="1773360"/>
            <a:ext cx="5445000" cy="4356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5148360" y="1268280"/>
            <a:ext cx="1728720" cy="1295640"/>
          </a:xfrm>
          <a:prstGeom prst="wedgeEllipseCallout">
            <a:avLst>
              <a:gd name="adj1" fmla="val -24194"/>
              <a:gd name="adj2" fmla="val 6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364000" y="1557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’s go to the café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7164360" y="1844640"/>
            <a:ext cx="1511280" cy="5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4000" y="24922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’s go to the café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395280" y="306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ll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50920" y="4365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y ticke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2124000" y="43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l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5292720" y="1557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7525440" y="184464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7380360" y="177336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y ticke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5364000" y="1557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7380360" y="1844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4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755640" y="26028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member the verbs in some tag question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31"/>
          <p:cNvPicPr/>
          <p:nvPr/>
        </p:nvPicPr>
        <p:blipFill>
          <a:blip r:embed="rId1"/>
          <a:stretch/>
        </p:blipFill>
        <p:spPr>
          <a:xfrm>
            <a:off x="0" y="1557360"/>
            <a:ext cx="5656320" cy="4248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132000" y="1628640"/>
            <a:ext cx="216072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276720" y="2205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a teac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5724360" y="2852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am a teache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5940360" y="198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77564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n’t  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059280" y="242100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not a studen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5724360" y="4005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am not a stud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8244000" y="4005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 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5940360" y="321300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6012000" y="4365720"/>
            <a:ext cx="72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memb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verbs in some tag ques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j0255461"/>
          <p:cNvPicPr/>
          <p:nvPr/>
        </p:nvPicPr>
        <p:blipFill>
          <a:blip r:embed="rId1"/>
          <a:stretch/>
        </p:blipFill>
        <p:spPr>
          <a:xfrm>
            <a:off x="250920" y="1557360"/>
            <a:ext cx="315108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635280" y="2565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 has a p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156360" y="256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n’t sh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924360" y="407664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в значении «владе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4356000" y="3068640"/>
            <a:ext cx="503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0:19:44Z</dcterms:created>
  <dc:creator>Белозерова</dc:creator>
  <dc:description/>
  <dc:language>en-US</dc:language>
  <cp:lastModifiedBy>Белозерова </cp:lastModifiedBy>
  <dcterms:modified xsi:type="dcterms:W3CDTF">2010-03-03T10:47:07Z</dcterms:modified>
  <cp:revision>6</cp:revision>
  <dc:subject/>
  <dc:title>Слайд 1</dc:title>
</cp:coreProperties>
</file>