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FC09-DCF2-4AD8-BFFE-7C6805F1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F984-3EB8-48BE-91F5-40166AD3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E53C-6D23-4ED8-BD15-574A5631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EC1F-EF56-43DB-97FB-7C24393C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B10B-0CD0-4014-9797-3F2C80E9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E8F2-719B-491D-BE13-5BC23AA5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00A2-A0BF-4C7C-BA11-EC8E51B6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35FB-F7B0-417F-8B91-37FADE7F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CF14-91F0-482F-A903-5CDE3C34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B2BE-06CA-44E6-8A84-2EB90F65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9321-D57D-49DD-B556-18CBB4E2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CF3C-48A7-43A9-AA4B-4350B42C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AA84-9369-43FA-9903-6F52F9D62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91440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Классная работ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666880" y="1981080"/>
            <a:ext cx="2210040" cy="1270080"/>
          </a:xfrm>
          <a:custGeom>
            <a:avLst/>
            <a:gdLst/>
            <a:ahLst/>
            <a:rect l="l" t="t" r="r" b="b"/>
            <a:pathLst>
              <a:path w="1392" h="775">
                <a:moveTo>
                  <a:pt x="1392" y="752"/>
                </a:moveTo>
                <a:lnTo>
                  <a:pt x="0" y="752"/>
                </a:lnTo>
                <a:cubicBezTo>
                  <a:pt x="27" y="741"/>
                  <a:pt x="54" y="732"/>
                  <a:pt x="82" y="722"/>
                </a:cubicBezTo>
                <a:cubicBezTo>
                  <a:pt x="126" y="681"/>
                  <a:pt x="68" y="730"/>
                  <a:pt x="134" y="696"/>
                </a:cubicBezTo>
                <a:cubicBezTo>
                  <a:pt x="216" y="654"/>
                  <a:pt x="122" y="680"/>
                  <a:pt x="203" y="662"/>
                </a:cubicBezTo>
                <a:cubicBezTo>
                  <a:pt x="220" y="608"/>
                  <a:pt x="196" y="660"/>
                  <a:pt x="246" y="627"/>
                </a:cubicBezTo>
                <a:cubicBezTo>
                  <a:pt x="265" y="615"/>
                  <a:pt x="263" y="593"/>
                  <a:pt x="272" y="576"/>
                </a:cubicBezTo>
                <a:cubicBezTo>
                  <a:pt x="298" y="528"/>
                  <a:pt x="309" y="515"/>
                  <a:pt x="357" y="498"/>
                </a:cubicBezTo>
                <a:cubicBezTo>
                  <a:pt x="369" y="465"/>
                  <a:pt x="393" y="437"/>
                  <a:pt x="418" y="412"/>
                </a:cubicBezTo>
                <a:cubicBezTo>
                  <a:pt x="438" y="351"/>
                  <a:pt x="420" y="371"/>
                  <a:pt x="461" y="344"/>
                </a:cubicBezTo>
                <a:cubicBezTo>
                  <a:pt x="472" y="308"/>
                  <a:pt x="490" y="295"/>
                  <a:pt x="521" y="275"/>
                </a:cubicBezTo>
                <a:cubicBezTo>
                  <a:pt x="549" y="233"/>
                  <a:pt x="579" y="196"/>
                  <a:pt x="607" y="155"/>
                </a:cubicBezTo>
                <a:cubicBezTo>
                  <a:pt x="618" y="120"/>
                  <a:pt x="618" y="107"/>
                  <a:pt x="650" y="86"/>
                </a:cubicBezTo>
                <a:cubicBezTo>
                  <a:pt x="661" y="50"/>
                  <a:pt x="687" y="21"/>
                  <a:pt x="719" y="0"/>
                </a:cubicBezTo>
                <a:cubicBezTo>
                  <a:pt x="736" y="3"/>
                  <a:pt x="754" y="2"/>
                  <a:pt x="770" y="8"/>
                </a:cubicBezTo>
                <a:cubicBezTo>
                  <a:pt x="861" y="43"/>
                  <a:pt x="713" y="10"/>
                  <a:pt x="805" y="43"/>
                </a:cubicBezTo>
                <a:cubicBezTo>
                  <a:pt x="821" y="49"/>
                  <a:pt x="839" y="48"/>
                  <a:pt x="856" y="51"/>
                </a:cubicBezTo>
                <a:cubicBezTo>
                  <a:pt x="868" y="64"/>
                  <a:pt x="883" y="78"/>
                  <a:pt x="891" y="94"/>
                </a:cubicBezTo>
                <a:cubicBezTo>
                  <a:pt x="895" y="102"/>
                  <a:pt x="893" y="113"/>
                  <a:pt x="899" y="120"/>
                </a:cubicBezTo>
                <a:cubicBezTo>
                  <a:pt x="905" y="127"/>
                  <a:pt x="916" y="126"/>
                  <a:pt x="925" y="129"/>
                </a:cubicBezTo>
                <a:cubicBezTo>
                  <a:pt x="935" y="162"/>
                  <a:pt x="961" y="189"/>
                  <a:pt x="985" y="215"/>
                </a:cubicBezTo>
                <a:cubicBezTo>
                  <a:pt x="999" y="255"/>
                  <a:pt x="1030" y="296"/>
                  <a:pt x="1071" y="309"/>
                </a:cubicBezTo>
                <a:cubicBezTo>
                  <a:pt x="1110" y="368"/>
                  <a:pt x="1090" y="347"/>
                  <a:pt x="1123" y="378"/>
                </a:cubicBezTo>
                <a:cubicBezTo>
                  <a:pt x="1144" y="445"/>
                  <a:pt x="1112" y="369"/>
                  <a:pt x="1157" y="412"/>
                </a:cubicBezTo>
                <a:cubicBezTo>
                  <a:pt x="1161" y="416"/>
                  <a:pt x="1171" y="459"/>
                  <a:pt x="1174" y="464"/>
                </a:cubicBezTo>
                <a:cubicBezTo>
                  <a:pt x="1181" y="474"/>
                  <a:pt x="1192" y="480"/>
                  <a:pt x="1200" y="490"/>
                </a:cubicBezTo>
                <a:cubicBezTo>
                  <a:pt x="1268" y="578"/>
                  <a:pt x="1207" y="514"/>
                  <a:pt x="1252" y="559"/>
                </a:cubicBezTo>
                <a:cubicBezTo>
                  <a:pt x="1263" y="592"/>
                  <a:pt x="1270" y="600"/>
                  <a:pt x="1303" y="610"/>
                </a:cubicBezTo>
                <a:cubicBezTo>
                  <a:pt x="1315" y="627"/>
                  <a:pt x="1326" y="645"/>
                  <a:pt x="1338" y="662"/>
                </a:cubicBezTo>
                <a:cubicBezTo>
                  <a:pt x="1353" y="684"/>
                  <a:pt x="1349" y="724"/>
                  <a:pt x="1363" y="748"/>
                </a:cubicBezTo>
                <a:cubicBezTo>
                  <a:pt x="1380" y="775"/>
                  <a:pt x="1379" y="767"/>
                  <a:pt x="1392" y="752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1981080"/>
            <a:ext cx="1067040" cy="1222560"/>
          </a:xfrm>
          <a:custGeom>
            <a:avLst/>
            <a:gdLst/>
            <a:ahLst/>
            <a:rect l="l" t="t" r="r" b="b"/>
            <a:pathLst>
              <a:path w="672" h="770">
                <a:moveTo>
                  <a:pt x="672" y="768"/>
                </a:moveTo>
                <a:lnTo>
                  <a:pt x="0" y="768"/>
                </a:lnTo>
                <a:lnTo>
                  <a:pt x="0" y="0"/>
                </a:lnTo>
                <a:cubicBezTo>
                  <a:pt x="16" y="7"/>
                  <a:pt x="49" y="19"/>
                  <a:pt x="62" y="34"/>
                </a:cubicBezTo>
                <a:cubicBezTo>
                  <a:pt x="77" y="51"/>
                  <a:pt x="99" y="90"/>
                  <a:pt x="99" y="90"/>
                </a:cubicBezTo>
                <a:cubicBezTo>
                  <a:pt x="121" y="83"/>
                  <a:pt x="141" y="71"/>
                  <a:pt x="164" y="90"/>
                </a:cubicBezTo>
                <a:cubicBezTo>
                  <a:pt x="172" y="96"/>
                  <a:pt x="169" y="109"/>
                  <a:pt x="173" y="118"/>
                </a:cubicBezTo>
                <a:cubicBezTo>
                  <a:pt x="188" y="149"/>
                  <a:pt x="192" y="146"/>
                  <a:pt x="220" y="164"/>
                </a:cubicBezTo>
                <a:cubicBezTo>
                  <a:pt x="236" y="212"/>
                  <a:pt x="265" y="239"/>
                  <a:pt x="294" y="276"/>
                </a:cubicBezTo>
                <a:cubicBezTo>
                  <a:pt x="330" y="322"/>
                  <a:pt x="355" y="373"/>
                  <a:pt x="396" y="415"/>
                </a:cubicBezTo>
                <a:cubicBezTo>
                  <a:pt x="422" y="488"/>
                  <a:pt x="384" y="398"/>
                  <a:pt x="434" y="461"/>
                </a:cubicBezTo>
                <a:cubicBezTo>
                  <a:pt x="461" y="494"/>
                  <a:pt x="434" y="508"/>
                  <a:pt x="489" y="526"/>
                </a:cubicBezTo>
                <a:cubicBezTo>
                  <a:pt x="495" y="535"/>
                  <a:pt x="499" y="547"/>
                  <a:pt x="508" y="554"/>
                </a:cubicBezTo>
                <a:cubicBezTo>
                  <a:pt x="516" y="560"/>
                  <a:pt x="530" y="556"/>
                  <a:pt x="536" y="564"/>
                </a:cubicBezTo>
                <a:cubicBezTo>
                  <a:pt x="566" y="607"/>
                  <a:pt x="550" y="670"/>
                  <a:pt x="601" y="703"/>
                </a:cubicBezTo>
                <a:cubicBezTo>
                  <a:pt x="620" y="715"/>
                  <a:pt x="657" y="740"/>
                  <a:pt x="657" y="740"/>
                </a:cubicBezTo>
                <a:cubicBezTo>
                  <a:pt x="667" y="770"/>
                  <a:pt x="656" y="768"/>
                  <a:pt x="672" y="768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1981080"/>
            <a:ext cx="1170000" cy="1222560"/>
          </a:xfrm>
          <a:custGeom>
            <a:avLst/>
            <a:gdLst/>
            <a:ahLst/>
            <a:rect l="l" t="t" r="r" b="b"/>
            <a:pathLst>
              <a:path w="737" h="770">
                <a:moveTo>
                  <a:pt x="720" y="2"/>
                </a:moveTo>
                <a:lnTo>
                  <a:pt x="720" y="770"/>
                </a:lnTo>
                <a:lnTo>
                  <a:pt x="0" y="770"/>
                </a:lnTo>
                <a:cubicBezTo>
                  <a:pt x="32" y="740"/>
                  <a:pt x="8" y="756"/>
                  <a:pt x="57" y="742"/>
                </a:cubicBezTo>
                <a:cubicBezTo>
                  <a:pt x="76" y="737"/>
                  <a:pt x="113" y="724"/>
                  <a:pt x="113" y="724"/>
                </a:cubicBezTo>
                <a:cubicBezTo>
                  <a:pt x="141" y="705"/>
                  <a:pt x="169" y="696"/>
                  <a:pt x="197" y="677"/>
                </a:cubicBezTo>
                <a:cubicBezTo>
                  <a:pt x="215" y="622"/>
                  <a:pt x="192" y="673"/>
                  <a:pt x="234" y="631"/>
                </a:cubicBezTo>
                <a:cubicBezTo>
                  <a:pt x="242" y="623"/>
                  <a:pt x="243" y="610"/>
                  <a:pt x="252" y="603"/>
                </a:cubicBezTo>
                <a:cubicBezTo>
                  <a:pt x="268" y="590"/>
                  <a:pt x="290" y="586"/>
                  <a:pt x="308" y="575"/>
                </a:cubicBezTo>
                <a:cubicBezTo>
                  <a:pt x="314" y="566"/>
                  <a:pt x="319" y="555"/>
                  <a:pt x="327" y="547"/>
                </a:cubicBezTo>
                <a:cubicBezTo>
                  <a:pt x="335" y="539"/>
                  <a:pt x="348" y="537"/>
                  <a:pt x="355" y="528"/>
                </a:cubicBezTo>
                <a:cubicBezTo>
                  <a:pt x="361" y="521"/>
                  <a:pt x="359" y="509"/>
                  <a:pt x="364" y="501"/>
                </a:cubicBezTo>
                <a:cubicBezTo>
                  <a:pt x="398" y="439"/>
                  <a:pt x="383" y="451"/>
                  <a:pt x="429" y="436"/>
                </a:cubicBezTo>
                <a:cubicBezTo>
                  <a:pt x="441" y="417"/>
                  <a:pt x="454" y="399"/>
                  <a:pt x="466" y="380"/>
                </a:cubicBezTo>
                <a:cubicBezTo>
                  <a:pt x="478" y="361"/>
                  <a:pt x="522" y="343"/>
                  <a:pt x="522" y="343"/>
                </a:cubicBezTo>
                <a:cubicBezTo>
                  <a:pt x="522" y="343"/>
                  <a:pt x="503" y="349"/>
                  <a:pt x="494" y="352"/>
                </a:cubicBezTo>
                <a:cubicBezTo>
                  <a:pt x="509" y="306"/>
                  <a:pt x="529" y="275"/>
                  <a:pt x="568" y="250"/>
                </a:cubicBezTo>
                <a:cubicBezTo>
                  <a:pt x="584" y="205"/>
                  <a:pt x="591" y="175"/>
                  <a:pt x="633" y="148"/>
                </a:cubicBezTo>
                <a:cubicBezTo>
                  <a:pt x="658" y="111"/>
                  <a:pt x="672" y="75"/>
                  <a:pt x="698" y="36"/>
                </a:cubicBezTo>
                <a:cubicBezTo>
                  <a:pt x="722" y="0"/>
                  <a:pt x="737" y="19"/>
                  <a:pt x="720" y="2"/>
                </a:cubicBez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28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Вычисление площадей с помощью интегр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666880" y="9907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320040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809880" y="19807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914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1371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1447920"/>
            <a:ext cx="2590920" cy="1752480"/>
          </a:xfrm>
          <a:custGeom>
            <a:avLst/>
            <a:gdLst/>
            <a:ahLst/>
            <a:rect l="l" t="t" r="r" b="b"/>
            <a:pathLst>
              <a:path w="1632" h="1008">
                <a:moveTo>
                  <a:pt x="0" y="0"/>
                </a:moveTo>
                <a:cubicBezTo>
                  <a:pt x="200" y="504"/>
                  <a:pt x="400" y="1008"/>
                  <a:pt x="672" y="1008"/>
                </a:cubicBezTo>
                <a:cubicBezTo>
                  <a:pt x="944" y="1008"/>
                  <a:pt x="1472" y="168"/>
                  <a:pt x="1632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1905120"/>
            <a:ext cx="2895480" cy="1917720"/>
          </a:xfrm>
          <a:custGeom>
            <a:avLst/>
            <a:gdLst/>
            <a:ahLst/>
            <a:rect l="l" t="t" r="r" b="b"/>
            <a:pathLst>
              <a:path w="1824" h="1208">
                <a:moveTo>
                  <a:pt x="0" y="1208"/>
                </a:moveTo>
                <a:cubicBezTo>
                  <a:pt x="92" y="944"/>
                  <a:pt x="184" y="680"/>
                  <a:pt x="336" y="488"/>
                </a:cubicBezTo>
                <a:cubicBezTo>
                  <a:pt x="488" y="296"/>
                  <a:pt x="704" y="0"/>
                  <a:pt x="912" y="56"/>
                </a:cubicBezTo>
                <a:cubicBezTo>
                  <a:pt x="1120" y="112"/>
                  <a:pt x="1432" y="632"/>
                  <a:pt x="1584" y="824"/>
                </a:cubicBezTo>
                <a:cubicBezTo>
                  <a:pt x="1736" y="1016"/>
                  <a:pt x="1784" y="1144"/>
                  <a:pt x="1824" y="1208"/>
                </a:cubicBezTo>
              </a:path>
            </a:pathLst>
          </a:custGeom>
          <a:noFill/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200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3352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3352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g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676520" y="4724280"/>
                <a:ext cx="220968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с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419720" y="4648320"/>
                <a:ext cx="144756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с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396252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1371600"/>
            <a:ext cx="1600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y = f 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y = g 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47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5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50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343400" y="3200400"/>
            <a:ext cx="1703520" cy="1031760"/>
          </a:xfrm>
          <a:custGeom>
            <a:avLst/>
            <a:gdLst/>
            <a:ahLst/>
            <a:rect l="l" t="t" r="r" b="b"/>
            <a:pathLst>
              <a:path w="1073" h="650">
                <a:moveTo>
                  <a:pt x="1056" y="384"/>
                </a:moveTo>
                <a:lnTo>
                  <a:pt x="1056" y="0"/>
                </a:lnTo>
                <a:lnTo>
                  <a:pt x="0" y="0"/>
                </a:lnTo>
                <a:lnTo>
                  <a:pt x="0" y="384"/>
                </a:lnTo>
                <a:cubicBezTo>
                  <a:pt x="17" y="424"/>
                  <a:pt x="39" y="434"/>
                  <a:pt x="70" y="465"/>
                </a:cubicBezTo>
                <a:cubicBezTo>
                  <a:pt x="79" y="491"/>
                  <a:pt x="127" y="545"/>
                  <a:pt x="153" y="557"/>
                </a:cubicBezTo>
                <a:cubicBezTo>
                  <a:pt x="171" y="565"/>
                  <a:pt x="190" y="570"/>
                  <a:pt x="209" y="576"/>
                </a:cubicBezTo>
                <a:cubicBezTo>
                  <a:pt x="218" y="579"/>
                  <a:pt x="237" y="585"/>
                  <a:pt x="237" y="585"/>
                </a:cubicBezTo>
                <a:cubicBezTo>
                  <a:pt x="268" y="606"/>
                  <a:pt x="295" y="610"/>
                  <a:pt x="330" y="622"/>
                </a:cubicBezTo>
                <a:cubicBezTo>
                  <a:pt x="349" y="628"/>
                  <a:pt x="367" y="635"/>
                  <a:pt x="386" y="641"/>
                </a:cubicBezTo>
                <a:cubicBezTo>
                  <a:pt x="395" y="644"/>
                  <a:pt x="413" y="650"/>
                  <a:pt x="413" y="650"/>
                </a:cubicBezTo>
                <a:cubicBezTo>
                  <a:pt x="475" y="643"/>
                  <a:pt x="522" y="625"/>
                  <a:pt x="581" y="613"/>
                </a:cubicBezTo>
                <a:cubicBezTo>
                  <a:pt x="691" y="590"/>
                  <a:pt x="642" y="607"/>
                  <a:pt x="701" y="585"/>
                </a:cubicBezTo>
                <a:cubicBezTo>
                  <a:pt x="736" y="550"/>
                  <a:pt x="749" y="554"/>
                  <a:pt x="794" y="539"/>
                </a:cubicBezTo>
                <a:cubicBezTo>
                  <a:pt x="829" y="515"/>
                  <a:pt x="867" y="506"/>
                  <a:pt x="906" y="492"/>
                </a:cubicBezTo>
                <a:cubicBezTo>
                  <a:pt x="925" y="464"/>
                  <a:pt x="948" y="451"/>
                  <a:pt x="980" y="437"/>
                </a:cubicBezTo>
                <a:cubicBezTo>
                  <a:pt x="1044" y="409"/>
                  <a:pt x="1073" y="438"/>
                  <a:pt x="1056" y="384"/>
                </a:cubicBez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2133720"/>
            <a:ext cx="5715000" cy="2120760"/>
          </a:xfrm>
          <a:custGeom>
            <a:avLst/>
            <a:gdLst/>
            <a:ahLst/>
            <a:rect l="l" t="t" r="r" b="b"/>
            <a:pathLst>
              <a:path w="3600" h="1336">
                <a:moveTo>
                  <a:pt x="0" y="784"/>
                </a:moveTo>
                <a:cubicBezTo>
                  <a:pt x="380" y="408"/>
                  <a:pt x="760" y="32"/>
                  <a:pt x="1056" y="16"/>
                </a:cubicBezTo>
                <a:cubicBezTo>
                  <a:pt x="1352" y="0"/>
                  <a:pt x="1536" y="472"/>
                  <a:pt x="1776" y="688"/>
                </a:cubicBezTo>
                <a:cubicBezTo>
                  <a:pt x="2016" y="904"/>
                  <a:pt x="2192" y="1288"/>
                  <a:pt x="2496" y="1312"/>
                </a:cubicBezTo>
                <a:cubicBezTo>
                  <a:pt x="2800" y="1336"/>
                  <a:pt x="3416" y="912"/>
                  <a:pt x="3600" y="832"/>
                </a:cubicBezTo>
              </a:path>
            </a:pathLst>
          </a:custGeom>
          <a:noFill/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228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Вычисление площадей с помощью интегр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666880" y="9907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320040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99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343400" y="3200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43200" y="914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33526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76920" y="4343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2819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2743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992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676520" y="5181480"/>
                <a:ext cx="24382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6629400" y="10666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y = f 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x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x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4500"/>
                            </p:stCondLst>
                            <p:childTnLst>
                              <p:par>
                                <p:cTn id="5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V="1">
            <a:off x="2666880" y="990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09680" y="2209680"/>
            <a:ext cx="4724640" cy="1676520"/>
          </a:xfrm>
          <a:custGeom>
            <a:avLst/>
            <a:gdLst/>
            <a:ahLst/>
            <a:rect l="l" t="t" r="r" b="b"/>
            <a:pathLst>
              <a:path w="2976" h="1056">
                <a:moveTo>
                  <a:pt x="2976" y="0"/>
                </a:moveTo>
                <a:lnTo>
                  <a:pt x="2976" y="1056"/>
                </a:lnTo>
                <a:lnTo>
                  <a:pt x="0" y="1056"/>
                </a:lnTo>
                <a:lnTo>
                  <a:pt x="0" y="96"/>
                </a:lnTo>
                <a:cubicBezTo>
                  <a:pt x="4" y="86"/>
                  <a:pt x="2" y="72"/>
                  <a:pt x="11" y="67"/>
                </a:cubicBezTo>
                <a:cubicBezTo>
                  <a:pt x="49" y="48"/>
                  <a:pt x="45" y="119"/>
                  <a:pt x="48" y="122"/>
                </a:cubicBezTo>
                <a:cubicBezTo>
                  <a:pt x="62" y="136"/>
                  <a:pt x="85" y="135"/>
                  <a:pt x="104" y="141"/>
                </a:cubicBezTo>
                <a:cubicBezTo>
                  <a:pt x="153" y="157"/>
                  <a:pt x="203" y="170"/>
                  <a:pt x="252" y="187"/>
                </a:cubicBezTo>
                <a:cubicBezTo>
                  <a:pt x="336" y="215"/>
                  <a:pt x="225" y="179"/>
                  <a:pt x="308" y="206"/>
                </a:cubicBezTo>
                <a:cubicBezTo>
                  <a:pt x="317" y="209"/>
                  <a:pt x="336" y="215"/>
                  <a:pt x="336" y="215"/>
                </a:cubicBezTo>
                <a:cubicBezTo>
                  <a:pt x="396" y="256"/>
                  <a:pt x="479" y="262"/>
                  <a:pt x="550" y="271"/>
                </a:cubicBezTo>
                <a:cubicBezTo>
                  <a:pt x="689" y="316"/>
                  <a:pt x="831" y="348"/>
                  <a:pt x="977" y="364"/>
                </a:cubicBezTo>
                <a:cubicBezTo>
                  <a:pt x="1024" y="375"/>
                  <a:pt x="1070" y="379"/>
                  <a:pt x="1116" y="392"/>
                </a:cubicBezTo>
                <a:cubicBezTo>
                  <a:pt x="1128" y="396"/>
                  <a:pt x="1142" y="397"/>
                  <a:pt x="1154" y="401"/>
                </a:cubicBezTo>
                <a:cubicBezTo>
                  <a:pt x="1173" y="407"/>
                  <a:pt x="1209" y="420"/>
                  <a:pt x="1209" y="420"/>
                </a:cubicBezTo>
                <a:cubicBezTo>
                  <a:pt x="1389" y="417"/>
                  <a:pt x="1569" y="419"/>
                  <a:pt x="1748" y="410"/>
                </a:cubicBezTo>
                <a:cubicBezTo>
                  <a:pt x="1759" y="409"/>
                  <a:pt x="1765" y="395"/>
                  <a:pt x="1776" y="392"/>
                </a:cubicBezTo>
                <a:cubicBezTo>
                  <a:pt x="1815" y="380"/>
                  <a:pt x="1955" y="374"/>
                  <a:pt x="1971" y="373"/>
                </a:cubicBezTo>
                <a:cubicBezTo>
                  <a:pt x="2062" y="344"/>
                  <a:pt x="2155" y="312"/>
                  <a:pt x="2250" y="299"/>
                </a:cubicBezTo>
                <a:cubicBezTo>
                  <a:pt x="2293" y="270"/>
                  <a:pt x="2348" y="269"/>
                  <a:pt x="2398" y="252"/>
                </a:cubicBezTo>
                <a:cubicBezTo>
                  <a:pt x="2417" y="246"/>
                  <a:pt x="2435" y="240"/>
                  <a:pt x="2454" y="234"/>
                </a:cubicBezTo>
                <a:cubicBezTo>
                  <a:pt x="2463" y="231"/>
                  <a:pt x="2482" y="225"/>
                  <a:pt x="2482" y="225"/>
                </a:cubicBezTo>
                <a:cubicBezTo>
                  <a:pt x="2559" y="173"/>
                  <a:pt x="2601" y="170"/>
                  <a:pt x="2696" y="159"/>
                </a:cubicBezTo>
                <a:cubicBezTo>
                  <a:pt x="2696" y="159"/>
                  <a:pt x="2625" y="172"/>
                  <a:pt x="2640" y="187"/>
                </a:cubicBezTo>
                <a:cubicBezTo>
                  <a:pt x="2643" y="190"/>
                  <a:pt x="2699" y="171"/>
                  <a:pt x="2705" y="169"/>
                </a:cubicBezTo>
                <a:cubicBezTo>
                  <a:pt x="2735" y="125"/>
                  <a:pt x="2714" y="144"/>
                  <a:pt x="2779" y="122"/>
                </a:cubicBezTo>
                <a:cubicBezTo>
                  <a:pt x="2788" y="119"/>
                  <a:pt x="2807" y="113"/>
                  <a:pt x="2807" y="113"/>
                </a:cubicBezTo>
                <a:cubicBezTo>
                  <a:pt x="2904" y="47"/>
                  <a:pt x="2758" y="141"/>
                  <a:pt x="2872" y="85"/>
                </a:cubicBezTo>
                <a:cubicBezTo>
                  <a:pt x="2892" y="75"/>
                  <a:pt x="2907" y="55"/>
                  <a:pt x="2928" y="48"/>
                </a:cubicBezTo>
                <a:cubicBezTo>
                  <a:pt x="2937" y="45"/>
                  <a:pt x="2949" y="46"/>
                  <a:pt x="2956" y="39"/>
                </a:cubicBezTo>
                <a:cubicBezTo>
                  <a:pt x="2966" y="29"/>
                  <a:pt x="2969" y="13"/>
                  <a:pt x="2976" y="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09680" y="1066680"/>
            <a:ext cx="4722840" cy="1844640"/>
          </a:xfrm>
          <a:custGeom>
            <a:avLst/>
            <a:gdLst/>
            <a:ahLst/>
            <a:rect l="l" t="t" r="r" b="b"/>
            <a:pathLst>
              <a:path w="2975" h="1155">
                <a:moveTo>
                  <a:pt x="2" y="815"/>
                </a:moveTo>
                <a:cubicBezTo>
                  <a:pt x="44" y="751"/>
                  <a:pt x="18" y="766"/>
                  <a:pt x="67" y="750"/>
                </a:cubicBezTo>
                <a:cubicBezTo>
                  <a:pt x="110" y="685"/>
                  <a:pt x="91" y="712"/>
                  <a:pt x="123" y="667"/>
                </a:cubicBezTo>
                <a:cubicBezTo>
                  <a:pt x="136" y="649"/>
                  <a:pt x="178" y="629"/>
                  <a:pt x="178" y="629"/>
                </a:cubicBezTo>
                <a:cubicBezTo>
                  <a:pt x="200" y="597"/>
                  <a:pt x="221" y="577"/>
                  <a:pt x="253" y="555"/>
                </a:cubicBezTo>
                <a:cubicBezTo>
                  <a:pt x="283" y="508"/>
                  <a:pt x="261" y="534"/>
                  <a:pt x="327" y="490"/>
                </a:cubicBezTo>
                <a:cubicBezTo>
                  <a:pt x="336" y="484"/>
                  <a:pt x="355" y="471"/>
                  <a:pt x="355" y="471"/>
                </a:cubicBezTo>
                <a:cubicBezTo>
                  <a:pt x="394" y="413"/>
                  <a:pt x="437" y="373"/>
                  <a:pt x="504" y="351"/>
                </a:cubicBezTo>
                <a:cubicBezTo>
                  <a:pt x="532" y="332"/>
                  <a:pt x="559" y="323"/>
                  <a:pt x="587" y="304"/>
                </a:cubicBezTo>
                <a:cubicBezTo>
                  <a:pt x="631" y="239"/>
                  <a:pt x="578" y="304"/>
                  <a:pt x="634" y="267"/>
                </a:cubicBezTo>
                <a:cubicBezTo>
                  <a:pt x="645" y="260"/>
                  <a:pt x="651" y="247"/>
                  <a:pt x="661" y="239"/>
                </a:cubicBezTo>
                <a:cubicBezTo>
                  <a:pt x="708" y="202"/>
                  <a:pt x="703" y="206"/>
                  <a:pt x="745" y="193"/>
                </a:cubicBezTo>
                <a:cubicBezTo>
                  <a:pt x="798" y="140"/>
                  <a:pt x="868" y="136"/>
                  <a:pt x="940" y="128"/>
                </a:cubicBezTo>
                <a:cubicBezTo>
                  <a:pt x="996" y="109"/>
                  <a:pt x="1049" y="94"/>
                  <a:pt x="1107" y="81"/>
                </a:cubicBezTo>
                <a:cubicBezTo>
                  <a:pt x="1233" y="0"/>
                  <a:pt x="1390" y="39"/>
                  <a:pt x="1535" y="35"/>
                </a:cubicBezTo>
                <a:cubicBezTo>
                  <a:pt x="1579" y="19"/>
                  <a:pt x="1576" y="39"/>
                  <a:pt x="1618" y="53"/>
                </a:cubicBezTo>
                <a:cubicBezTo>
                  <a:pt x="1637" y="59"/>
                  <a:pt x="1674" y="72"/>
                  <a:pt x="1674" y="72"/>
                </a:cubicBezTo>
                <a:cubicBezTo>
                  <a:pt x="1727" y="108"/>
                  <a:pt x="1677" y="80"/>
                  <a:pt x="1767" y="100"/>
                </a:cubicBezTo>
                <a:cubicBezTo>
                  <a:pt x="1805" y="108"/>
                  <a:pt x="1839" y="134"/>
                  <a:pt x="1878" y="137"/>
                </a:cubicBezTo>
                <a:cubicBezTo>
                  <a:pt x="1915" y="140"/>
                  <a:pt x="1953" y="143"/>
                  <a:pt x="1990" y="146"/>
                </a:cubicBezTo>
                <a:cubicBezTo>
                  <a:pt x="2009" y="152"/>
                  <a:pt x="2027" y="159"/>
                  <a:pt x="2046" y="165"/>
                </a:cubicBezTo>
                <a:cubicBezTo>
                  <a:pt x="2055" y="168"/>
                  <a:pt x="2074" y="174"/>
                  <a:pt x="2074" y="174"/>
                </a:cubicBezTo>
                <a:cubicBezTo>
                  <a:pt x="2109" y="228"/>
                  <a:pt x="2070" y="182"/>
                  <a:pt x="2129" y="211"/>
                </a:cubicBezTo>
                <a:cubicBezTo>
                  <a:pt x="2149" y="221"/>
                  <a:pt x="2164" y="240"/>
                  <a:pt x="2185" y="248"/>
                </a:cubicBezTo>
                <a:cubicBezTo>
                  <a:pt x="2216" y="259"/>
                  <a:pt x="2247" y="266"/>
                  <a:pt x="2278" y="276"/>
                </a:cubicBezTo>
                <a:cubicBezTo>
                  <a:pt x="2297" y="288"/>
                  <a:pt x="2313" y="306"/>
                  <a:pt x="2334" y="313"/>
                </a:cubicBezTo>
                <a:cubicBezTo>
                  <a:pt x="2352" y="319"/>
                  <a:pt x="2389" y="332"/>
                  <a:pt x="2389" y="332"/>
                </a:cubicBezTo>
                <a:cubicBezTo>
                  <a:pt x="2398" y="338"/>
                  <a:pt x="2407" y="346"/>
                  <a:pt x="2417" y="351"/>
                </a:cubicBezTo>
                <a:cubicBezTo>
                  <a:pt x="2435" y="359"/>
                  <a:pt x="2473" y="369"/>
                  <a:pt x="2473" y="369"/>
                </a:cubicBezTo>
                <a:cubicBezTo>
                  <a:pt x="2512" y="395"/>
                  <a:pt x="2542" y="420"/>
                  <a:pt x="2585" y="434"/>
                </a:cubicBezTo>
                <a:cubicBezTo>
                  <a:pt x="2603" y="446"/>
                  <a:pt x="2628" y="453"/>
                  <a:pt x="2640" y="471"/>
                </a:cubicBezTo>
                <a:cubicBezTo>
                  <a:pt x="2646" y="480"/>
                  <a:pt x="2650" y="492"/>
                  <a:pt x="2659" y="499"/>
                </a:cubicBezTo>
                <a:cubicBezTo>
                  <a:pt x="2667" y="505"/>
                  <a:pt x="2678" y="506"/>
                  <a:pt x="2687" y="509"/>
                </a:cubicBezTo>
                <a:cubicBezTo>
                  <a:pt x="2693" y="518"/>
                  <a:pt x="2697" y="529"/>
                  <a:pt x="2705" y="536"/>
                </a:cubicBezTo>
                <a:cubicBezTo>
                  <a:pt x="2722" y="551"/>
                  <a:pt x="2761" y="574"/>
                  <a:pt x="2761" y="574"/>
                </a:cubicBezTo>
                <a:cubicBezTo>
                  <a:pt x="2819" y="657"/>
                  <a:pt x="2739" y="554"/>
                  <a:pt x="2808" y="611"/>
                </a:cubicBezTo>
                <a:cubicBezTo>
                  <a:pt x="2865" y="658"/>
                  <a:pt x="2786" y="626"/>
                  <a:pt x="2854" y="648"/>
                </a:cubicBezTo>
                <a:cubicBezTo>
                  <a:pt x="2884" y="668"/>
                  <a:pt x="2908" y="693"/>
                  <a:pt x="2938" y="713"/>
                </a:cubicBezTo>
                <a:cubicBezTo>
                  <a:pt x="2961" y="748"/>
                  <a:pt x="2948" y="733"/>
                  <a:pt x="2975" y="759"/>
                </a:cubicBezTo>
                <a:cubicBezTo>
                  <a:pt x="2914" y="772"/>
                  <a:pt x="2867" y="804"/>
                  <a:pt x="2808" y="824"/>
                </a:cubicBezTo>
                <a:cubicBezTo>
                  <a:pt x="2724" y="852"/>
                  <a:pt x="2835" y="816"/>
                  <a:pt x="2752" y="843"/>
                </a:cubicBezTo>
                <a:cubicBezTo>
                  <a:pt x="2743" y="846"/>
                  <a:pt x="2724" y="852"/>
                  <a:pt x="2724" y="852"/>
                </a:cubicBezTo>
                <a:cubicBezTo>
                  <a:pt x="2667" y="890"/>
                  <a:pt x="2605" y="906"/>
                  <a:pt x="2538" y="917"/>
                </a:cubicBezTo>
                <a:cubicBezTo>
                  <a:pt x="2498" y="931"/>
                  <a:pt x="2438" y="943"/>
                  <a:pt x="2399" y="964"/>
                </a:cubicBezTo>
                <a:cubicBezTo>
                  <a:pt x="2379" y="975"/>
                  <a:pt x="2365" y="997"/>
                  <a:pt x="2343" y="1001"/>
                </a:cubicBezTo>
                <a:cubicBezTo>
                  <a:pt x="2286" y="1010"/>
                  <a:pt x="2233" y="1022"/>
                  <a:pt x="2176" y="1029"/>
                </a:cubicBezTo>
                <a:cubicBezTo>
                  <a:pt x="2005" y="1112"/>
                  <a:pt x="1821" y="1110"/>
                  <a:pt x="1637" y="1140"/>
                </a:cubicBezTo>
                <a:cubicBezTo>
                  <a:pt x="1594" y="1155"/>
                  <a:pt x="1566" y="1134"/>
                  <a:pt x="1525" y="1131"/>
                </a:cubicBezTo>
                <a:cubicBezTo>
                  <a:pt x="1442" y="1126"/>
                  <a:pt x="1358" y="1125"/>
                  <a:pt x="1275" y="1122"/>
                </a:cubicBezTo>
                <a:cubicBezTo>
                  <a:pt x="1214" y="1137"/>
                  <a:pt x="1143" y="1111"/>
                  <a:pt x="1080" y="1103"/>
                </a:cubicBezTo>
                <a:cubicBezTo>
                  <a:pt x="1061" y="1097"/>
                  <a:pt x="1043" y="1091"/>
                  <a:pt x="1024" y="1085"/>
                </a:cubicBezTo>
                <a:cubicBezTo>
                  <a:pt x="1015" y="1082"/>
                  <a:pt x="989" y="1068"/>
                  <a:pt x="996" y="1075"/>
                </a:cubicBezTo>
                <a:cubicBezTo>
                  <a:pt x="1043" y="1120"/>
                  <a:pt x="1101" y="1119"/>
                  <a:pt x="987" y="1103"/>
                </a:cubicBezTo>
                <a:cubicBezTo>
                  <a:pt x="898" y="1075"/>
                  <a:pt x="1051" y="1122"/>
                  <a:pt x="903" y="1085"/>
                </a:cubicBezTo>
                <a:cubicBezTo>
                  <a:pt x="799" y="1059"/>
                  <a:pt x="813" y="1049"/>
                  <a:pt x="689" y="1038"/>
                </a:cubicBezTo>
                <a:cubicBezTo>
                  <a:pt x="692" y="1029"/>
                  <a:pt x="709" y="1012"/>
                  <a:pt x="699" y="1010"/>
                </a:cubicBezTo>
                <a:cubicBezTo>
                  <a:pt x="680" y="1006"/>
                  <a:pt x="643" y="1029"/>
                  <a:pt x="643" y="1029"/>
                </a:cubicBezTo>
                <a:cubicBezTo>
                  <a:pt x="521" y="990"/>
                  <a:pt x="397" y="944"/>
                  <a:pt x="271" y="917"/>
                </a:cubicBezTo>
                <a:cubicBezTo>
                  <a:pt x="227" y="889"/>
                  <a:pt x="205" y="888"/>
                  <a:pt x="150" y="880"/>
                </a:cubicBezTo>
                <a:cubicBezTo>
                  <a:pt x="141" y="877"/>
                  <a:pt x="131" y="875"/>
                  <a:pt x="123" y="871"/>
                </a:cubicBezTo>
                <a:cubicBezTo>
                  <a:pt x="113" y="866"/>
                  <a:pt x="105" y="857"/>
                  <a:pt x="95" y="852"/>
                </a:cubicBezTo>
                <a:cubicBezTo>
                  <a:pt x="68" y="840"/>
                  <a:pt x="39" y="834"/>
                  <a:pt x="11" y="824"/>
                </a:cubicBezTo>
                <a:cubicBezTo>
                  <a:pt x="0" y="791"/>
                  <a:pt x="2" y="788"/>
                  <a:pt x="2" y="815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228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Вычисление площадей с помощью интегр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388620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209680" y="23619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914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059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685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4038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038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22860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9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1066680"/>
            <a:ext cx="7010280" cy="3162600"/>
          </a:xfrm>
          <a:custGeom>
            <a:avLst/>
            <a:gdLst/>
            <a:ahLst/>
            <a:rect l="l" t="t" r="r" b="b"/>
            <a:pathLst>
              <a:path w="4416" h="1992">
                <a:moveTo>
                  <a:pt x="0" y="1896"/>
                </a:moveTo>
                <a:cubicBezTo>
                  <a:pt x="280" y="1356"/>
                  <a:pt x="560" y="816"/>
                  <a:pt x="912" y="504"/>
                </a:cubicBezTo>
                <a:cubicBezTo>
                  <a:pt x="1264" y="192"/>
                  <a:pt x="1680" y="0"/>
                  <a:pt x="2112" y="24"/>
                </a:cubicBezTo>
                <a:cubicBezTo>
                  <a:pt x="2544" y="48"/>
                  <a:pt x="3120" y="320"/>
                  <a:pt x="3504" y="648"/>
                </a:cubicBezTo>
                <a:cubicBezTo>
                  <a:pt x="3888" y="976"/>
                  <a:pt x="4264" y="1768"/>
                  <a:pt x="4416" y="1992"/>
                </a:cubicBezTo>
              </a:path>
            </a:pathLst>
          </a:custGeom>
          <a:noFill/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934320" y="1447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g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28600" y="5410080"/>
                <a:ext cx="167652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2209680" y="2209680"/>
            <a:ext cx="4724640" cy="1676520"/>
          </a:xfrm>
          <a:custGeom>
            <a:avLst/>
            <a:gdLst/>
            <a:ahLst/>
            <a:rect l="l" t="t" r="r" b="b"/>
            <a:pathLst>
              <a:path w="2976" h="1056">
                <a:moveTo>
                  <a:pt x="2976" y="0"/>
                </a:moveTo>
                <a:lnTo>
                  <a:pt x="2976" y="1056"/>
                </a:lnTo>
                <a:lnTo>
                  <a:pt x="0" y="1056"/>
                </a:lnTo>
                <a:lnTo>
                  <a:pt x="0" y="96"/>
                </a:lnTo>
                <a:cubicBezTo>
                  <a:pt x="4" y="86"/>
                  <a:pt x="2" y="72"/>
                  <a:pt x="11" y="67"/>
                </a:cubicBezTo>
                <a:cubicBezTo>
                  <a:pt x="49" y="48"/>
                  <a:pt x="45" y="119"/>
                  <a:pt x="48" y="122"/>
                </a:cubicBezTo>
                <a:cubicBezTo>
                  <a:pt x="62" y="136"/>
                  <a:pt x="85" y="135"/>
                  <a:pt x="104" y="141"/>
                </a:cubicBezTo>
                <a:cubicBezTo>
                  <a:pt x="153" y="157"/>
                  <a:pt x="203" y="170"/>
                  <a:pt x="252" y="187"/>
                </a:cubicBezTo>
                <a:cubicBezTo>
                  <a:pt x="336" y="215"/>
                  <a:pt x="225" y="179"/>
                  <a:pt x="308" y="206"/>
                </a:cubicBezTo>
                <a:cubicBezTo>
                  <a:pt x="317" y="209"/>
                  <a:pt x="336" y="215"/>
                  <a:pt x="336" y="215"/>
                </a:cubicBezTo>
                <a:cubicBezTo>
                  <a:pt x="396" y="256"/>
                  <a:pt x="479" y="262"/>
                  <a:pt x="550" y="271"/>
                </a:cubicBezTo>
                <a:cubicBezTo>
                  <a:pt x="689" y="316"/>
                  <a:pt x="831" y="348"/>
                  <a:pt x="977" y="364"/>
                </a:cubicBezTo>
                <a:cubicBezTo>
                  <a:pt x="1024" y="375"/>
                  <a:pt x="1070" y="379"/>
                  <a:pt x="1116" y="392"/>
                </a:cubicBezTo>
                <a:cubicBezTo>
                  <a:pt x="1128" y="396"/>
                  <a:pt x="1142" y="397"/>
                  <a:pt x="1154" y="401"/>
                </a:cubicBezTo>
                <a:cubicBezTo>
                  <a:pt x="1173" y="407"/>
                  <a:pt x="1209" y="420"/>
                  <a:pt x="1209" y="420"/>
                </a:cubicBezTo>
                <a:cubicBezTo>
                  <a:pt x="1389" y="417"/>
                  <a:pt x="1569" y="419"/>
                  <a:pt x="1748" y="410"/>
                </a:cubicBezTo>
                <a:cubicBezTo>
                  <a:pt x="1759" y="409"/>
                  <a:pt x="1765" y="395"/>
                  <a:pt x="1776" y="392"/>
                </a:cubicBezTo>
                <a:cubicBezTo>
                  <a:pt x="1815" y="380"/>
                  <a:pt x="1955" y="374"/>
                  <a:pt x="1971" y="373"/>
                </a:cubicBezTo>
                <a:cubicBezTo>
                  <a:pt x="2062" y="344"/>
                  <a:pt x="2155" y="312"/>
                  <a:pt x="2250" y="299"/>
                </a:cubicBezTo>
                <a:cubicBezTo>
                  <a:pt x="2293" y="270"/>
                  <a:pt x="2348" y="269"/>
                  <a:pt x="2398" y="252"/>
                </a:cubicBezTo>
                <a:cubicBezTo>
                  <a:pt x="2417" y="246"/>
                  <a:pt x="2435" y="240"/>
                  <a:pt x="2454" y="234"/>
                </a:cubicBezTo>
                <a:cubicBezTo>
                  <a:pt x="2463" y="231"/>
                  <a:pt x="2482" y="225"/>
                  <a:pt x="2482" y="225"/>
                </a:cubicBezTo>
                <a:cubicBezTo>
                  <a:pt x="2559" y="173"/>
                  <a:pt x="2601" y="170"/>
                  <a:pt x="2696" y="159"/>
                </a:cubicBezTo>
                <a:cubicBezTo>
                  <a:pt x="2696" y="159"/>
                  <a:pt x="2625" y="172"/>
                  <a:pt x="2640" y="187"/>
                </a:cubicBezTo>
                <a:cubicBezTo>
                  <a:pt x="2643" y="190"/>
                  <a:pt x="2699" y="171"/>
                  <a:pt x="2705" y="169"/>
                </a:cubicBezTo>
                <a:cubicBezTo>
                  <a:pt x="2735" y="125"/>
                  <a:pt x="2714" y="144"/>
                  <a:pt x="2779" y="122"/>
                </a:cubicBezTo>
                <a:cubicBezTo>
                  <a:pt x="2788" y="119"/>
                  <a:pt x="2807" y="113"/>
                  <a:pt x="2807" y="113"/>
                </a:cubicBezTo>
                <a:cubicBezTo>
                  <a:pt x="2904" y="47"/>
                  <a:pt x="2758" y="141"/>
                  <a:pt x="2872" y="85"/>
                </a:cubicBezTo>
                <a:cubicBezTo>
                  <a:pt x="2892" y="75"/>
                  <a:pt x="2907" y="55"/>
                  <a:pt x="2928" y="48"/>
                </a:cubicBezTo>
                <a:cubicBezTo>
                  <a:pt x="2937" y="45"/>
                  <a:pt x="2949" y="46"/>
                  <a:pt x="2956" y="39"/>
                </a:cubicBezTo>
                <a:cubicBezTo>
                  <a:pt x="2966" y="29"/>
                  <a:pt x="2969" y="13"/>
                  <a:pt x="2976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676520"/>
            <a:ext cx="7238880" cy="1282680"/>
          </a:xfrm>
          <a:custGeom>
            <a:avLst/>
            <a:gdLst/>
            <a:ahLst/>
            <a:rect l="l" t="t" r="r" b="b"/>
            <a:pathLst>
              <a:path w="4560" h="808">
                <a:moveTo>
                  <a:pt x="0" y="0"/>
                </a:moveTo>
                <a:cubicBezTo>
                  <a:pt x="400" y="228"/>
                  <a:pt x="800" y="456"/>
                  <a:pt x="1248" y="576"/>
                </a:cubicBezTo>
                <a:cubicBezTo>
                  <a:pt x="1696" y="696"/>
                  <a:pt x="2136" y="808"/>
                  <a:pt x="2688" y="720"/>
                </a:cubicBezTo>
                <a:cubicBezTo>
                  <a:pt x="3240" y="632"/>
                  <a:pt x="4240" y="160"/>
                  <a:pt x="4560" y="48"/>
                </a:cubicBezTo>
              </a:path>
            </a:pathLst>
          </a:custGeom>
          <a:noFill/>
          <a:ln w="7632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438280" y="5334120"/>
                <a:ext cx="1143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а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2057400" y="5715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339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419720" y="5257800"/>
                <a:ext cx="320040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а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7696080" y="8380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</a:rPr>
              <a:t>y = f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</a:rPr>
              <a:t>y = g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lastslide"/>
          </p:cNvPr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6999" y="10800"/>
                </a:moveTo>
                <a:lnTo>
                  <a:pt x="6494" y="17806"/>
                </a:lnTo>
                <a:lnTo>
                  <a:pt x="6494" y="3794"/>
                </a:lnTo>
                <a:close/>
              </a:path>
              <a:path fill="darken" w="27000" h="21600">
                <a:moveTo>
                  <a:pt x="18844" y="3794"/>
                </a:moveTo>
                <a:lnTo>
                  <a:pt x="18844" y="17806"/>
                </a:lnTo>
                <a:lnTo>
                  <a:pt x="20506" y="17806"/>
                </a:lnTo>
                <a:lnTo>
                  <a:pt x="205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5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"/>
                            </p:stCondLst>
                            <p:childTnLst>
                              <p:par>
                                <p:cTn id="6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5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2286000" y="304920"/>
            <a:ext cx="4648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ffccff"/>
                </a:solidFill>
                <a:latin typeface="Arial"/>
              </a:rPr>
              <a:t>Решение задач.</a:t>
            </a:r>
            <a:endParaRPr b="1" i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ffccff"/>
              </a:solidFill>
              <a:latin typeface="Arial"/>
              <a:ea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1752480"/>
            <a:ext cx="5410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Monotype Corsiva"/>
              </a:rPr>
              <a:t>№ </a:t>
            </a:r>
            <a:r>
              <a:rPr b="1" lang="en-US" sz="4800" spc="-1" strike="noStrike">
                <a:solidFill>
                  <a:srgbClr val="00ffff"/>
                </a:solidFill>
                <a:latin typeface="Monotype Corsiva"/>
              </a:rPr>
              <a:t>1013 (а, б, в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Monotype Corsiva"/>
              </a:rPr>
              <a:t>№ </a:t>
            </a:r>
            <a:r>
              <a:rPr b="1" lang="en-US" sz="4800" spc="-1" strike="noStrike">
                <a:solidFill>
                  <a:srgbClr val="00ffff"/>
                </a:solidFill>
                <a:latin typeface="Monotype Corsiva"/>
              </a:rPr>
              <a:t>1014 (1,3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057400" y="685800"/>
            <a:ext cx="5105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ffccff"/>
                </a:solidFill>
                <a:latin typeface="Arial"/>
              </a:rPr>
              <a:t>Домашнее задание:</a:t>
            </a:r>
            <a:endParaRPr b="1" i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ffccff"/>
              </a:solidFill>
              <a:latin typeface="Arial"/>
              <a:ea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839880" y="1828800"/>
            <a:ext cx="1015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Monotype Corsiva"/>
              </a:rPr>
              <a:t>§ 58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Monotype Corsiva"/>
              </a:rPr>
              <a:t>№ </a:t>
            </a:r>
            <a:r>
              <a:rPr b="1" lang="en-US" sz="4400" spc="-1" strike="noStrike">
                <a:solidFill>
                  <a:srgbClr val="00ffff"/>
                </a:solidFill>
                <a:latin typeface="Monotype Corsiva"/>
              </a:rPr>
              <a:t>1014(2; 4), 1034 (1; 3; 6), 1035(1; 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4038480" y="28195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657600"/>
            <a:ext cx="3733920" cy="1873080"/>
          </a:xfrm>
          <a:custGeom>
            <a:avLst/>
            <a:gdLst/>
            <a:ahLst/>
            <a:rect l="l" t="t" r="r" b="b"/>
            <a:pathLst>
              <a:path w="2352" h="1180">
                <a:moveTo>
                  <a:pt x="2352" y="364"/>
                </a:moveTo>
                <a:lnTo>
                  <a:pt x="2352" y="1180"/>
                </a:lnTo>
                <a:lnTo>
                  <a:pt x="0" y="1180"/>
                </a:lnTo>
                <a:lnTo>
                  <a:pt x="0" y="28"/>
                </a:lnTo>
                <a:cubicBezTo>
                  <a:pt x="63" y="0"/>
                  <a:pt x="101" y="19"/>
                  <a:pt x="173" y="26"/>
                </a:cubicBezTo>
                <a:cubicBezTo>
                  <a:pt x="186" y="29"/>
                  <a:pt x="198" y="32"/>
                  <a:pt x="211" y="36"/>
                </a:cubicBezTo>
                <a:cubicBezTo>
                  <a:pt x="229" y="42"/>
                  <a:pt x="266" y="54"/>
                  <a:pt x="266" y="54"/>
                </a:cubicBezTo>
                <a:cubicBezTo>
                  <a:pt x="312" y="85"/>
                  <a:pt x="280" y="67"/>
                  <a:pt x="350" y="91"/>
                </a:cubicBezTo>
                <a:cubicBezTo>
                  <a:pt x="369" y="97"/>
                  <a:pt x="406" y="110"/>
                  <a:pt x="406" y="110"/>
                </a:cubicBezTo>
                <a:cubicBezTo>
                  <a:pt x="431" y="127"/>
                  <a:pt x="462" y="145"/>
                  <a:pt x="489" y="157"/>
                </a:cubicBezTo>
                <a:cubicBezTo>
                  <a:pt x="507" y="165"/>
                  <a:pt x="545" y="175"/>
                  <a:pt x="545" y="175"/>
                </a:cubicBezTo>
                <a:cubicBezTo>
                  <a:pt x="582" y="230"/>
                  <a:pt x="648" y="228"/>
                  <a:pt x="703" y="259"/>
                </a:cubicBezTo>
                <a:cubicBezTo>
                  <a:pt x="751" y="286"/>
                  <a:pt x="789" y="325"/>
                  <a:pt x="842" y="342"/>
                </a:cubicBezTo>
                <a:cubicBezTo>
                  <a:pt x="864" y="375"/>
                  <a:pt x="870" y="391"/>
                  <a:pt x="917" y="407"/>
                </a:cubicBezTo>
                <a:cubicBezTo>
                  <a:pt x="935" y="413"/>
                  <a:pt x="954" y="420"/>
                  <a:pt x="972" y="426"/>
                </a:cubicBezTo>
                <a:cubicBezTo>
                  <a:pt x="981" y="429"/>
                  <a:pt x="1000" y="435"/>
                  <a:pt x="1000" y="435"/>
                </a:cubicBezTo>
                <a:cubicBezTo>
                  <a:pt x="1035" y="459"/>
                  <a:pt x="1076" y="462"/>
                  <a:pt x="1112" y="482"/>
                </a:cubicBezTo>
                <a:cubicBezTo>
                  <a:pt x="1203" y="533"/>
                  <a:pt x="1134" y="508"/>
                  <a:pt x="1195" y="528"/>
                </a:cubicBezTo>
                <a:cubicBezTo>
                  <a:pt x="1236" y="588"/>
                  <a:pt x="1312" y="595"/>
                  <a:pt x="1381" y="602"/>
                </a:cubicBezTo>
                <a:cubicBezTo>
                  <a:pt x="1446" y="624"/>
                  <a:pt x="1418" y="615"/>
                  <a:pt x="1465" y="630"/>
                </a:cubicBezTo>
                <a:cubicBezTo>
                  <a:pt x="1484" y="636"/>
                  <a:pt x="1502" y="643"/>
                  <a:pt x="1521" y="649"/>
                </a:cubicBezTo>
                <a:cubicBezTo>
                  <a:pt x="1530" y="652"/>
                  <a:pt x="1548" y="658"/>
                  <a:pt x="1548" y="658"/>
                </a:cubicBezTo>
                <a:cubicBezTo>
                  <a:pt x="1633" y="649"/>
                  <a:pt x="1702" y="637"/>
                  <a:pt x="1790" y="630"/>
                </a:cubicBezTo>
                <a:cubicBezTo>
                  <a:pt x="1809" y="624"/>
                  <a:pt x="1827" y="617"/>
                  <a:pt x="1846" y="612"/>
                </a:cubicBezTo>
                <a:cubicBezTo>
                  <a:pt x="1858" y="609"/>
                  <a:pt x="1871" y="606"/>
                  <a:pt x="1883" y="602"/>
                </a:cubicBezTo>
                <a:cubicBezTo>
                  <a:pt x="1902" y="596"/>
                  <a:pt x="1939" y="584"/>
                  <a:pt x="1939" y="584"/>
                </a:cubicBezTo>
                <a:cubicBezTo>
                  <a:pt x="1973" y="560"/>
                  <a:pt x="2011" y="551"/>
                  <a:pt x="2050" y="537"/>
                </a:cubicBezTo>
                <a:cubicBezTo>
                  <a:pt x="2086" y="502"/>
                  <a:pt x="2124" y="493"/>
                  <a:pt x="2171" y="482"/>
                </a:cubicBezTo>
                <a:cubicBezTo>
                  <a:pt x="2238" y="438"/>
                  <a:pt x="2205" y="451"/>
                  <a:pt x="2264" y="435"/>
                </a:cubicBezTo>
                <a:cubicBezTo>
                  <a:pt x="2290" y="417"/>
                  <a:pt x="2341" y="398"/>
                  <a:pt x="2352" y="364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828800" y="228600"/>
            <a:ext cx="5105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ffccff"/>
                </a:solidFill>
                <a:latin typeface="Arial"/>
              </a:rPr>
              <a:t>Итог урока.</a:t>
            </a:r>
            <a:endParaRPr b="1" i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ffccff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1447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Monotype Corsiva"/>
              </a:rPr>
              <a:t>1. Как вычисляется площадь криволинейной трапец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52480" y="55627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3657600"/>
            <a:ext cx="5486400" cy="1079640"/>
          </a:xfrm>
          <a:custGeom>
            <a:avLst/>
            <a:gdLst/>
            <a:ahLst/>
            <a:rect l="l" t="t" r="r" b="b"/>
            <a:pathLst>
              <a:path w="3456" h="680">
                <a:moveTo>
                  <a:pt x="0" y="576"/>
                </a:moveTo>
                <a:cubicBezTo>
                  <a:pt x="156" y="304"/>
                  <a:pt x="312" y="32"/>
                  <a:pt x="672" y="48"/>
                </a:cubicBezTo>
                <a:cubicBezTo>
                  <a:pt x="1032" y="64"/>
                  <a:pt x="1696" y="680"/>
                  <a:pt x="2160" y="672"/>
                </a:cubicBezTo>
                <a:cubicBezTo>
                  <a:pt x="2624" y="664"/>
                  <a:pt x="3240" y="112"/>
                  <a:pt x="3456" y="0"/>
                </a:cubicBezTo>
              </a:path>
            </a:pathLst>
          </a:custGeom>
          <a:noFill/>
          <a:ln w="76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52680" y="3733920"/>
            <a:ext cx="0" cy="1828800"/>
          </a:xfrm>
          <a:prstGeom prst="line">
            <a:avLst/>
          </a:prstGeom>
          <a:ln w="9360">
            <a:solidFill>
              <a:srgbClr val="ff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86600" y="4267080"/>
            <a:ext cx="0" cy="1295640"/>
          </a:xfrm>
          <a:prstGeom prst="line">
            <a:avLst/>
          </a:prstGeom>
          <a:ln w="9360">
            <a:solidFill>
              <a:srgbClr val="ff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4120" y="4114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ff"/>
                </a:solidFill>
                <a:latin typeface="Times New Roman"/>
              </a:rPr>
              <a:t>y= f 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300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40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4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500"/>
                            </p:stCondLst>
                            <p:childTnLst>
                              <p:par>
                                <p:cTn id="7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000"/>
                            </p:stCondLst>
                            <p:childTnLst>
                              <p:par>
                                <p:cTn id="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650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66680" y="2438280"/>
            <a:ext cx="689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Monotype Corsiva"/>
              </a:rPr>
              <a:t>2. Как вычисляется площадь  фигуры ограниченной графиками различных функци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828800" y="228600"/>
            <a:ext cx="5105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ffccff"/>
                </a:solidFill>
                <a:latin typeface="Arial"/>
              </a:rPr>
              <a:t>Итог урока.</a:t>
            </a:r>
            <a:endParaRPr b="1" i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ffccff"/>
              </a:solidFill>
              <a:latin typeface="Arial"/>
              <a:ea typeface="Arial"/>
            </a:endParaRPr>
          </a:p>
        </p:txBody>
      </p:sp>
      <p:sp>
        <p:nvSpPr>
          <p:cNvPr id="213" name="">
            <a:hlinkClick r:id="rId2" action="ppaction://hlinksldjump"/>
          </p:cNvPr>
          <p:cNvSpPr/>
          <p:nvPr/>
        </p:nvSpPr>
        <p:spPr>
          <a:xfrm>
            <a:off x="1523880" y="5334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 rot="21081600">
            <a:off x="1218960" y="1294920"/>
            <a:ext cx="670536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урок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248520" y="4724280"/>
            <a:ext cx="259056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295280" y="914400"/>
            <a:ext cx="655344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ccff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latin typeface="Monotype Corsiva"/>
              </a:rPr>
              <a:t>Урок подготовила </a:t>
            </a:r>
            <a:endParaRPr b="1" lang="en-US" sz="1800" spc="1" strike="noStrike">
              <a:ln w="28440">
                <a:solidFill>
                  <a:srgbClr val="ffccff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ccff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latin typeface="Monotype Corsiva"/>
              </a:rPr>
              <a:t>и </a:t>
            </a:r>
            <a:endParaRPr b="1" lang="en-US" sz="1800" spc="1" strike="noStrike">
              <a:ln w="28440">
                <a:solidFill>
                  <a:srgbClr val="ffccff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ccff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latin typeface="Monotype Corsiva"/>
              </a:rPr>
              <a:t>провела:</a:t>
            </a:r>
            <a:endParaRPr b="1" lang="en-US" sz="1800" spc="1" strike="noStrike">
              <a:ln w="28440">
                <a:solidFill>
                  <a:srgbClr val="ffccff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latin typeface="Monotype Corsiva"/>
              <a:ea typeface="Monotype Corsiv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981080" y="4267080"/>
            <a:ext cx="55627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Морозова И. А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33520" y="838080"/>
            <a:ext cx="7543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Вычисление площадей</a:t>
            </a:r>
            <a:endParaRPr b="1" lang="en-US" sz="1800" spc="1" strike="noStrike">
              <a:ln w="12600">
                <a:solidFill>
                  <a:srgbClr val="660066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7400" y="2971800"/>
            <a:ext cx="4876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с помощью</a:t>
            </a:r>
            <a:endParaRPr b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828800" y="4572000"/>
            <a:ext cx="5791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интегралов.</a:t>
            </a:r>
            <a:endParaRPr b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286000" y="380880"/>
            <a:ext cx="3962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Цели урока:</a:t>
            </a:r>
            <a:endParaRPr b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447920"/>
            <a:ext cx="84582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Monotype Corsiva"/>
              </a:rPr>
              <a:t>Обобщить и систематизировать знания по теме      «Первообразная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Monotype Corsiva"/>
              </a:rPr>
              <a:t>Проведение тестирования с целью проверки знаний учащихся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Monotype Corsiva"/>
              </a:rPr>
              <a:t>Изучить формулы нахождения площадей различных фигу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Monotype Corsiva"/>
              </a:rPr>
              <a:t>Отработка навыка нахождения площадей фигур, ограниченных графиками различных фун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1676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00200" y="304920"/>
            <a:ext cx="5181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Устная работа: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91440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Monotype Corsiva"/>
              </a:rPr>
              <a:t>Найти производную функции</a:t>
            </a:r>
            <a:r>
              <a:rPr b="0" lang="en-US" sz="3200" spc="-1" strike="noStrike">
                <a:solidFill>
                  <a:srgbClr val="00ff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362320" y="2590920"/>
                <a:ext cx="5331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057400" y="3429000"/>
                <a:ext cx="990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019920" y="4267080"/>
                <a:ext cx="3571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057400" y="5715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 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1752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943600" y="2590920"/>
                <a:ext cx="6858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0492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486400" y="3429000"/>
                <a:ext cx="12952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2057400" y="457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l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85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57913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cos 2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81080" y="30492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Monotype Corsiva"/>
              </a:rPr>
              <a:t>Найти первообразную функции</a:t>
            </a:r>
            <a:r>
              <a:rPr b="0" lang="ru-RU" sz="3200" spc="-1" strike="noStrike">
                <a:solidFill>
                  <a:srgbClr val="00ff00"/>
                </a:solidFill>
                <a:latin typeface="Monotype Corsiva"/>
              </a:rPr>
              <a:t>:</a:t>
            </a:r>
            <a:r>
              <a:rPr b="0" lang="en-US" sz="3200" spc="-1" strike="noStrike">
                <a:solidFill>
                  <a:srgbClr val="00ff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676520" y="2362320"/>
                <a:ext cx="6858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0" y="3328920"/>
            <a:ext cx="9144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724280" y="2362320"/>
                <a:ext cx="4827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676520" y="1143000"/>
                <a:ext cx="552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724280" y="1066680"/>
                <a:ext cx="4780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676520" y="3200400"/>
                <a:ext cx="4762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4648320" y="3657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5257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 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572000" y="5029200"/>
                <a:ext cx="13716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895480" y="22860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С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9907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каком рисунке изображена фигура, не являющаяся криволинейной трапеци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09680" y="1752480"/>
            <a:ext cx="4267440" cy="971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9480" y="3733920"/>
            <a:ext cx="85345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С помощью формулы Ньютона-Лейбница вычисля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А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Первообразную фун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Б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Площадь криволинейной трапе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Интегра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Г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Производну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2819520"/>
            <a:ext cx="914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27432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А                    Б              В             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2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500"/>
                            </p:stCondLst>
                            <p:childTnLst>
                              <p:par>
                                <p:cTn id="2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5335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Найдите площадь заштрихованной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895480" y="1066680"/>
            <a:ext cx="2381400" cy="1468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47920" y="5334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А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Б.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В.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Г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657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Вычислите интегр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124080" y="4038480"/>
                <a:ext cx="16002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t xml:space="preserve">5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1828800" y="28954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А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Б.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В.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Г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66680" y="228600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.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Б.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cos 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В.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Г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457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Вычислите интегр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895480" y="990720"/>
                <a:ext cx="13716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a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х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048120" y="2895480"/>
                <a:ext cx="121896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е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х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990720" y="42670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В.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Г.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523880" y="4267080"/>
                <a:ext cx="8384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е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657600" y="4191120"/>
                <a:ext cx="609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е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181480" y="4191120"/>
                <a:ext cx="990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е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391520" y="4191120"/>
                <a:ext cx="7617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е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5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600200" y="1981080"/>
            <a:ext cx="2219400" cy="1220760"/>
          </a:xfrm>
          <a:custGeom>
            <a:avLst/>
            <a:gdLst/>
            <a:ahLst/>
            <a:rect l="l" t="t" r="r" b="b"/>
            <a:pathLst>
              <a:path w="1398" h="769">
                <a:moveTo>
                  <a:pt x="1392" y="1"/>
                </a:moveTo>
                <a:lnTo>
                  <a:pt x="1392" y="769"/>
                </a:lnTo>
                <a:lnTo>
                  <a:pt x="0" y="769"/>
                </a:lnTo>
                <a:lnTo>
                  <a:pt x="0" y="241"/>
                </a:lnTo>
                <a:cubicBezTo>
                  <a:pt x="11" y="240"/>
                  <a:pt x="24" y="233"/>
                  <a:pt x="33" y="239"/>
                </a:cubicBezTo>
                <a:cubicBezTo>
                  <a:pt x="41" y="244"/>
                  <a:pt x="36" y="259"/>
                  <a:pt x="42" y="267"/>
                </a:cubicBezTo>
                <a:cubicBezTo>
                  <a:pt x="49" y="276"/>
                  <a:pt x="60" y="281"/>
                  <a:pt x="70" y="286"/>
                </a:cubicBezTo>
                <a:cubicBezTo>
                  <a:pt x="117" y="307"/>
                  <a:pt x="169" y="316"/>
                  <a:pt x="218" y="332"/>
                </a:cubicBezTo>
                <a:cubicBezTo>
                  <a:pt x="369" y="326"/>
                  <a:pt x="399" y="336"/>
                  <a:pt x="506" y="304"/>
                </a:cubicBezTo>
                <a:cubicBezTo>
                  <a:pt x="534" y="296"/>
                  <a:pt x="562" y="286"/>
                  <a:pt x="590" y="277"/>
                </a:cubicBezTo>
                <a:cubicBezTo>
                  <a:pt x="609" y="271"/>
                  <a:pt x="646" y="258"/>
                  <a:pt x="646" y="258"/>
                </a:cubicBezTo>
                <a:cubicBezTo>
                  <a:pt x="655" y="252"/>
                  <a:pt x="664" y="244"/>
                  <a:pt x="674" y="239"/>
                </a:cubicBezTo>
                <a:cubicBezTo>
                  <a:pt x="692" y="231"/>
                  <a:pt x="729" y="221"/>
                  <a:pt x="729" y="221"/>
                </a:cubicBezTo>
                <a:cubicBezTo>
                  <a:pt x="767" y="196"/>
                  <a:pt x="807" y="186"/>
                  <a:pt x="850" y="174"/>
                </a:cubicBezTo>
                <a:cubicBezTo>
                  <a:pt x="898" y="128"/>
                  <a:pt x="1008" y="85"/>
                  <a:pt x="1073" y="63"/>
                </a:cubicBezTo>
                <a:cubicBezTo>
                  <a:pt x="1101" y="54"/>
                  <a:pt x="1157" y="35"/>
                  <a:pt x="1157" y="35"/>
                </a:cubicBezTo>
                <a:cubicBezTo>
                  <a:pt x="1208" y="0"/>
                  <a:pt x="1185" y="36"/>
                  <a:pt x="1240" y="16"/>
                </a:cubicBezTo>
                <a:cubicBezTo>
                  <a:pt x="1280" y="19"/>
                  <a:pt x="1321" y="21"/>
                  <a:pt x="1361" y="26"/>
                </a:cubicBezTo>
                <a:cubicBezTo>
                  <a:pt x="1371" y="27"/>
                  <a:pt x="1381" y="41"/>
                  <a:pt x="1389" y="35"/>
                </a:cubicBezTo>
                <a:cubicBezTo>
                  <a:pt x="1398" y="28"/>
                  <a:pt x="1391" y="12"/>
                  <a:pt x="1392" y="1"/>
                </a:cubicBez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228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Вычисление площадей с помощью интегр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666880" y="9907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320040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1828800"/>
            <a:ext cx="3657600" cy="711360"/>
          </a:xfrm>
          <a:custGeom>
            <a:avLst/>
            <a:gdLst/>
            <a:ahLst/>
            <a:rect l="l" t="t" r="r" b="b"/>
            <a:pathLst>
              <a:path w="2304" h="448">
                <a:moveTo>
                  <a:pt x="0" y="0"/>
                </a:moveTo>
                <a:cubicBezTo>
                  <a:pt x="176" y="208"/>
                  <a:pt x="352" y="416"/>
                  <a:pt x="624" y="432"/>
                </a:cubicBezTo>
                <a:cubicBezTo>
                  <a:pt x="896" y="448"/>
                  <a:pt x="1352" y="112"/>
                  <a:pt x="1632" y="96"/>
                </a:cubicBezTo>
                <a:cubicBezTo>
                  <a:pt x="1912" y="80"/>
                  <a:pt x="2192" y="296"/>
                  <a:pt x="2304" y="33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3429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3429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6002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09880" y="19807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914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352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1676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657600" y="4419720"/>
                <a:ext cx="228600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6477120" y="121932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y = f 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x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x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500"/>
                            </p:stCondLst>
                            <p:childTnLst>
                              <p:par>
                                <p:cTn id="34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08-01-20T12:14:1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