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25.jpeg" ContentType="image/jpeg"/>
  <Override PartName="/ppt/media/image4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33.png" ContentType="image/pn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20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A5FC-6F8C-4A46-8D0A-BA273A0F5D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хах хлебокомбин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F0E9-E1F7-4621-9CDE-2A111EBC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EA74-F905-4E3D-83A5-AAD13F62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072A-7139-49AB-84D9-9C22BB61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079B-AF96-4C01-BB2B-752E30F8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8E7-CC5B-4B70-A056-0F7DC5AC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A80E-BE7A-4CDB-8598-AA9A8495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E9D-F0C1-45C3-9528-7793295B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5BAD-B393-4045-A01C-21498460F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8209-2790-45E0-AA5C-F00734C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F75-512F-451B-9A82-53366AAA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214-08C3-40FD-A3C4-2FE500C5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FE12-5B8D-4936-ACCE-D826021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449-797B-449E-89BC-4AFED716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908000" y="549360"/>
            <a:ext cx="1513080" cy="1154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77080" y="620640"/>
            <a:ext cx="1368360" cy="12621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84360" y="3500280"/>
            <a:ext cx="2592360" cy="1760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1403280" y="1844640"/>
            <a:ext cx="64566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ищевая промышленнос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краин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6516720" y="3068640"/>
            <a:ext cx="1976400" cy="2187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4932360" y="4005360"/>
            <a:ext cx="971640" cy="129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11640" y="53002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ария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географии СОШ № 34 г. Енаки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нецкая область Укра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276720" y="3716280"/>
            <a:ext cx="2038320" cy="2546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1782720" cy="2157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635280" y="1773360"/>
            <a:ext cx="2187720" cy="2187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6372360" y="1773360"/>
            <a:ext cx="1871640" cy="178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5796000" y="4292640"/>
            <a:ext cx="2663640" cy="20476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Продукция консервной промышлен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Мясная проду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508720" y="1125360"/>
            <a:ext cx="302868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19640" y="3141720"/>
            <a:ext cx="2987640" cy="2187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11280" y="4292640"/>
            <a:ext cx="30956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6300720" y="414972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468360" y="1197000"/>
            <a:ext cx="3960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Мясокомби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529080" cy="2521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4788000" y="1282680"/>
            <a:ext cx="3336840" cy="2503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755640" y="4365720"/>
            <a:ext cx="2448000" cy="1815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284720" y="4076640"/>
            <a:ext cx="309564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Молочная продук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2328840" cy="2328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020000" y="1197000"/>
            <a:ext cx="1639800" cy="2185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003640" y="2060640"/>
            <a:ext cx="2006640" cy="200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5435640" y="4653000"/>
            <a:ext cx="3048120" cy="1584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1547640" y="4149720"/>
            <a:ext cx="3313440" cy="2244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2843280" y="1268280"/>
            <a:ext cx="202572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Пищевая промышленност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лекс отраслей промышленности, специализирующихся на производстве продовольственных това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92280"/>
            <a:ext cx="6337440" cy="1042920"/>
          </a:xfrm>
          <a:prstGeom prst="bevel">
            <a:avLst>
              <a:gd name="adj" fmla="val 12500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агоприятные условия для развития отра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2421000"/>
            <a:ext cx="3744720" cy="1295280"/>
          </a:xfrm>
          <a:prstGeom prst="bevel">
            <a:avLst>
              <a:gd name="adj" fmla="val 12500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ичие разнообраз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ырья, предоставляем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льским хозяй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437000"/>
            <a:ext cx="3743280" cy="1224000"/>
          </a:xfrm>
          <a:prstGeom prst="bevel">
            <a:avLst>
              <a:gd name="adj" fmla="val 12500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ой потребитель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ынок продовольств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4437000"/>
            <a:ext cx="3743280" cy="1224000"/>
          </a:xfrm>
          <a:prstGeom prst="bevel">
            <a:avLst>
              <a:gd name="adj" fmla="val 12500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риально- техническ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беспеченность отра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59280" y="2421000"/>
            <a:ext cx="3816360" cy="1224000"/>
          </a:xfrm>
          <a:prstGeom prst="bevel">
            <a:avLst>
              <a:gd name="adj" fmla="val 12500"/>
            </a:avLst>
          </a:prstGeom>
          <a:solidFill>
            <a:srgbClr val="ff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личие квалифициров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удовых кад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инципы размещения предпри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716040"/>
          <a:ext cx="8229600" cy="59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ас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ы раз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ципы раз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степ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комольно-крупя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состепь и степ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опекар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семе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дитерс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стянец, Львов, Донецк, Киев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семест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ие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ительский и сырь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ерв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ь, Кр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- жиров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ь, юг лесосте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ырьев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27280" y="40428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Хлебобулочная                             продукц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 rot="20808000">
            <a:off x="610920" y="2707920"/>
            <a:ext cx="2136600" cy="1415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332000" y="4221000"/>
            <a:ext cx="3281400" cy="2187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24360" y="4221000"/>
            <a:ext cx="2714760" cy="2187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364000" y="1700280"/>
            <a:ext cx="3245040" cy="2440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68360" y="692280"/>
            <a:ext cx="2303280" cy="163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3132000" y="2060640"/>
            <a:ext cx="19209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3" descr="тестоделитель (шарики)"/>
          <p:cNvPicPr/>
          <p:nvPr/>
        </p:nvPicPr>
        <p:blipFill>
          <a:blip r:embed="rId2"/>
          <a:stretch/>
        </p:blipFill>
        <p:spPr>
          <a:xfrm>
            <a:off x="539640" y="981000"/>
            <a:ext cx="6264360" cy="41036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укладка теста (колбаски)"/>
          <p:cNvPicPr/>
          <p:nvPr/>
        </p:nvPicPr>
        <p:blipFill>
          <a:blip r:embed="rId3"/>
          <a:stretch/>
        </p:blipFill>
        <p:spPr>
          <a:xfrm>
            <a:off x="5292720" y="3284640"/>
            <a:ext cx="3382920" cy="2982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755640" y="1052640"/>
            <a:ext cx="4392720" cy="3860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20360" y="404640"/>
            <a:ext cx="58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В цехах хлебокомбин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4" descr="конвейер лента белый хлеб"/>
          <p:cNvPicPr/>
          <p:nvPr/>
        </p:nvPicPr>
        <p:blipFill>
          <a:blip r:embed="rId5"/>
          <a:stretch/>
        </p:blipFill>
        <p:spPr>
          <a:xfrm>
            <a:off x="4859280" y="3141720"/>
            <a:ext cx="3816360" cy="3311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755640" y="1052640"/>
            <a:ext cx="79200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одукция мукомольно-крупян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419640" y="1484280"/>
            <a:ext cx="2403360" cy="266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4360" y="1052640"/>
            <a:ext cx="167616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651640" y="3422520"/>
            <a:ext cx="3025800" cy="29242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 rot="20875800">
            <a:off x="1186920" y="3213000"/>
            <a:ext cx="241308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одукция масло- жиров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59280" y="4076640"/>
            <a:ext cx="6876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580000" y="4076640"/>
            <a:ext cx="1022400" cy="2187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692360" y="4437000"/>
            <a:ext cx="2286000" cy="1743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6227640" y="1268280"/>
            <a:ext cx="2448000" cy="2089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900000" y="1484280"/>
            <a:ext cx="3479760" cy="2900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6659640" y="3068640"/>
            <a:ext cx="16207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одукция кондитерской промышл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175716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16360" y="1341360"/>
            <a:ext cx="2178000" cy="266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915080" y="393876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627280" y="4221000"/>
            <a:ext cx="2089080" cy="193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6084720" y="1484280"/>
            <a:ext cx="2213280" cy="177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26920" y="3284640"/>
            <a:ext cx="1729080" cy="1228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55640" y="5157720"/>
            <a:ext cx="1333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3T21:41:53Z</dcterms:created>
  <dc:creator>Рома</dc:creator>
  <dc:description/>
  <dc:language>en-US</dc:language>
  <cp:lastModifiedBy>Рома</cp:lastModifiedBy>
  <dcterms:modified xsi:type="dcterms:W3CDTF">2010-02-03T18:09:09Z</dcterms:modified>
  <cp:revision>11</cp:revision>
  <dc:subject/>
  <dc:title>Слайд 1</dc:title>
</cp:coreProperties>
</file>