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4.jpeg" ContentType="image/jpeg"/>
  <Override PartName="/ppt/media/image21.jpeg" ContentType="image/jpeg"/>
  <Override PartName="/ppt/media/image6.gif" ContentType="image/gif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6.gif" ContentType="image/gif"/>
  <Override PartName="/ppt/media/image15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5.jpeg" ContentType="image/jpeg"/>
  <Override PartName="/ppt/media/image2.png" ContentType="image/png"/>
  <Override PartName="/ppt/media/image3.gif" ContentType="image/gif"/>
  <Override PartName="/ppt/media/image33.jpeg" ContentType="image/jpeg"/>
  <Override PartName="/ppt/media/image36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42.gif" ContentType="image/gif"/>
  <Override PartName="/ppt/media/image35.png" ContentType="image/png"/>
  <Override PartName="/ppt/media/image26.jpeg" ContentType="image/jpeg"/>
  <Override PartName="/ppt/media/image38.jpeg" ContentType="image/jpeg"/>
  <Override PartName="/ppt/media/image40.jpeg" ContentType="image/jpeg"/>
  <Override PartName="/ppt/media/image17.wmf" ContentType="image/x-wmf"/>
  <Override PartName="/ppt/media/image43.gif" ContentType="image/gif"/>
  <Override PartName="/ppt/media/image44.gif" ContentType="image/gif"/>
  <Override PartName="/ppt/media/image20.jpeg" ContentType="image/jpeg"/>
  <Override PartName="/ppt/media/image46.jpeg" ContentType="image/jpeg"/>
  <Override PartName="/ppt/media/image31.png" ContentType="image/pn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7.wmf" ContentType="image/x-wmf"/>
  <Override PartName="/ppt/media/image30.jpeg" ContentType="image/jpeg"/>
  <Override PartName="/ppt/media/image10.jpeg" ContentType="image/jpeg"/>
  <Override PartName="/ppt/media/image45.gif" ContentType="image/gif"/>
  <Override PartName="/ppt/media/image8.jpeg" ContentType="image/jpeg"/>
  <Override PartName="/ppt/media/image29.jpeg" ContentType="image/jpeg"/>
  <Override PartName="/ppt/media/image9.wmf" ContentType="image/x-wmf"/>
  <Override PartName="/ppt/media/image5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546-C412-489A-97F0-D6FE27EC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2FE-6988-437D-A47F-45CCAC3A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FAA-CCC4-4A41-8C5A-1F8E18F2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F55-5363-43E9-BEE8-E8F3B65E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B298-58E6-42E6-B703-802EAC84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34D1-4893-4473-BEBA-338F64E6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74A0-08FE-4CC3-880E-CCE2381D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C39F-97B0-49C2-8B5F-117687CD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A8F4-522E-4CE2-B69E-5F21875C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8884-E246-41B7-B118-4CE9DCBF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5315-F067-4AD3-BD42-A232F302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1E3-B486-47C7-8671-421BA719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A765-1A66-4DC1-A839-C3223DB2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0E33-AE01-4B69-BA57-68ACA74A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AB08-CD8C-4D7F-9126-2D7782AB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FB44-6D64-4413-AF3A-5EEBE84A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8644-D8C0-46EA-BF3C-6A56F9F4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46BC9-B1CC-4306-80D2-0A3701C9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FF87A-D7CF-49A8-9FC1-A3BC7044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7E2D5-2988-4A6F-80A3-334A741F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5B1286-321C-471E-8364-EDC1ED7A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1880B-D008-40A5-A620-6A60857B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E3F-5729-4C99-905E-C7D1841F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7B5F4-78C0-4864-8303-5E131967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3E3F2-621D-476D-AFB4-5A21E5F8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30B74-C70C-4295-9A61-C05DB3DD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6FB7A-8ED1-4AB8-8355-75D6E6F4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3C0F7-F6C5-4AB1-8D9D-EBFAD5E5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F35AB-2617-4628-AD07-507798EC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EFEDE-A6B2-4C51-9A91-F8021910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EAE-A570-4CDC-91F9-1EA12B5D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DB4-19FD-412E-8CB4-6F97333D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88C-1624-4C4B-86D5-5D74C115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7BA-1C14-414F-9A25-1193DEB8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B24-2D9E-4BA0-9FA9-7B5B2604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A4C-DDC0-48AB-9624-82C5AD17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0161-409B-4464-B9B3-50DF0718EE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5572-E829-452D-A8B1-EA6FD5360F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D4F4-AD44-43E3-B002-1E4165EEF4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7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image" Target="../media/image45.gi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7.wmf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7.wmf"/><Relationship Id="rId4" Type="http://schemas.openxmlformats.org/officeDocument/2006/relationships/image" Target="../media/image17.wmf"/><Relationship Id="rId5" Type="http://schemas.openxmlformats.org/officeDocument/2006/relationships/image" Target="../media/image7.wmf"/><Relationship Id="rId6" Type="http://schemas.openxmlformats.org/officeDocument/2006/relationships/image" Target="../media/image17.wmf"/><Relationship Id="rId7" Type="http://schemas.openxmlformats.org/officeDocument/2006/relationships/image" Target="../media/image18.jpeg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92720" y="836640"/>
            <a:ext cx="609480" cy="485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79640" y="522936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RAVELLING  BY 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630864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th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6491160"/>
            <a:ext cx="1440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56360" y="907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36000" y="2698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41497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29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852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84720" y="148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0.04487 C 0.01632 0.04927 0.00434 0.04279 0.0125 0.05112 C 0.01511 0.05366 0.01823 0.05482 0.02084 0.05737 C 0.029 0.065 0.03577 0.07518 0.04427 0.08258 C 0.05348 0.09068 0.05903 0.09276 0.0691 0.09831 C 0.08386 0.10664 0.09931 0.11797 0.11493 0.12329 C 0.12604 0.1337 0.13438 0.14827 0.14549 0.15938 C 0.14705 0.16747 0.14479 0.17465 0.14792 0.18274 C 0.14861 0.18482 0.15052 0.18575 0.15139 0.1876 C 0.15243 0.18945 0.15295 0.19176 0.15365 0.19385 C 0.15417 0.19523 0.15486 0.19847 0.15486 0.19847 E">
                                      <p:cBhvr>
                                        <p:cTn id="1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487 0.1987 C 0.16007 0.27111 0.16528 0.34351 0.17952 0.39301 C 0.19376 0.44252 0.23108 0.47999 0.2408 0.49641 E">
                                      <p:cBhvr>
                                        <p:cTn id="2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8 0.49641 C 0.21216 0.50289 0.18212 0.50404 0.15382 0.51353 C 0.14601 0.5163 0.13507 0.51815 0.12778 0.52301 C 0.1257 0.5244 0.12413 0.52694 0.12205 0.52764 C 0.10764 0.53249 0.08229 0.5318 0.07014 0.53249 C 0.05677 0.53411 0.04341 0.53666 0.03021 0.54036 C 0.01545 0.55308 -0.0033 0.55586 -0.02031 0.56072 C -0.03576 0.5591 -0.05416 0.55725 -0.06736 0.54499 C -0.07083 0.53805 -0.07413 0.53203 -0.07691 0.52463 C -0.07847 0.51029 -0.08316 0.4779 -0.07222 0.47281 C -0.06719 0.45986 -0.06614 0.45038 -0.05573 0.44459 C -0.05486 0.44251 -0.05416 0.44043 -0.0533 0.43835 C -0.05191 0.43511 -0.04861 0.42909 -0.04861 0.42909 C -0.04548 0.41707 -0.04114 0.40527 -0.03455 0.39602 C -0.03559 0.38746 -0.03385 0.38144 -0.03576 0.37404 C -0.03784 0.34813 -0.04028 0.32407 -0.04514 0.29886 C -0.04548 0.29007 -0.04479 0.28105 -0.04618 0.27226 C -0.04722 0.26555 -0.05208 0.25352 -0.05208 0.25352 C -0.05469 0.2334 -0.06284 0.21859 -0.07326 0.20471 C -0.07969 0.19615 -0.08333 0.18806 -0.09097 0.18135 C -0.09566 0.17719 -0.10972 0.17695 -0.11337 0.17649 C -0.12291 0.17904 -0.12864 0.18945 -0.13802 0.19384 C -0.13923 0.20032 -0.14271 0.21373 -0.14514 0.21882 C -0.14739 0.22368 -0.14965 0.22761 -0.15104 0.23293 C -0.15191 0.24149 -0.15225 0.24496 -0.15573 0.2519 C -0.14757 0.25722 -0.15208 0.25514 -0.15208 0.26601 E">
                                      <p:cBhvr>
                                        <p:cTn id="3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208 0.26601 C -0.15694 0.27041 -0.15781 0.27827 -0.16145 0.28475 C -0.16319 0.29192 -0.16631 0.29817 -0.16857 0.30511 C -0.17031 0.31852 -0.1769 0.34189 -0.18263 0.35368 C -0.18419 0.36872 -0.18524 0.38353 -0.18975 0.39764 C -0.19374 0.41059 -0.20208 0.41776 -0.20746 0.4291 C -0.21631 0.44783 -0.22829 0.46564 -0.24149 0.47929 C -0.24374 0.48762 -0.24131 0.48091 -0.24739 0.49016 C -0.25225 0.49757 -0.25173 0.50289 -0.25798 0.5089 C -0.26076 0.52024 -0.27031 0.52209 -0.27794 0.52463 C -0.27881 0.52139 -0.27951 0.51839 -0.28037 0.51515 C -0.28072 0.51353 -0.28159 0.51052 -0.28159 0.51052 C -0.28246 0.49294 -0.28367 0.47559 -0.28732 0.4587 C -0.28801 0.45176 -0.28871 0.44136 -0.29218 0.43534 C -0.29426 0.43187 -0.29912 0.42586 -0.29912 0.42586 C -0.30051 0.41869 -0.30312 0.41151 -0.30624 0.4055 C -0.30971 0.37774 -0.31267 0.34998 -0.31683 0.32246 C -0.31787 0.30742 -0.32013 0.29516 -0.31805 0.28012 C -0.3177 0.27781 -0.31631 0.27596 -0.31562 0.27388 C -0.30971 0.2563 -0.29965 0.24196 -0.29322 0.2253 C -0.29183 0.21535 -0.28819 0.20379 -0.28385 0.19546 C -0.28541 0.18783 -0.28385 0.18459 -0.28263 0.17672 C -0.28471 0.16817 -0.28871 0.16608 -0.29444 0.16099 C -0.2986 0.15729 -0.30103 0.15082 -0.30503 0.14688 C -0.30659 0.14526 -0.30815 0.14365 -0.30971 0.14226 C -0.31475 0.13786 -0.31996 0.1337 -0.32499 0.12953 C -0.33228 0.12352 -0.33697 0.11172 -0.34617 0.10918 C -0.3651 0.10386 -0.38454 0.10155 -0.40381 0.09993 C -0.40659 0.09877 -0.40989 0.09923 -0.41215 0.09669 C -0.41371 0.09484 -0.41336 0.0916 -0.41336 0.08882 C -0.41336 0.06893 -0.41475 0.07356 -0.40746 0.06384 C -0.40503 0.05436 -0.40746 0.04371 -0.4085 0.034 C -0.41024 0.01827 -0.40867 -0.01481 -0.42395 -0.0192 C -0.42812 -0.02314 -0.42968 -0.02406 -0.43333 -0.03031 C -0.43958 -0.04095 -0.44079 -0.05575 -0.44982 -0.06316 C -0.45242 -0.07472 -0.45833 -0.07426 -0.44617 -0.07426 E">
                                      <p:cBhvr>
                                        <p:cTn id="4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229 -0.0458 C -0.44253 -0.04048 -0.40347 -0.03331 -0.36337 -0.03169 C -0.34496 -0.04025 -0.31597 -0.02961 -0.29635 -0.02545 C -0.271 -0.02013 -0.24531 -0.01828 -0.21979 -0.01458 C -0.19705 -0.01134 -0.17448 -0.00509 -0.15156 -0.00208 C -0.13142 0.00393 -0.11406 0.01318 -0.09514 0.02313 C -0.08889 0.02637 -0.08159 0.02984 -0.07517 0.03261 C -0.06354 0.0377 -0.07309 0.03123 -0.06701 0.03562 E">
                                      <p:cBhvr>
                                        <p:cTn id="4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t your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hand luggag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 an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overhead lo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308480" cy="3762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651640" y="450864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6804000" y="4581360"/>
            <a:ext cx="1057320" cy="1019520"/>
          </a:xfrm>
          <a:prstGeom prst="rect">
            <a:avLst/>
          </a:prstGeom>
          <a:ln w="9360">
            <a:solidFill>
              <a:srgbClr val="6666ff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324000" y="4221000"/>
            <a:ext cx="814320" cy="1033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788000" y="2349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put it under the seat in front of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44 0.02012 L -0.60625 -0.32247 E">
                                      <p:cBhvr>
                                        <p:cTn id="39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1157 C -0.01042 -0.00718 -0.00417 -0.01088 -0.01684 0.00555 L -0.01684 0.00578 C -0.02552 0.01087 -0.02101 0.00855 -0.03003 0.01179 C -0.04045 0.02105 -0.05208 0.02706 -0.0651 0.02845 C -0.08038 0.0303 -0.11146 0.03284 -0.11146 0.03331 C -0.1283 0.0303 -0.14531 0.02752 -0.16267 0.02637 C -0.18194 0.02475 -0.22066 0.0222 -0.22066 0.02267 C -0.2408 0.01295 -0.26094 0.01017 -0.28194 0.00555 C -0.29948 0.00138 -0.31667 -0.00764 -0.33472 -0.01157 C -0.34705 -0.02337 -0.36128 -0.03239 -0.37465 -0.04303 C -0.39149 -0.05668 -0.40313 -0.07634 -0.42431 -0.08097 C -0.44097 -0.07935 -0.46736 -0.0849 -0.48385 -0.07033 C -0.48507 -0.06824 -0.48542 -0.06547 -0.48715 -0.06408 C -0.4901 -0.06223 -0.49375 -0.06292 -0.49688 -0.062 C -0.50122 -0.06084 -0.50451 -0.0583 -0.50868 -0.05575 C -0.51215 -0.0428 -0.5184 -0.04396 -0.50694 -0.03678 C -0.50365 -0.03239 -0.50035 -0.02846 -0.49688 -0.02406 C -0.49514 -0.02198 -0.50139 -0.0229 -0.50382 -0.02198 C -0.50556 -0.02129 -0.50694 -0.02059 -0.50868 -0.0199 C -0.51476 -0.01782 -0.51944 -0.01435 -0.52517 -0.01157 C -0.52951 -0.00972 -0.53819 -0.00718 -0.53819 -0.00694 E">
                                      <p:cBhvr>
                                        <p:cTn id="409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4000" y="1890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When the plane takes off ,fasten your seat b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2381400" cy="35672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708360" y="6206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364000" y="54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on’t smok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580000" y="134136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76720" y="2421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on’t use your phone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7093080" y="4581360"/>
            <a:ext cx="16081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441180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262480" y="260280"/>
            <a:ext cx="2967120" cy="2979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372360" y="4653000"/>
            <a:ext cx="1608120" cy="2041560"/>
          </a:xfrm>
          <a:prstGeom prst="rect">
            <a:avLst/>
          </a:prstGeom>
          <a:ln w="0">
            <a:noFill/>
          </a:ln>
        </p:spPr>
      </p:pic>
      <p:sp>
        <p:nvSpPr>
          <p:cNvPr id="236" name="PubOvalCallout"/>
          <p:cNvSpPr/>
          <p:nvPr/>
        </p:nvSpPr>
        <p:spPr>
          <a:xfrm>
            <a:off x="4788000" y="3284640"/>
            <a:ext cx="3413160" cy="2160360"/>
          </a:xfrm>
          <a:custGeom>
            <a:avLst/>
            <a:gdLst>
              <a:gd name="textAreaLeft" fmla="*/ 499680 w 3413160"/>
              <a:gd name="textAreaRight" fmla="*/ 2913480 w 3413160"/>
              <a:gd name="textAreaTop" fmla="*/ 237240 h 2160360"/>
              <a:gd name="textAreaBottom" fmla="*/ 1383840 h 21603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the plane has taken off ,listen to music, watch TV or play computer games and have a nice trip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124000" y="333360"/>
            <a:ext cx="4840200" cy="3243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2728800" cy="19494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535880" y="4816440"/>
            <a:ext cx="1608120" cy="2041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684360" y="4076640"/>
            <a:ext cx="677880" cy="12542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364000" y="386064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366"/>
                </a:solidFill>
                <a:latin typeface="Arial"/>
              </a:rPr>
              <a:t>When your plane lands ,go to the baggage clai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08720" y="5445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and collect your lugg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-0.02568 L -0.51441 -0.0199 E">
                                      <p:cBhvr>
                                        <p:cTn id="522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85 0.07657 C 0.0375 0.08397 0.03993 0.09045 0.04548 0.09531 C 0.04739 0.10525 0.05191 0.10803 0.0585 0.11266 C 0.06128 0.11821 0.06441 0.11937 0.06909 0.12191 C 0.07135 0.12307 0.07621 0.12515 0.07621 0.12538 C 0.08923 0.13718 0.071 0.12098 0.08316 0.12977 C 0.08854 0.13371 0.0927 0.13972 0.09843 0.1425 C 0.10208 0.14921 0.10555 0.15383 0.11145 0.15661 C 0.11458 0.16517 0.11822 0.16655 0.1243 0.17211 C 0.13038 0.17766 0.12691 0.18043 0.13489 0.18321 C 0.14114 0.18946 0.14947 0.19269 0.15503 0.20033 C 0.15625 0.20195 0.15694 0.20449 0.1585 0.20519 C 0.16736 0.20866 0.17656 0.20889 0.18559 0.21143 C 0.19288 0.21768 0.20208 0.21999 0.21024 0.22392 C 0.21684 0.22092 0.21041 0.22277 0.21736 0.22392 C 0.22517 0.22531 0.24079 0.22693 0.24079 0.22716 C 0.24861 0.22901 0.25659 0.23063 0.26441 0.23341 C 0.27517 0.23202 0.29774 0.22693 0.31024 0.22693 E">
                                      <p:cBhvr>
                                        <p:cTn id="52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14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257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085080" cy="4537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1569960" cy="15242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059280" y="4724280"/>
            <a:ext cx="1190520" cy="524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4932360" y="4941720"/>
            <a:ext cx="952560" cy="466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 flipH="1">
            <a:off x="6587640" y="4724280"/>
            <a:ext cx="814680" cy="762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332000" y="1413000"/>
            <a:ext cx="597672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o to the arrival lounge and your friends meet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5940360" y="2205000"/>
            <a:ext cx="984240" cy="12495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rot="1201200">
            <a:off x="1692360" y="3357720"/>
            <a:ext cx="1584360" cy="1225440"/>
          </a:xfrm>
          <a:prstGeom prst="wedgeEllipseCallout">
            <a:avLst>
              <a:gd name="adj1" fmla="val -5611"/>
              <a:gd name="adj2" fmla="val 788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35280" y="3645000"/>
            <a:ext cx="144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can I get to the place of destina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537372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16360" y="551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88000" y="5516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ta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74 0.03863 C 0.13108 0.05482 0.18559 0.07148 0.27205 0.02197 C 0.35868 -0.02753 0.53993 -0.20403 0.59566 -0.25769 C 0.65157 -0.3109 0.62848 -0.30511 0.60591 -0.2991 E">
                                      <p:cBhvr>
                                        <p:cTn id="574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39 -0.03401 L 0.48334 -0.29633 E">
                                      <p:cBhvr>
                                        <p:cTn id="593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28799E-006 C 0.05034 -0.03031 0.10069 -0.06061 0.14114 -0.01574 C 0.18159 0.02914 0.21232 0.27341 0.24236 0.26971 C 0.27239 0.26601 0.2967 0.11403 0.32118 -0.03771 E">
                                      <p:cBhvr>
                                        <p:cTn id="609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7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7297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7093080" y="4581360"/>
            <a:ext cx="1608120" cy="20415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-345960" y="5877000"/>
            <a:ext cx="345960" cy="584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flipH="1">
            <a:off x="4716360" y="3573360"/>
            <a:ext cx="2880000" cy="1656000"/>
          </a:xfrm>
          <a:prstGeom prst="wedgeEllipseCallout">
            <a:avLst>
              <a:gd name="adj1" fmla="val -34291"/>
              <a:gd name="adj2" fmla="val 656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one more tip: before travelling to any country, read information about it in the leaf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0046 L 0.90486 0.00995 E">
                                      <p:cBhvr>
                                        <p:cTn id="642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5157720"/>
            <a:ext cx="2199960" cy="1371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667640" y="508464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4360" y="278136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3141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195b"/>
                </a:solidFill>
                <a:latin typeface="Arial"/>
              </a:rPr>
              <a:t>THE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ubOvalCallout"/>
          <p:cNvSpPr/>
          <p:nvPr/>
        </p:nvSpPr>
        <p:spPr>
          <a:xfrm>
            <a:off x="7093080" y="3500280"/>
            <a:ext cx="1828800" cy="16002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386064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WHAT SHALL I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 flipH="1">
            <a:off x="1547640" y="2276640"/>
            <a:ext cx="1608480" cy="2041200"/>
          </a:xfrm>
          <a:prstGeom prst="rect">
            <a:avLst/>
          </a:prstGeom>
          <a:ln w="0">
            <a:noFill/>
          </a:ln>
        </p:spPr>
      </p:pic>
      <p:sp>
        <p:nvSpPr>
          <p:cNvPr id="146" name="PubOvalCallout"/>
          <p:cNvSpPr/>
          <p:nvPr/>
        </p:nvSpPr>
        <p:spPr>
          <a:xfrm>
            <a:off x="755640" y="1341360"/>
            <a:ext cx="1828800" cy="16002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1628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’LL HELP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02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443640" y="3213000"/>
            <a:ext cx="1608120" cy="2041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258920" y="2637000"/>
            <a:ext cx="865080" cy="761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771640" y="26028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  a ticket at the booking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00000" y="620640"/>
            <a:ext cx="2087640" cy="158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15429 C 0.00278 0.17766 0.00122 0.2001 -0.00034 0.22323 C -0.00295 0.25954 0.00521 0.25122 -0.00711 0.26093 C -0.0085 0.2718 -0.01145 0.28314 -0.00815 0.29378 C -0.01406 0.30396 -0.00868 0.31067 -0.02013 0.31414 C -0.03177 0.32778 -0.046 0.3375 -0.06145 0.34398 C -0.06822 0.34675 -0.07569 0.34583 -0.08281 0.34722 C -0.09114 0.34375 -0.09809 0.33866 -0.10677 0.33611 C -0.11354 0.33102 -0.11718 0.32963 -0.12552 0.32825 C -0.1342 0.32455 -0.1394 0.32894 -0.1467 0.33449 C -0.14895 0.33634 -0.15468 0.33773 -0.15468 0.33796 C -0.16388 0.33403 -0.15399 0.33773 -0.17204 0.33449 C -0.18003 0.3331 -0.18784 0.32963 -0.196 0.32825 C -0.21336 0.32987 -0.23055 0.33287 -0.24774 0.33449 C -0.25798 0.33403 -0.26822 0.33426 -0.27847 0.3331 C -0.28836 0.33195 -0.29878 0.32709 -0.30902 0.32524 C -0.31579 0.32246 -0.32152 0.32154 -0.32881 0.32038 C -0.33159 0.32084 -0.3342 0.322 -0.33697 0.322 C -0.33871 0.322 -0.34045 0.32015 -0.34218 0.32038 C -0.35243 0.32108 -0.36267 0.32408 -0.37291 0.32524 C -0.38697 0.32339 -0.39774 0.31784 -0.41145 0.31414 C -0.43697 0.31529 -0.46128 0.31506 -0.48593 0.322 C -0.48993 0.32524 -0.49392 0.32825 -0.49791 0.33149 C -0.50399 0.34166 -0.50989 0.34097 -0.52048 0.34236 C -0.50763 0.34629 -0.52013 0.34236 -0.52187 0.34236 C -0.52361 0.34236 -0.5184 0.34351 -0.51666 0.34398 C -0.52048 0.33935 -0.52083 0.33426 -0.52465 0.32987 C -0.52916 0.32455 -0.53645 0.32293 -0.54184 0.31899 C -0.54305 0.3109 -0.54409 0.30442 -0.54722 0.29702 C -0.54739 0.29447 -0.54982 0.2688 -0.55243 0.2688 E">
                                      <p:cBhvr>
                                        <p:cTn id="109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9.20657E-007 C 0.00017 0.00833 0.00017 0.0118 0.00052 0.01712 C 0.00069 0.02591 0.00086 0.03401 0.00104 0.04326 C 0.00121 0.06199 0.00121 0.08212 0.00156 0.10039 C 0.00156 0.11497 0.00156 0.12954 0.00191 0.1418 C 0.00208 0.16031 0.00208 0.18043 0.0026 0.19685 C 0.0026 0.20495 0.0026 0.21305 0.00277 0.22045 C 0.00295 0.23063 0.00347 0.23456 0.00382 0.24057 C 0.00434 0.25029 0.00503 0.2607 0.0059 0.2644 C 0.00607 0.26833 0.00625 0.27111 0.00642 0.2755 C 0.00642 0.27735 0.00642 0.28059 0.00642 0.28221 C 0.00659 0.28591 0.00694 0.28614 0.00711 0.28869 C 0.00711 0.29077 0.00729 0.29239 0.00729 0.29563 C 0.00763 0.30812 0.00729 0.30187 0.00763 0.30627 C 0.00781 0.30881 0.00781 0.31066 0.00781 0.31275 C 0.00781 0.31575 0.00798 0.32131 0.00798 0.32223 E">
                                      <p:cBhvr>
                                        <p:cTn id="116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243 0.2688 C -0.54982 0.25399 -0.54774 0.23873 -0.54427 0.22485 C -0.5434 0.21698 -0.54062 0.20912 -0.54184 0.20148 C -0.54427 0.1876 -0.54722 0.17696 -0.55121 0.16424 C -0.55225 0.14573 -0.55121 0.13139 -0.55121 0.11358 E">
                                      <p:cBhvr>
                                        <p:cTn id="119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2600"/>
            <a:ext cx="9325080" cy="6845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468000" y="5805360"/>
            <a:ext cx="1942920" cy="1238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1608120" cy="2041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rot="343800">
            <a:off x="1979280" y="1196640"/>
            <a:ext cx="6840360" cy="368280"/>
          </a:xfrm>
          <a:prstGeom prst="rect">
            <a:avLst/>
          </a:prstGeom>
          <a:solidFill>
            <a:srgbClr val="1c1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f638"/>
                </a:solidFill>
                <a:latin typeface="Arial"/>
              </a:rPr>
              <a:t>ARRIVE AT THE AIRPORT ON THE DAY OF DEPAR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349200">
            <a:off x="1945800" y="1844640"/>
            <a:ext cx="7197840" cy="368280"/>
          </a:xfrm>
          <a:prstGeom prst="rect">
            <a:avLst/>
          </a:prstGeom>
          <a:solidFill>
            <a:srgbClr val="1c1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f638"/>
                </a:solidFill>
                <a:latin typeface="Arial"/>
              </a:rPr>
              <a:t>BE SURE TO HAVE 2 HOURS BEFORE YOUR DEPAR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416 C -0.01285 0.00833 -0.00573 0.00717 -0.0217 0.00555 C -0.03802 0.0081 -0.05434 0.00949 -0.07084 0.01088 C -0.07865 0.01226 -0.08559 0.01273 -0.09254 0.01643 C -0.09427 0.01736 -0.09618 0.01828 -0.09827 0.01898 C -0.10104 0.0199 -0.10695 0.02175 -0.10695 0.02199 C -0.11684 0.02916 -0.12604 0.0287 -0.13872 0.03009 C -0.16459 0.02731 -0.19028 0.02314 -0.2165 0.02314 E">
                                      <p:cBhvr>
                                        <p:cTn id="138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0.14063 -0.11736 E">
                                      <p:cBhvr>
                                        <p:cTn id="145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747 -0.11736 L 0.12292 -0.11736 E">
                                      <p:cBhvr>
                                        <p:cTn id="148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6119640" cy="4586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732720" y="620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2762280" cy="3686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140360" y="3860640"/>
            <a:ext cx="1608120" cy="2041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 flipV="1">
            <a:off x="250920" y="4797360"/>
            <a:ext cx="3889440" cy="100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79280" y="429228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 flipH="1">
            <a:off x="6011640" y="5300640"/>
            <a:ext cx="701640" cy="890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V="1">
            <a:off x="6877080" y="5660640"/>
            <a:ext cx="57456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333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t information at the information d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03576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 your flight in the time-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1126600">
            <a:off x="1402920" y="1773360"/>
            <a:ext cx="1300320" cy="214200"/>
          </a:xfrm>
          <a:prstGeom prst="rect">
            <a:avLst/>
          </a:prstGeom>
          <a:solidFill>
            <a:srgbClr val="f1f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07842E-007 L -0.47257 -0.15753 E">
                                      <p:cBhvr>
                                        <p:cTn id="19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57 -0.15753 L -0.72257 -0.15753 E">
                                      <p:cBhvr>
                                        <p:cTn id="19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5 0.0613 L 0.07986 -0.03331 E">
                                      <p:cBhvr>
                                        <p:cTn id="21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940360" y="4653000"/>
            <a:ext cx="1511280" cy="2011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 flipH="1">
            <a:off x="-1476720" y="4816440"/>
            <a:ext cx="1608120" cy="2041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95280" y="5603760"/>
            <a:ext cx="677880" cy="1254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rot="21375600">
            <a:off x="-248760" y="339840"/>
            <a:ext cx="939636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 TO THE SPECIAL  AREA TO HAVE YOUR LUG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TICKET CHECK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7535880" y="4816440"/>
            <a:ext cx="1608120" cy="2041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659640" y="5300640"/>
            <a:ext cx="677880" cy="1254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1763640" y="2492280"/>
            <a:ext cx="3024360" cy="2570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3419640" y="3933720"/>
            <a:ext cx="647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5.33889E-006 C 0.00122 0.00092 0.00209 0.003 0.00348 0.003 C 0.01511 0.003 0.02726 -0.00463 0.03889 -0.00625 C 0.04567 -0.00949 0.05296 -0.00995 0.06008 -0.01111 C 0.06771 -0.01597 0.07119 -0.01874 0.08004 -0.02036 C 0.08733 -0.01874 0.09341 -0.0199 0.10122 -0.01898 C 0.11112 -0.02198 0.12431 -0.01689 0.13421 -0.01574 C 0.14619 -0.01898 0.15851 -0.01551 0.17067 -0.01412 C 0.18004 -0.01666 0.18924 -0.01412 0.19879 -0.01412 E">
                                      <p:cBhvr>
                                        <p:cTn id="23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500"/>
                            </p:stCondLst>
                            <p:childTnLst>
                              <p:par>
                                <p:cTn id="2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45 0.13611 C -0.04983 0.12778 -0.04392 0.13171 -0.06545 0.13449 C -0.07465 0.13565 -0.08281 0.14375 -0.09167 0.1456 C -0.09566 0.14653 -0.09965 0.14653 -0.10365 0.14722 C -0.10608 0.14768 -0.10833 0.14838 -0.11076 0.14884 C -0.12153 0.14768 -0.13108 0.1456 -0.14167 0.14398 C -0.15347 0.13958 -0.16858 0.13935 -0.1809 0.13773 C -0.19514 0.13403 -0.20938 0.13217 -0.22379 0.12986 C -0.24184 0.12176 -0.26198 0.11875 -0.2809 0.11551 C -0.28889 0.11203 -0.29757 0.11227 -0.3059 0.11065 C -0.31372 0.11273 -0.31736 0.11852 -0.32379 0.12338 C -0.33073 0.12847 -0.33976 0.13102 -0.34757 0.13287 C -0.35226 0.1324 -0.36424 0.13217 -0.37031 0.12986 C -0.37934 0.12662 -0.38733 0.12153 -0.39653 0.11875 C -0.39809 0.11666 -0.39948 0.11412 -0.40122 0.11227 C -0.4026 0.11088 -0.40469 0.11088 -0.4059 0.10926 C -0.40851 0.10555 -0.41198 0.09653 -0.41198 0.09676 C -0.41181 0.0949 -0.40833 0.06643 -0.40955 0.06157 C -0.40695 0.05486 -0.40295 0.05023 -0.40486 0.04259 C -0.40243 0.02986 -0.4033 0.03819 -0.40712 0.01713 C -0.40764 0.01389 -0.40955 0.00764 -0.40955 0.00787 C -0.4092 0.00602 -0.40816 0.0044 -0.40833 0.00278 C -0.40851 0.00092 -0.41111 2.59259000000007E-006 -0.41076 -0.00185 C -0.41042 -0.00371 -0.40851 -0.0044 -0.40712 -0.0051 C -0.4 -0.00857 -0.39445 -0.0088 -0.38698 -0.00996 C -0.3816 -0.01435 -0.37639 -0.01621 -0.37031 -0.01783 C -0.36615 -0.0206 -0.36215 -0.02246 -0.35833 -0.0257 C -0.35521 -0.03773 -0.3559 -0.03195 -0.3559 -0.04329 E">
                                      <p:cBhvr>
                                        <p:cTn id="260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5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2374920" cy="3168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076720" y="1484280"/>
            <a:ext cx="3816360" cy="2930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843280" y="1413000"/>
            <a:ext cx="2762280" cy="3686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164360" y="4437000"/>
            <a:ext cx="1608120" cy="2041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79280" y="476280"/>
            <a:ext cx="8785440" cy="4597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THE CUSTOMS GO THROUGH PASSPOR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7885080" y="5805360"/>
            <a:ext cx="4017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102E-007 L -0.32899 -0.16262 E">
                                      <p:cBhvr>
                                        <p:cTn id="29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906720" cy="2637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4076640" cy="609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95280" y="3933720"/>
            <a:ext cx="3743280" cy="2673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rot="19318200">
            <a:off x="2195640" y="5373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6028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Y ARE PREPARING YOUR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08000" y="6381720"/>
            <a:ext cx="54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ILE YOU ARE WAITING IN THE LOU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7535880" y="3213000"/>
            <a:ext cx="16081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50752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WHEN YOUR FLIGHT IS ANNOUNCED YOU GET ON THE PLA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3889440" cy="2808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4322520" cy="3167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032360" y="5373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D TAKE YOUR SEAT ON TH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780000" y="3500280"/>
            <a:ext cx="587160" cy="746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5867280" y="3068640"/>
            <a:ext cx="5875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15 0.0657 C -0.01927 0.04025 -0.04236 0.05783 -0.05486 0.04765 C -0.07049 0.05066 -0.0849 0.04812 -0.1007 0.05066 C -0.11042 0.04604 -0.11962 0.0502 -0.12934 0.0539 C -0.14098 0.06292 -0.13438 0.06038 -0.14948 0.05691 C -0.15695 0.05205 -0.16493 0.05598 -0.17292 0.0539 C -0.18195 0.04858 -0.19063 0.05783 -0.19931 0.05066 C -0.21754 0.0539 -0.22171 0.04858 -0.23907 0.04511 C -0.2441 0.04118 -0.24341 0.0347 -0.24775 0.02707 C -0.24931 0.0155 -0.25105 0.0037 -0.25261 -0.00809 C -0.25105 -0.01943 -0.25087 -0.0148 -0.25261 -0.0229 E">
                                      <p:cBhvr>
                                        <p:cTn id="349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879 L 0.00747 0.13209 E">
                                      <p:cBhvr>
                                        <p:cTn id="365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13209 L -0.04774 0.13486 E">
                                      <p:cBhvr>
                                        <p:cTn id="368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74 0.13486 L -0.04774 0.17673 E">
                                      <p:cBhvr>
                                        <p:cTn id="371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6:21:38Z</dcterms:created>
  <dc:creator>Белозерова </dc:creator>
  <dc:description/>
  <dc:language>en-US</dc:language>
  <cp:lastModifiedBy>Белозерова </cp:lastModifiedBy>
  <dcterms:modified xsi:type="dcterms:W3CDTF">2010-02-05T11:24:58Z</dcterms:modified>
  <cp:revision>10</cp:revision>
  <dc:subject/>
  <dc:title>Слайд 1</dc:title>
</cp:coreProperties>
</file>