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5CC-66A5-40DC-9AD6-E2E2CB8C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F2F-3764-4184-B243-F067E09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1A0-5DE0-4AEE-B4B1-E24606BF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E0A-9971-4700-9B5E-9A6FC59D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90E5-09E3-4483-A89B-2241A1FB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E58B-9FF1-441B-B1EE-5002BAD6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03DC-C2BC-4D33-914C-5512FF3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9B11-DAA1-4B98-8616-C7156621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A75-71F1-436B-9B2C-310ACEAE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DCE-2E05-4477-9AC5-BAE78E71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FFBB-E607-42BC-A89E-738E0E6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E1F-90D6-4ABE-9754-A5A1F0D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733B-B9F9-4141-9179-DF872015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C6C5-24D6-43A3-A6A8-B6653AA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243-41D9-4EEB-9858-B8E7AEB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BC53-16CF-403D-BFA7-EEEF42EB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CF6B-9E88-4071-92CD-9ACACEA2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EAB-F5BF-47B4-802F-F1B3734C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259-ECB4-455D-937E-851A56E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B37-D345-4E05-ABA0-FBA20CA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5A-EBFE-492E-8F0A-3DC80137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598-3B61-417E-A087-35922BF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A7B-51C7-44C6-ACE3-5982FC3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27F-860E-44E1-BF4F-DD43703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7813-5196-4ACE-A6BF-F5375FB1EF9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85E-7A6F-4FD3-A864-DEB8F47D810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.В.Гоголь Мертвые душ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анил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91240" y="5734080"/>
            <a:ext cx="30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готовлена: Чувашово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Еленой Владимировн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ейзаж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ревня Маниловка немногих могла заманить своим местоположением. Дом господский стоял одиночкой на юру, то есть на возвышении, открытом всем ветрам, каким только вздумается подуть; покатость горы, на которой он стоял, была одета подстриженным дерном……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еб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доме его чего-нибудь вечно недоставало: в гостиной стояла прекрасная мебель, обтянутая щегольской шелковой материей, которая, верно, стоила весьма недешево; но на два кресла ее недостало, и кресла стояли обтянуты просто рогожею. В иной комнате и вовсе не было меб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ртре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а взгляд он был человек видный; черты лица его были не лишены приятности, но в эту приятность, казалось, чересчур было передано сахару; в приемах и оборотах его было что-то заискивающее расположения и знакомства. Он улыбался заманчиво, был белокур, с голубыми глазами. В первую минуту разговора с ним не можешь не сказать: «Какой приятный и добрый человек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ч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т него не дождешься никакого живого или хоть даже заносчивого слова, какое можешь услышать почти от всякого, если коснешься задирающего его предмета. Дома он говорил очень мало и большею частию размышлял и думал, но о чем он думал, тоже разве богу было извест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не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н обыкновенно, куря трубку, которую курить сделал привычку, когда еще служил в арм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т меньшой, Алкид, тот не так быстр, а Фемистоклюс, если что-нибудь встретит, букашку, козявку, так уж у него вдруг глазенки и забегают; побежит за ней следом и тотчас обратит вним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6:40:21Z</dcterms:created>
  <dc:creator>Notebuk</dc:creator>
  <dc:description/>
  <dc:language>en-US</dc:language>
  <cp:lastModifiedBy>Customer</cp:lastModifiedBy>
  <dcterms:modified xsi:type="dcterms:W3CDTF">2010-02-08T12:43:24Z</dcterms:modified>
  <cp:revision>3</cp:revision>
  <dc:subject/>
  <dc:title>И.В.Гоголь Мертвые душ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