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2FCD14E-3B83-4533-942A-FE2CC91A1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DDA8A0-9500-46D0-BE43-D6B590A3A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30DA03-7DAD-4F77-925F-8AF9024A5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A118423-3A6E-4C61-BA32-945885F08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1B144-40C2-47CC-BB32-DC59AE097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A3A6F-8B66-4368-9374-06AA5F840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8D316-1A18-454C-B305-19CB21251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3D943-3C26-46B4-8EA2-F3E05DB50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BEA03-A17D-4FEF-94DB-9FF38BD38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B3993-BD6F-40C1-B2D1-AA0377F59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CAD65-3B21-4EF4-AFF4-B94AD4CF5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22A6A9-CF69-440D-BC52-C9713894C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E236-541B-42BB-99C5-150E5F4DF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053DC-C35F-4021-865F-D3B9E2C63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61BC5-BF7D-4D97-8CAC-F18F9C5F0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26BD4-5604-49B6-8879-BB9C34BD7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3403E-2EAA-4ED7-A5D0-073321F55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0BFEEF-14AA-4532-8C45-B9EAB3B44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DE0334-7F58-487A-8F7E-3FADB7D3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C22E70-39A4-434D-AA4D-6C050CD7B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BDFB6E-2048-4BA3-AD84-E917DD115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AF667A-9C2C-4D7D-864C-18B11432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A83906-97AD-4CE5-A4BD-95AB26DA5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F42148-7015-4B6F-BAC9-A8397EEC5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B4E5-DDE4-42CE-BB8C-DC1A50C79C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537C-AB29-4B71-B96C-693A5E39B3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609480" y="533520"/>
            <a:ext cx="800100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Встреча с Собакевичем.</a:t>
            </a:r>
            <a:endParaRPr b="0" lang="en-US" sz="32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Когда Чичиков первый раз увидел Собакевича, то он показался ему несколько неуклюжим. Чичиков так понравился Собакевичу, что тот, который редко отзывался о ком-нибудь с хорошей стороны, сказал жене:</a:t>
            </a:r>
            <a:r>
              <a:rPr b="0" lang="en-US" sz="2400" spc="-1" strike="noStrike">
                <a:solidFill>
                  <a:srgbClr val="ffffff"/>
                </a:solidFill>
                <a:latin typeface="Garamond"/>
              </a:rPr>
              <a:t>”</a:t>
            </a:r>
            <a:r>
              <a:rPr b="0" lang="ru-RU" sz="2400" spc="-1" strike="noStrike">
                <a:solidFill>
                  <a:srgbClr val="ffffff"/>
                </a:solidFill>
                <a:latin typeface="Garamond"/>
              </a:rPr>
              <a:t>Я, душенька, был у губернатора на вечере, и у полицмейстера обедал, и познакомился с коллежским советником Павлом Ивановичем Чичиковым: преприятный человек!</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101" name=""/>
          <p:cNvSpPr/>
          <p:nvPr/>
        </p:nvSpPr>
        <p:spPr>
          <a:xfrm>
            <a:off x="720" y="201600"/>
            <a:ext cx="332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одготовлена: Чувашовой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Еленой Владимировн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380880" y="457200"/>
            <a:ext cx="8458200" cy="552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ртрет.</a:t>
            </a:r>
            <a:endParaRPr b="0" lang="en-US" sz="32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Когда Чичиков приехал в гости к Собакевичу, то он показался ему весьма похожим на средней величины медведя. Фрак на нем был совершенно медвежьего цвета, рукава длинны, и панталоны длинны, ступнями ступал он вкривь и вкось и наступал беспрестанно всем на чужие ноги. Цвет лица имел каленый, горячий, какой бывает на медном пятаке. У Собакевича был крепкий и на диво стаченный образ: держал он его более вниз, чем вверх, шеей не ворочал вовсе. Когда Чичиков взглянул на него, то подумал: </a:t>
            </a:r>
            <a:r>
              <a:rPr b="0" lang="en-US" sz="2400" spc="-1" strike="noStrike">
                <a:solidFill>
                  <a:srgbClr val="ffffff"/>
                </a:solidFill>
                <a:latin typeface="Garamond"/>
              </a:rPr>
              <a:t>“</a:t>
            </a:r>
            <a:r>
              <a:rPr b="0" lang="ru-RU" sz="2400" spc="-1" strike="noStrike">
                <a:solidFill>
                  <a:srgbClr val="ffffff"/>
                </a:solidFill>
                <a:latin typeface="Garamond"/>
              </a:rPr>
              <a:t>медведь! Совершенный медведь.</a:t>
            </a:r>
            <a:r>
              <a:rPr b="0" lang="en-US" sz="2400" spc="-1" strike="noStrike">
                <a:solidFill>
                  <a:srgbClr val="ffffff"/>
                </a:solidFill>
                <a:latin typeface="Garamond"/>
              </a:rPr>
              <a:t>”</a:t>
            </a:r>
            <a:r>
              <a:rPr b="0" lang="ru-RU" sz="2400" spc="-1" strike="noStrike">
                <a:solidFill>
                  <a:srgbClr val="ffffff"/>
                </a:solidFill>
                <a:latin typeface="Garamond"/>
              </a:rPr>
              <a:t> Недаром его звали Михайлом Семеновичем.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457200" y="304920"/>
            <a:ext cx="8305920" cy="552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Характер Собакевича</a:t>
            </a:r>
            <a:endParaRPr b="0" lang="en-US" sz="32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Характер у Собакевича был скверный: о всех своих приятелях он говорил плохую молву, сквернословил, называл их лентяями, разбойниками, хотя когда встречался с ними, ничего плохого о них не говорил, и делал вид что он очень рад их видеть. Когда он торговался с Чичиковым, то расхваливал своих мертвых крестьян, как будто речь шла о живых, предлагал неимоверную цену за мертвые души, словом, хотел извлечь себе выгоду из продажи мертвых крестьян, хотя не понимал, что Чичиков хотел ему помочь, т.к. за этих мертвых людей Собакевичу приходилось платит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457200" y="304920"/>
            <a:ext cx="8229600" cy="479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Детали пейзажа деревни Собакевича.</a:t>
            </a:r>
            <a:endParaRPr b="0" lang="en-US" sz="32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еревня Собакевича показалась Чичикову довольно большой. Помещик, казалось, хлопотал много о прочности: деревенские дома мужиков были без резных узоров и без всяких затей, но все было плотно пригнано   и сделано, как следует. Даже колодец был обделан в такой крепкий дуб, какой идет только на мельницы да на корабли. Словом, все, на что ни глядел Чичиков, было упористо, без пошатки, в каком-то крепком и неуклюжем виде. Двор был окружен крепкою и непомерно толстою деревянною решетк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380880" y="457200"/>
            <a:ext cx="8382240" cy="516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етали интерьера гостиной.</a:t>
            </a:r>
            <a:endParaRPr b="0" lang="en-US" sz="32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Когда Чичиков вошел в гостиную, он увидел много картин. На картинах всё были молодцы, всё греческие полководцы. Комната, и всё что в ней было, - всё было прочно, неуклюже в высочайшей степени и имело какое-то странное сходство с самим хозяином дома; в углу гостиной стояло пузатое ореховое бюро на пренелепых четырех ногах, совершенный медведь. Стол, кресла, стулья – все было самого тяжелого и беспокойного свойства, словом, каждый предмет, казалось, говорил:</a:t>
            </a:r>
            <a:r>
              <a:rPr b="0" lang="en-US" sz="2400" spc="-1" strike="noStrike">
                <a:solidFill>
                  <a:srgbClr val="ffffff"/>
                </a:solidFill>
                <a:latin typeface="Garamond"/>
              </a:rPr>
              <a:t>”</a:t>
            </a:r>
            <a:r>
              <a:rPr b="0" lang="ru-RU" sz="2400" spc="-1" strike="noStrike">
                <a:solidFill>
                  <a:srgbClr val="ffffff"/>
                </a:solidFill>
                <a:latin typeface="Garamond"/>
              </a:rPr>
              <a:t>И я тоже Собакевич!</a:t>
            </a:r>
            <a:r>
              <a:rPr b="0" lang="en-US" sz="2400" spc="-1" strike="noStrike">
                <a:solidFill>
                  <a:srgbClr val="ffffff"/>
                </a:solidFill>
                <a:latin typeface="Garamond"/>
              </a:rPr>
              <a:t>”</a:t>
            </a:r>
            <a:r>
              <a:rPr b="0" lang="ru-RU" sz="2400" spc="-1" strike="noStrike">
                <a:solidFill>
                  <a:srgbClr val="ffffff"/>
                </a:solidFill>
                <a:latin typeface="Garamond"/>
              </a:rPr>
              <a:t> или: </a:t>
            </a:r>
            <a:r>
              <a:rPr b="0" lang="en-US" sz="2400" spc="-1" strike="noStrike">
                <a:solidFill>
                  <a:srgbClr val="ffffff"/>
                </a:solidFill>
                <a:latin typeface="Garamond"/>
              </a:rPr>
              <a:t>“</a:t>
            </a:r>
            <a:r>
              <a:rPr b="0" lang="ru-RU" sz="2400" spc="-1" strike="noStrike">
                <a:solidFill>
                  <a:srgbClr val="ffffff"/>
                </a:solidFill>
                <a:latin typeface="Garamond"/>
              </a:rPr>
              <a:t>И я тоже очень похож на Собакевича!</a:t>
            </a:r>
            <a:r>
              <a:rPr b="0" lang="en-US" sz="2400" spc="-1" strike="noStrike">
                <a:solidFill>
                  <a:srgbClr val="ffffff"/>
                </a:solidFill>
                <a:latin typeface="Garamond"/>
              </a:rPr>
              <a:t>”</a:t>
            </a:r>
            <a:r>
              <a:rPr b="0" lang="ru-RU" sz="2400" spc="-1" strike="noStrike">
                <a:solidFill>
                  <a:srgbClr val="ffffff"/>
                </a:solidFill>
                <a:latin typeface="Garamond"/>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3:22:36Z</dcterms:created>
  <dc:creator>Forsaken</dc:creator>
  <dc:description/>
  <dc:language>en-US</dc:language>
  <cp:lastModifiedBy>Customer</cp:lastModifiedBy>
  <dcterms:modified xsi:type="dcterms:W3CDTF">2010-02-08T12:46:29Z</dcterms:modified>
  <cp:revision>4</cp:revision>
  <dc:subject/>
  <dc:title>Слайд 1</dc:title>
</cp:coreProperties>
</file>