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FC1D-845A-4FA3-9A74-C6AA9765B3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A3F3-3969-42E2-9409-8519A1CB58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CE74-9925-437F-8B9E-D268151BA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DC8-4E61-4A20-B78B-DFCB9F39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357-9124-4FD5-9142-817453C3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AFA-1ACD-405C-8E8C-97D472E4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650-A846-4955-91D0-5A1FB7CD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2BEB-7FAF-4648-B82D-557FAA0E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5CBA-A803-4B62-8C1F-1A19DACE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D61F-B4AC-4608-AEEE-825668F3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CE46-474A-4E0D-9DB9-DC12BB5C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F256-460D-470B-B0C4-70D8A581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BDC4-EF69-4DF9-9915-55039E2F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85A0-55B2-451E-BA06-7E6A8850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4BF-F32E-4326-9670-B06A8249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F7B9-EDAB-4AB3-A966-D32A4122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52EE-81CB-43FD-AFF3-EA5DBC88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90D0-08FF-4764-A85D-B72CDF3A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EF3F-AB80-43FE-B185-05F767F7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2825-871A-4AE0-8A22-1C3BFB07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BA33B-26C2-4D8F-BC90-B5921B6A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147EE-29D0-482D-AFD7-FC484EFF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E0189-4F10-4E00-8D50-A79EA9ED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F613A-1888-4C59-85AD-99235827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30112-1C51-4E38-8E1A-81DA3C59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EE6-8926-47EF-A83E-CE554C86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32662-C1E8-4E08-A047-5A318BA6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9A2C7-DC2C-4D5B-B62F-F19843CD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5FE00-A708-4677-BD38-CCB8896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F8CA9-FEC5-4266-9700-5F89AEB5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4C39A-6544-4880-BD76-005A2D70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A3049-8F39-4A5A-B8BC-58754E6E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5B45E-FB73-46F8-88DA-60328588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9221-EBFF-4658-9C0A-4CDC2C58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1C572-1BCD-48CF-82E4-F74239A2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6F60-EB25-448A-8164-0791B96B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73C-D347-4A5D-ADE5-B71DC930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B8BD-FB2D-4ECA-9931-116604A5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2138-719B-4039-9361-A2C75EAE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10FB4-65BA-4251-84E1-4B47274D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BAE99-0649-4F2C-A224-7DDE641F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C367-AA09-447B-8D96-62D0A923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E275-B794-4777-A42E-D6FAC918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EB29-2FEA-4BE4-A140-B429DBB4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D6E3-545C-4645-B89B-0BD1B92D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EA7A-0A31-4E1E-A458-4F43CDD1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AB6AF-2778-431F-B623-0C59430F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5E1-FBA2-47C7-B329-CB300C90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92C76-08F0-4115-BD08-D48F3256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E3102-3DCC-42E6-BB49-83C02835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6AD4D-E190-4C7A-BF3A-A1059A6B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1C5CB-40D7-40B2-B09D-11DD5FED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CB803-0235-443E-A7C8-6B4906E0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BC8F8-0482-49A1-AB2E-B9E39748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56478-5C90-4950-BBEB-E6ECA5DC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0ABC9-A1F0-4B1C-9E1F-3DB011BF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D6B23-FD3E-4C4D-AB70-C660E9B5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2B5CA-320C-4CA4-870B-226C1311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FA8-8B64-4E89-BFE7-7DD9DAAF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5E76B-118D-445F-A727-FAF46FBA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A8135-47F0-4714-84CB-C5AFBE52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E7077-FD73-49C4-921D-8ACB699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4C22D-11D1-45A6-B636-53844E56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BF231-8402-4D78-8259-485ED06F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A4C05-E336-4216-98A4-10ABE8FD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834E9-9F34-43CC-9B8B-724B23F8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02E11-4AF8-4DB8-9C24-A0D91A91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6E7D9-4452-4910-AC9F-99094164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1E60C-5D16-484F-B5C5-DFA0ECE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BAE-A49E-4EBE-8973-5BC4A0EB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F2ED9-EA11-450A-B442-199B8574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B1728-4638-4B23-B663-385640D2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01008-9024-4698-A8A5-708829DB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274F5-D139-47A1-ABAA-771242F2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E1A02-D629-40AD-BCC6-B7C3646F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BFD03-5D48-421E-A3ED-D257183B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09CEC-2ACC-4B1F-AC19-B25BE858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00E6C-57EE-4E0F-8561-DACC4961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2737A-513D-4561-A837-6D0CB147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0E809-22BD-4E57-955E-101BC7C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C7C-7F81-4F8F-A453-B795DA4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CD268-DE63-4FE8-AE3A-397CCCE6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91063-11E1-4811-838B-8D8A30A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830FC-FAB6-4540-9CAE-FAB6A1CF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E9F78-D1FD-4848-A5A4-2F07BBF9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9A8C6-7748-4F62-B38D-AB08E39F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224-A6CC-4F7E-B904-1331479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2FB5-4DB7-4D4F-BE3D-2FF9F7DBAFC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A707-EF88-43A0-BE16-42072C69300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2D7-4916-45EA-95DE-77C60ECC2B0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7988-E365-4CA3-87C5-52ED4987F02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BC62-A42C-43B1-B742-E7498C21D2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2B37-502E-4639-AEE2-21A2524587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8B89-C734-4B71-93C5-F39A243BDAB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мёртвые души!.jpg"/>
          <p:cNvPicPr/>
          <p:nvPr/>
        </p:nvPicPr>
        <p:blipFill>
          <a:blip r:embed="rId1"/>
          <a:stretch/>
        </p:blipFill>
        <p:spPr>
          <a:xfrm>
            <a:off x="285840" y="142920"/>
            <a:ext cx="4286160" cy="65721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2" descr="мёртв.jpg"/>
          <p:cNvPicPr/>
          <p:nvPr/>
        </p:nvPicPr>
        <p:blipFill>
          <a:blip r:embed="rId2"/>
          <a:stretch/>
        </p:blipFill>
        <p:spPr>
          <a:xfrm>
            <a:off x="4929120" y="285840"/>
            <a:ext cx="40006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358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c3036"/>
                </a:solidFill>
                <a:latin typeface="Century Schoolbook"/>
              </a:rPr>
              <a:t>Характеристика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c3036"/>
                </a:solidFill>
                <a:latin typeface="Century Schoolbook"/>
              </a:rPr>
              <a:t>помещицы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c3036"/>
                </a:solidFill>
                <a:latin typeface="Century Schoolbook"/>
              </a:rPr>
              <a:t>Коробочки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/>
          <p:nvPr/>
        </p:nvSpPr>
        <p:spPr>
          <a:xfrm>
            <a:off x="5778720" y="6113520"/>
            <a:ext cx="30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лена: Чуваш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ой Владимир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3" descr="корб.JPG"/>
          <p:cNvPicPr/>
          <p:nvPr/>
        </p:nvPicPr>
        <p:blipFill>
          <a:blip r:embed="rId1"/>
          <a:stretch/>
        </p:blipFill>
        <p:spPr>
          <a:xfrm>
            <a:off x="428760" y="428760"/>
            <a:ext cx="4286160" cy="592920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4" descr="корбка.jpg"/>
          <p:cNvPicPr/>
          <p:nvPr/>
        </p:nvPicPr>
        <p:blipFill>
          <a:blip r:embed="rId2"/>
          <a:stretch/>
        </p:blipFill>
        <p:spPr>
          <a:xfrm>
            <a:off x="5072040" y="357120"/>
            <a:ext cx="36432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4"/>
          <p:cNvSpPr/>
          <p:nvPr/>
        </p:nvSpPr>
        <p:spPr>
          <a:xfrm>
            <a:off x="285840" y="142920"/>
            <a:ext cx="885816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Arial"/>
              </a:rPr>
              <a:t>Мебель в доме и пейзаж всего окружающего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ната  бы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вешана старенькими полосатыми обоями; картины с какими-то  птицами;  меж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 старинные маленькие зеркала  с  темными  рамками  в  виде  свернувш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тьев; за всяким зеркалом заложены были  или  письмо,  или  старая  кол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, или чулок; стенные  часы  с  нарисованными  цветами  на  циферблате.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инувши взглядом комнату, он теперь заметил,  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артинах не все были птицы: между ними висел портрет Кутузова и  пис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ляными красками какой-то старик с  красными  обшлагами  на  мундире,  к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шивали при Павле Петровиче. Часы опять испустили шипение и пробили десять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.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…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ошедши к окну, он нач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атривать бывшие перед ним виды: окно глядело едва ли не в курятник; 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йней мере, находившийся перед  ним  узенький  дворик  весь  был  наполн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тицами и всякой домашней тварью. Индейкам и курам не было числа; промеж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хаживал петух мерными шагами, потряхивая  гребнем  и  поворачивая  голо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28400" y="428760"/>
            <a:ext cx="8715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бок, как будто к чему-то прислушиваясь; свинья с семейством очутилась  ту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е; тут же, разгребая кучу сора, съела она мимоходом цыпленка и, не  замечая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того, продолжала уписывать арбузные корки своим  порядком.  Этот  небольш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ворик,  или  курятник,  переграждал  дощатый  забор,  за  которым  тянулис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странные  огороды  с  капустой,  луком,  картофелем,  светлой  и   прочим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хозяйственным овощем. По огороду были разбросаны  кое-где  яблони  и  другие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руктовые деревья, накрытые сетями  для  защиты  от  сорок  и  воробьев,  из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х последние целыми косвенными тучами переносились с  одного  места  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ругое. Для этой же самой причины водружено было несколько чучел на  длинных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шестах, с растопыренными руками; на одном  из  них  надет  был  чепец  сам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хозяйки.  За  огородами  следовали  крестьянские  избы,  которые  хотя  был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строены врассыпную и не заключены в правильные улицы,  но,  по  замечанию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деланному   Чичиковым,   показывали   довольство   обитателей,   ибо   был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держиваемы как следует: изветшавший  тес  на  крышах  везде  был  заменен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вым; ворота нигде не покосились, а в обращенных к нему крестьянских крытых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раях заметил он где стоявшую запасную почти новую телегу, а где и две. "Д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ней деревушка не малень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”…..&gt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…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шла  хозяйка  женщи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жилых лет, в каком-то спальном чепце, надетом наскоро, с фланелью на  ше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…..&gt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Хозяйка вышла, и он  тот  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ас поспешил раздеться, отдав Фетинье всю снятую с себя сбрую, как  верхнюю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к и нижню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…&gt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…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на была одета лучше, нежели вчера, – в тёмном платье и уже не в спальном чепце, но на шее всё так же было что-то навязано”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оробочка и Чичик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робочка, к которой случайно занесло Чичикова,— полная противоположность маниловской мечтательности, парению в голубой пустоте. Это одна из тех «небольших помещиц, которые плачутся на неурожаи, убытки и держат голову несколько набок, а между тем набирают понемногу деньжонок в пестрядевые мешочки, размещенные по ящикам комодов. В один мешочек отбирают все целковики, в другой полтиннички, в третий четвертачки, хоть с виду и кажется, будто бы в комоде ничего нет, кроме белья, да ночных кофточек, да нитяных моточков, да распоротого салопа...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азалось бы, Коробочка с куриной ограниченностью кругозора является полной противоположностью Чичикову с его авантюризмом и головокружительной размашистостью задуманного предприятия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857160" y="28584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Arial"/>
              </a:rPr>
              <a:t>Портрет помещицы</a:t>
            </a: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Arial"/>
              </a:rPr>
              <a:t>её речь и манеры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6840" y="142560"/>
            <a:ext cx="7829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 сходство с нею у Чичикова есть, да и немалое. Не случайно здесь Гоголь обращается к описанию шкатулки Чичикова, и его описание показывает, что шкатулка эта напоминает «комод» Коробочки. Кажется, что в шкатулке Чичикова, как и в комоде Коробочки, ничего нет, кроме дорожных вещей. Но нет! «Под верхним ящиком находится нижний, основное пространство которого занято кипами бумаг». Вот тутто и скрывается еще «маленький потаенный ящик для денег, выдвигавшийся незаметно сбоку шкатулки. Он всегда так поспешно выдвигался и задвигался в ту же минуту хозяином, что наверно нельзя сказать, сколько там было денег». Гений скопидомства, Коробочка тут же высоко оценивает чичиковский вариант ее «комода»: «Хорош у тебя ящик, отец мой... чай в Москве купил его?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Дубиноголовая» Коробочка не так уж примитивна и проста, как это сперва может показаться. Исследователь «Мертвых душ» В. В. Федоров называет ее «союзником автора против подлецаприобретателя Чичикова». Почему? Задумаемся: что именно не принимает в авантюре Чичикова Коробочка? Главный аргумент героя в диалоге с нею — полная непригодность покойников в хозяйстве — не имеет для Коробочки доказательной силы. «Уж это, точно, правда. Уж совсем ни на что не нужно; да ведь меня только и останавливает, что ведь они уже мертвые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робочка сохраняет взгляд на мир как на нечто целостное, пусть и на самом примитивном уровне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 2"/>
          <p:cNvSpPr/>
          <p:nvPr/>
        </p:nvSpPr>
        <p:spPr>
          <a:xfrm>
            <a:off x="285840" y="357120"/>
            <a:ext cx="85010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 ей представляется, что форма оказывает обратное действие на содержание, и отсюда (из вполне здорового чувства целого) — нелепое ее предположение, что Чичиков будет выкапывать купленных им мертвецов из земли. На победоносном пути Чичикова к богатству, основанному на фикции, на использовании отчужденной от содержания формы («ревизская сказка»), встает примитивное сознание «дубиноголовой» Коробочки, в котором форма и содержание сохраняют свое единство. И Чичиков не может преодолеть пассивного сопротивления этого сознания. Не случайно на стене у Коробочки между картин, где были изображены птицы, висел портрет Кутузова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амое интересное в том, что такое же сопротивление противоестественному отчуждению формы от содержания почувствует в своей душе и Чичиков, когда он начнет приводить в порядок купчие крепости на «мертвых душ». Вдруг эти души оживут и воскреснут в его воображении со своими яркими характерами, со своей индивидуальной судьбой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жая характеры помещиков, Гоголь часто прибегает к обобщениям, завершающим портреты этих героев. Манилова он сравнивает со слишком «умным министром». А о Коробочке говорит: «Впрочем, Чичиков напрасно сердился: иной и почтенный, и государственный даже человек, а на деле выходит совершенная Коробочка». Да и «точно ли Коробочка стоит так низко на бесконечной лестнице человеческого существования? Точно ли так велика пропасть, отделяющая ее от сестры ее, недосягаемо огражденной стенами аристократического дома...»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2"/>
          <p:cNvSpPr/>
          <p:nvPr/>
        </p:nvSpPr>
        <p:spPr>
          <a:xfrm>
            <a:off x="500040" y="285840"/>
            <a:ext cx="8286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бщения, ведущие к вершинам русского общества, придают характерам гоголевских помещиков всероссийское, общенациональное звучание. Перед нами не частные лица, не герои романа или повести, а персонажи поэмы, типы национального масшт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Рисунок 3" descr="чичиков у коробки.jpg"/>
          <p:cNvPicPr/>
          <p:nvPr/>
        </p:nvPicPr>
        <p:blipFill>
          <a:blip r:embed="rId1"/>
          <a:stretch/>
        </p:blipFill>
        <p:spPr>
          <a:xfrm>
            <a:off x="214200" y="1571760"/>
            <a:ext cx="3643560" cy="46432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кор.jpg"/>
          <p:cNvPicPr/>
          <p:nvPr/>
        </p:nvPicPr>
        <p:blipFill>
          <a:blip r:embed="rId2"/>
          <a:stretch/>
        </p:blipFill>
        <p:spPr>
          <a:xfrm>
            <a:off x="4143240" y="1571760"/>
            <a:ext cx="4286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2:30:53Z</dcterms:created>
  <dc:creator>User</dc:creator>
  <dc:description/>
  <dc:language>en-US</dc:language>
  <cp:lastModifiedBy>Customer</cp:lastModifiedBy>
  <dcterms:modified xsi:type="dcterms:W3CDTF">2010-02-08T12:42:08Z</dcterms:modified>
  <cp:revision>10</cp:revision>
  <dc:subject/>
  <dc:title>Следующий в галерее помещиков - Ноздрев. Кутила, картежник, пьяница, врун и скандалист - вот краткая характеристика Ноздрева. Это человек, как пишет автор, который имел страсть "нагадить ближнему, причем вовсе без всякой причины". Гоголь утверждает, что Ноздревы типичны для русского общества: "Ноздревы долго еще не выведутся из мира. Они везде между нами..." Беспорядочная натура Ноздрева отражается и в интерьере его комнат. Часть дома ремонтируется, мебель расставлена кое-как, но хозяина все это мало волнует. Он показывает гостям конюшню, в которой две кобылы, жеребец и козел. Потом хвалится волчонком, которого неизвестно зачем держит дома. Обед у Ноздрева приготовлен плохо, но зато спиртного в избытке. Попытка купить мертвые души едва не заканчивается для Чичикова трагично. Вместе с мертвыми душами Ноздрев хочет продать ему жеребца или шарманку, а потом предлагает сыграть в шашки на мертвых крестьян. Когда Чичиков возмущается нечестной игрой, Ноздрев зовет слуг, чтобы те избили несговорчивого гостя. Только появление капитана-исправника спасает Чичикова.</dc:title>
</cp:coreProperties>
</file>