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AB6-E027-4057-A80C-EE3EBFAC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F33-43A1-471A-A246-A7974EC9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306-C7D6-4298-8F19-81BA6A3A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F15-7529-4FE1-8349-9D586234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D92E-39C0-492D-AE07-B7583811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EF32-96DA-4978-BC2A-91A61862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FA60-F2CA-4A6A-BFC6-C4B3A0A9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89CF-703C-41A8-8153-942A96CC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8AD-C723-495F-A81C-6E74FE10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7B8B-FB71-44E1-B5CE-1E40707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0507-120B-444B-801D-896FDDA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5AB-F6A2-488A-91E0-F6DDEC07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5090-EC34-42E4-896B-5292C3F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173-9400-4439-B8CF-3F13F27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656B-F053-4DD6-9DC8-B83B8F06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7675-BCA6-408C-9F1A-B4735149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213F-9BB5-49D7-93F9-FE10A87C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B1E6-7374-4529-8ABE-6044E129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00B7-7A3C-4BB9-8CA9-1426EBF6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00BE-E8E2-4C49-841A-4891A83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8FE8-5DBA-40BD-AFCE-B36D46F7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1EEF-42F6-4AC7-9C23-1CF58B5D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FD4-4459-4457-A972-18A4C9F4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8C08-4005-4A90-AD36-F622B016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BD3A-6177-4234-AA5A-288E3E6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F2DC-380F-4C47-BC14-3ED0505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CD3C-7E93-4E92-8169-DCB39148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74D3-E6B2-4989-8F3D-A735085E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BC1D-5B34-467B-92D8-CA7E530F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6289-040E-420F-8BF5-71634D36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2674-25C0-4FE0-9811-A12B9278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7685E-E3A8-4A59-A402-12ED5995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583B-855E-4591-9516-58CB6862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561-BDAD-4439-BCE7-430691C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D0C05-8458-48CD-98E3-A4C07ACB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96A5-8377-4FED-AC90-55064476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829B-32EB-493C-8FDD-BDAC6BF3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79E4-B30C-4F38-AE49-CA54003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E882-62C8-45DF-8C55-A6FFF5A3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524A0-56F4-4E76-9D74-3AA4275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B22C-FD31-4124-9B26-7A465AC3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6DD41-F0CD-44BC-A8D1-DD62F083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4CD00-5970-493A-A901-3004DF6B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3887-B56A-4F72-80D2-40428357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290-A2DB-4E32-A2B0-362D78F5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C43A-59C5-4771-8663-DA2ABC2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BD157-A965-421F-A9BC-F5429111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A0A8D-54BE-4A92-B22F-84032C2E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97013-CC51-4AC5-BEAE-142CED68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06CD-1545-433E-9248-D64872F6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8823-EE01-4087-9CFA-2002FEA0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9350-A6C6-490F-B4E6-211CDBB2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F02E-B76B-426A-A197-D0BB6B58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0B3AA-9029-4D8F-BBD8-F2C51F12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9831-6899-40F9-9E3E-0C5DBDB5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437-80A9-4A7F-B6C8-4E9C5933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BB54-8820-4EEA-B7C0-9AFDCB10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1DCE-5F96-4A19-8210-E06BEE7F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BA53D-24A9-4BB5-89BD-95D8230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C4279-7776-489F-BE73-C2C3C60F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D3CA-5A58-46CB-BFD9-A9E3233F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D397E-C811-4EBD-B181-ADC4525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C50E9-9F51-4CFA-AC0B-123C33C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D47A-5AC1-4E3E-8920-A51BF0B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AA61B-754A-47FE-A3C7-5453740B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37F3E-1E7F-4567-AAA0-82CFB2C6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AF3-65E4-4BCA-9E51-D00A5CC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3A97B-00B7-4777-A1AB-4C8C5982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AA93E-DF83-48AF-B59F-51770157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0A02-386F-4B98-A5C6-B15F068C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5BD3B-E828-4AA4-9CA9-B3948F49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21CD3-DDE6-4B21-BCBD-2BA0CD7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23B6A-24B3-4985-B999-8869F2E1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099D5-B536-4951-BD61-66011F86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8B83-2A9A-49C3-B1F3-8BF604CA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E4D28-6314-4FB8-8111-BAFA6E2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41245-40B4-4E02-BCD9-5CDA986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3F0-ADBB-4AEF-9FDF-14BE6EF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61D8B-9C5B-49E4-92C6-BF6BE72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7C80D-1A9E-49AF-9294-C5EA9D0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B0D08-C5AD-4C5D-88E1-31DB8131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14685-B77D-4528-A99B-6751FBBA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08EE3-594A-43B0-AAE8-59BDFE8A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B9F-7267-4870-B2BA-A180852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123-401E-4669-B2E2-C447CFE9CD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3CE8-C9E1-478C-9A78-4C415677F8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9747-031E-4757-83AD-0EC3FC5243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151-0641-43A8-87BF-0D93F56A5C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6C9E-5D59-4442-BDF5-F55BD68322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58DE-3669-47CB-AC98-A33C428558F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AA79-4420-4AC5-8764-BFEDBA0A7B4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длорпа.jpg"/>
          <p:cNvPicPr/>
          <p:nvPr/>
        </p:nvPicPr>
        <p:blipFill>
          <a:blip r:embed="rId2"/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35080" y="13644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лена: Чувашов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ой Владимиров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здлорпа.jpg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2" descr="плющ.jpg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b80a"/>
                </a:solidFill>
                <a:latin typeface="Corbel"/>
              </a:rPr>
              <a:t>Характеристика </a:t>
            </a:r>
            <a:br>
              <a:rPr sz="5400"/>
            </a:br>
            <a:r>
              <a:rPr b="0" lang="en-US" sz="5400" spc="-1" strike="noStrike">
                <a:solidFill>
                  <a:srgbClr val="feb80a"/>
                </a:solidFill>
                <a:latin typeface="Corbel"/>
              </a:rPr>
              <a:t> помещика </a:t>
            </a:r>
            <a:br>
              <a:rPr sz="5400"/>
            </a:br>
            <a:r>
              <a:rPr b="0" lang="en-US" sz="5400" spc="-1" strike="noStrike">
                <a:solidFill>
                  <a:srgbClr val="feb80a"/>
                </a:solidFill>
                <a:latin typeface="Corbel"/>
              </a:rPr>
              <a:t>Плюшкин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94920" y="2428560"/>
            <a:ext cx="80722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лное моральное оскуднение, потеря человеческих качеств характерны для Плюшкина. Автор по праву окрестил его "прорехой на человечестве". Говоря о Плюшкине, Гоголь разоблачает ужасы крепостного права. Облекая в форму легкой шутки, Гоголь сообщает страшные вещи о том, что Плюшкин - "мошенник, всех людей переморил голодом, что в тюрьме колодники лучше живут, чем крепостные его". За 'последние три года у Плюшкина умерло 80 человек. С жуткой миной полусумасшедшего он заявляет, что "народ-то больно прожорлив у него, от праздности завел привычку трескать". Около 70 крестьян у Плюшкина сбежало, стало людьми вне закона, не вытерпев голодной жизни. Дворовые его до поздней зимы бегают босыми, так как скупой Плюшкин имеет одни сапоги на всех, да и то надеваются они только тогда, когда дворовые входят в сени барского дома. Плюшкин и ему подобные тормозили хозяйственное развитие России: "На обширной территории поместья Плюшкина (а у него примерно 1000 душ) экономическая жизнь замерла: перестали двигаться мельницы, валяльни, суконные фабрики, столярные станки, прядильни; сено и хлеб гнили, клади и стога обращались в чистый навоз, мука превращалась в камень, к сукнам. холстам и домашним материям страшно было прикоснутьс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214200" y="142920"/>
            <a:ext cx="8929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 между тем в хозяйстве доход собирался по-прежнему, по-прежнему нес оброк мужик, несла холст баба. Все это сваливалось в кладовые, и все это становилось гнилью и прахом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истине "смех сквозь слезы"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люшкин и другие помещики, представленные Гоголем, "списаны с жизни;". являются порождением определенной социальной среды. Плюшкин был когда-то умным, бережливым хозяином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357120" y="714240"/>
            <a:ext cx="850104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Мебель в доме и пейзаж всего окружаю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&lt;…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еревня показалась ему довольно велика; два леса, березовый и сосновый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ак два крыла, одно темнее, другое светлее,  были  у  ней  справа  и  слев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реди виднелся деревянный дом с мезонином, красной крышей и  темными  ил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лучше, дикими стенами, - дом  вроде  тех,  как  у  нас  строят  для  военных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елений и немецких колонистов…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.&gt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395280" y="3645000"/>
            <a:ext cx="8572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&lt;…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Двор окружен был  крепкою  и  непомерно  толстою  деревянною  решеткой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мещик, казалось, хлопотал много о прочности. На  конюшни,  сараи  и  кухн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были употреблены полновесные  и  толстые  бревна,  определенные  на  веково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тояние. Деревенские избы  мужиков  тож  срублены  были  на  диво:  не  было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ирчьных стен, резных узоров и прочих затей, но все было пригнано  плотно  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ак следует. Даже колодец был обделан в такой крепкий дуб, какой идет только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на мельницы да на корабли. Словом, все, на что ни глядел он, было  упористо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без пошатки, в каком-то крепком и неуклюжем порядке.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…&gt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плющк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2" descr="плющки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2-08T12:44:19Z</dcterms:modified>
  <cp:revision>7</cp:revision>
  <dc:subject/>
  <dc:title>Слайд 1</dc:title>
</cp:coreProperties>
</file>