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9606-B426-4BB3-A602-6DFA735C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9F2D-9DF6-4600-BF15-5C70301B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6FD2-011A-469D-A7DF-87709F86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9C93-0DFE-4FEB-BE16-218CCB55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C53D-9F67-4131-A01E-F20B31B6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4233-E2A7-4310-9827-9FC1586E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3983-C8C8-435F-82BB-0E84613B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0FF0-2D1F-475E-B170-4C1FDC37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D6A7-886B-433F-A88D-0D892D2C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361A-8A41-4CA8-891A-D212598E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47B1-4DC6-43C0-9906-7D0BB4D4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0816-3D67-4738-B8F4-1FD7ACDB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3BE0-E6E8-4C2C-9234-E49A85F5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390B-1243-4F74-A014-BCE5D5B2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7160-6906-4F53-A230-152A7C1A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2CC8-3372-4CB8-9D71-DB658FB2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B7CA-F8BC-4933-8E9A-995275D9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3012-2CE9-4023-8976-971C7194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0FCB-FCE0-426C-87CD-D8A68B39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4CBF-B79A-4722-82DD-578A26BF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5CF8-CE4F-4DEB-B897-47FAE10B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24B5-C5EE-4732-A041-993290AB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9A50-EDC9-4060-937E-578C218E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766E-037D-4857-A443-DB59F5B4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F5F4-EC28-423B-9EA1-13413539D2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48A5-13D0-4DED-A2E5-917FD1FB17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403280" y="1484280"/>
            <a:ext cx="640872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Помещик Манилов</a:t>
            </a:r>
            <a:endParaRPr b="1" i="1" lang="en-US" sz="4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64" name=""/>
          <p:cNvSpPr/>
          <p:nvPr/>
        </p:nvSpPr>
        <p:spPr>
          <a:xfrm>
            <a:off x="5851440" y="5897520"/>
            <a:ext cx="307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лена: Чувашов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леной Владимиров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Проблем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«…Уже более недели приезжий господин жил в  городе, разъезжая по вечеринкам и обедам и таким образом проводя, как говорится, очень приятно время. Наконец он решил перенести свои визиты за город и навестить помещиков Манилова и Собакевича, которым дал слово. Может быть, к сему побудила его другая, более существенная причина, дело более серьёзное, близшее к сердцу…»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Усадьба помещи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«…Дом господский стоял одиночкой на юрту, то есть на возвышение, открытом всем ветрам, каким только вздумается подуть; покатость горы, на которой он стоял, была одета подстриженным дерном. На ней были разбросаны по-английски две-три клумбы с кустами сиреней и желтых акаций; пять-шесть берёз небольшими купами кое-где возносили свои мелколистные жиденькие вершины. Под двумя из них видна была беседка с плоским зеленым куполом, деревянными голубыми колоннами и надписью: «Храм уединенного размышления»; пониже пруд, покрытый зеленью, что, впрочем, не в диковинку в аглицких садах русских помещиков. У подошвы этого возвышения, и частию по самому скату, темнели вдоль и поперек серенькие бревенчатые избы, которые герой наш, неизвестно по каким причинам, в ту ж минуту принялся считать и на- считал более двухсот; нигде между ними растущего деревца или какой-нибудь зелени; везде глядело только одно бревно…»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Мебель дома Манилов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«…В доме его чего-нибудь вечно недоставало: в гостиной стояла прекрасная мебель, обтянутая щегольской шелковой материей, которая, верно, стоила весьма недешево: но на два кресла ее недостало, и кресла стояли обтянуты просто рогожею; впрочем хозяин в продолжение нескольких лет всякий раз предостерегал своего гости словами: «Не садитесь на эти кресла, они еще не готовы». Виной комнате и вовсе не было мебели, хотя и было говорено в первые дни после женитьбы: «Душенька, нужно будет завтра похлопотать, чтобы в эту комнату хоть на время поставить мебель». Ввечеру подавался на стол очень щегольской подсвечник из темной бронзы с тремя античными грациями, с перламутным щегольским щитом, и рядом с ним ставился какой-то просто медный инвалид, хромой, свернувшийся на сторону и весь в сале, хотя этого не замечал ни хозяин, ни хозяйка, ни слуги…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Портрет Манилова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«…Гораздо легче изображать характеры большого размера: там просто бросай краски со всей руки на полотно; чёрные палящие глаза, нависшие брови, перерезанный морщиною лоб, перекинутый через плечо черный или алый, как огонь, плащ — и портрет готов; но вот эти все господа, которых много на свете, которые с вида очень похожи между собою, а между тем как приглядишься, увидишь много самых неуловимых особенностей,— эти господа страшно трудны для портретов. Тут придется сильно напрягать внимание, пока заставишь перед собою выступить все тонкие, почти невидимые черты, и вообще далеко придется углублять уже изощренный в науке выпытывания взгля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Один бог разве мог сказать, какой был характер Манилова. Есть род людей, известных под именем: люди так себе, ни то ни се, ни в городе Богдан ни в селе Селифан, по словам пословицы. Может быть, к ним следует примкнуть и Манилова. На взгляд он был человек видный; черты лица его были не лишены приятности, но в эту приятность, казалось, чересчур было передано сахару; в приемах и оборотах его было что-то заискивающее расположения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знакомства. Он улыбался заманчиво, был белокур, с голубыми глазами. В первую минуту разговора с ним не можешь не сказать: «Какой приятный и добрый человек!» В следующую за тем минуту ничего не скажешь, а в третью скажешь: «Черт знает что такое!» — и отойдешь подальше; если ж не отойдешь, почувствуешь скуку смертельную. От него не дождешься никакого живого или хоть даже заносчивого слова, какое можешь услышать почти от всякого, если коснешься задирающего его предмета. У всякого есть свой задор: у одного задор обратился на борзых собак; другому, кажется, что он сильный любитель музыки и удивительно чувствует все глубокие места в ней; третий мастер лихо пообедать; четвертый сыграть роль хоть одним вершком повыше той, которая ему назначена; пятый, с желанием более ограниченным, спит и грезит о том, как бы пройтиться на гулянье с флигель-адъютантом, напоказ своим приятелям, знакомым и даже незнакомым, шестой уже одарен такою рукою, которая чувствует желание сверхъестественное заломить угол какому-нибудь бубновому тузу или двойке, тогда как рука седьмого, так, и лезет произвести где-нибудь порядок, подобраться поближе к личности станционного смотрителя или ямщиков,— словом, у всякого есть свое, но у Манилова ничего не было. Дома он говорил очень мало и большею частию размышлял и думал, но о чем он думал, тоже разве богу было известн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Хозяйством нельзя сказать, чтобы он занимался, он даже никогда не ездил на поля, хозяйство шло как-то само собою. Когда приказчик говорил: «Хорошо бы, барин, то и то сделать»,— «Да, недурно»,— отвечал он обыкновенно, куря трубку, которую курить, сделал привычку, когда еще служил в армии, где считался скромнейшим, деликатнейшим и образованнейшим офицером. «Да, именно недурно»,— повторял он. Когда приходил к нему мужик и, почесавши рукою затылок, говорил: «Барин, позволь отлучиться на работу, подать заработать»,— «Ступай»,— говорил он, куря трубку, и ему даже в голову не приходило, что мужик шел пьянствовать. Иногда, глядя с крыльца на двор и на пруд, говорил он о том, как бы хорошо было, если бы вдруг от дома провести подземный ход или чрез пруд выстроить каменный мост, на котором бы были по обеим сторонам лавки, и чтобы в них сидели купцы и продавали разные мелкие товары, нужные для крестьян. При этом глаза его делались чрезвычайно сладкими, и лицо принимало самое довольное выражение; впрочем, все эти прожекты так и оканчивались только одними словами. В его кабинете всегда лежала какая-то заложенная закладкою на четырнадцатой странице, которую он постоянно читал уже два года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Monotype Corsiva"/>
              </a:rPr>
              <a:t>Спасибо за внимание, доклад окончен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1:03:01Z</dcterms:created>
  <dc:creator>1</dc:creator>
  <dc:description/>
  <dc:language>en-US</dc:language>
  <cp:lastModifiedBy>Customer</cp:lastModifiedBy>
  <dcterms:modified xsi:type="dcterms:W3CDTF">2010-02-08T12:45:30Z</dcterms:modified>
  <cp:revision>5</cp:revision>
  <dc:subject/>
  <dc:title>Помещик Манилов</dc:title>
</cp:coreProperties>
</file>