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489F-DD67-429C-B2B5-DAC7F7A8A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C8ED-D7CB-4BC0-824D-BF685D9F1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894A-A3BE-4FBA-8808-F60240FD4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B2EE-DF6B-4E46-A72B-4493F5B1D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B8B8E-3FDF-4AB1-AAB4-DE853AB7D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0B0C3-626D-4F16-92F7-8A7C32749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78A91-A0B7-4AC4-8B6E-DCCB9AD6D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11083-D977-401E-958E-219AD3DD0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9380C-3D15-4C79-9D96-666BD4378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74F22-B812-4E10-95E7-FB8EACCF5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8AC1C-5ABA-4F8F-95C2-4D20DABA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6CDB-8354-4C3B-A3F3-8F5BB5377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760EB-A409-4BEA-95CF-1D6E1593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20C9E-E657-446F-A9E3-6391173F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7DE3A-C77D-44FF-8129-262A64545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2ED2D-7715-4E3B-A5D0-6594C1694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2F9CE-1288-4B89-9E24-36208371A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988B-CF65-43F3-8E7E-A17CFBF73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37D1-3E8A-4839-94DE-408D9CF2B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EDBC-24F0-4028-993D-98B27F58E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6560-A502-451C-840D-205F9D34A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87AD-837E-4776-B222-848BA994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4CDA-70D9-4B6F-82B5-CE671DFB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B5AD-C8CA-4D0C-AFF7-6BE0726C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E0A89-A75C-4874-A71F-5AB898E48E7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3CC8C-8766-4F37-B85B-FF6948700BA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ffff"/>
                </a:solidFill>
                <a:latin typeface="Garamond"/>
              </a:rPr>
              <a:t>MODAL VERBS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UNIT 14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GRAMMAR LESS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en-US" sz="3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 for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 rot="20301000">
            <a:off x="756000" y="10522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20443200">
            <a:off x="900360" y="58766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627280" y="15573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0613600">
            <a:off x="5003640" y="980640"/>
            <a:ext cx="17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HO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732720" y="47973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AN’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8198600">
            <a:off x="552600" y="46404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USTN’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1352400">
            <a:off x="6803280" y="162864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HOULDN’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802800">
            <a:off x="3924000" y="5229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ULDN’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0"/>
                            </p:stCondLst>
                            <p:childTnLst>
                              <p:par>
                                <p:cTn id="6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6000"/>
                            </p:stCondLst>
                            <p:childTnLst>
                              <p:par>
                                <p:cTn id="7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7000"/>
                            </p:stCondLst>
                            <p:childTnLst>
                              <p:par>
                                <p:cTn id="8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МОДАЛЬНЫЕ ГЛАГОЛЫ -ЭТО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это глаголы, обозначающие не само действие, а отношение к нему говорящег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AN-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МЕ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UST-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ЛЖЕ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HOULD-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ЛЕДУ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2021040" cy="13114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11280" y="2781360"/>
            <a:ext cx="1689120" cy="18129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324000" y="4508640"/>
            <a:ext cx="2160360" cy="20872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627280" y="1916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 CAN SWIM 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3357720"/>
            <a:ext cx="259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 MUST STUD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52293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 SHOULD KEEP 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МОДАЛЬНЫЕ ГЛАГОЛЫ -ЭТО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глаголы ,которые не имеют формы инфинитива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Глаголы ,которые  не принимают окончание -</a:t>
            </a:r>
            <a:r>
              <a:rPr b="1" lang="ru-RU" sz="1800" spc="-1" strike="noStrike">
                <a:solidFill>
                  <a:srgbClr val="660033"/>
                </a:solidFill>
                <a:latin typeface="Verdana"/>
              </a:rPr>
              <a:t>s,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-</a:t>
            </a:r>
            <a:r>
              <a:rPr b="1" lang="ru-RU" sz="1800" spc="-1" strike="noStrike">
                <a:solidFill>
                  <a:srgbClr val="660033"/>
                </a:solidFill>
                <a:latin typeface="Verdana"/>
              </a:rPr>
              <a:t>es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в 3-ем лице единственного числа </a:t>
            </a:r>
            <a:r>
              <a:rPr b="1" lang="ru-RU" sz="1800" spc="-1" strike="noStrike">
                <a:solidFill>
                  <a:srgbClr val="660033"/>
                </a:solidFill>
                <a:latin typeface="Verdana"/>
              </a:rPr>
              <a:t>Present Indefinite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Глаголы ,после которых инфинитив другого глагола употребляется без частицы </a:t>
            </a:r>
            <a:r>
              <a:rPr b="1" lang="ru-RU" sz="1800" spc="-1" strike="noStrike">
                <a:solidFill>
                  <a:srgbClr val="660033"/>
                </a:solidFill>
                <a:latin typeface="Verdana"/>
              </a:rPr>
              <a:t>to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ни образуют вопросительную и отрицательную формы без вспомогательного глагола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8320" y="1557360"/>
            <a:ext cx="403848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ust-  to must-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mus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 can- She cans-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she c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y should to study wel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should stud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ry can drive a c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_______he drive a car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e ______ not drive a pla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5940360" y="1557360"/>
            <a:ext cx="863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6012000" y="1484280"/>
            <a:ext cx="720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43640" y="2565360"/>
            <a:ext cx="504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6372000" y="256536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588000" y="3357720"/>
            <a:ext cx="79236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6732360" y="3429000"/>
            <a:ext cx="647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76720" y="4797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51640" y="5157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660033"/>
                                      </p:to>
                                    </p:animClr>
                                    <p:set>
                                      <p:cBhvr>
                                        <p:cTn id="17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660033"/>
                                      </p:to>
                                    </p:animClr>
                                    <p:set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660033"/>
                                      </p:to>
                                    </p:animClr>
                                    <p:set>
                                      <p:cBhvr>
                                        <p:cTn id="20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660033"/>
                                      </p:to>
                                    </p:animClr>
                                    <p:set>
                                      <p:cBhvr>
                                        <p:cTn id="20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660033"/>
                                      </p:to>
                                    </p:animClr>
                                    <p:set>
                                      <p:cBhvr>
                                        <p:cTn id="23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660033"/>
                                      </p:to>
                                    </p:animClr>
                                    <p:set>
                                      <p:cBhvr>
                                        <p:cTn id="23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51,0,102)"/>
                                      </p:to>
                                    </p:set>
                                    <p:set>
                                      <p:cBhvr>
                                        <p:cTn id="26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51,0,102)"/>
                                      </p:to>
                                    </p:set>
                                    <p:set>
                                      <p:cBhvr>
                                        <p:cTn id="26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mph" presetID="5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6" dur="indefinite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267" dur="indefinite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8" dur="indefinite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51,0,102)"/>
                                      </p:to>
                                    </p:set>
                                    <p:set>
                                      <p:cBhvr>
                                        <p:cTn id="2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51,0,102)"/>
                                      </p:to>
                                    </p:set>
                                    <p:set>
                                      <p:cBhvr>
                                        <p:cTn id="2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remove" presetClass="emph" presetID="5" presetSubtype="3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4" dur="indefinite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285" dur="indefinite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6" dur="indefinite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Can / could</a:t>
            </a:r>
            <a:br>
              <a:rPr sz="4000"/>
            </a:b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44956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Этот модальный глагол имеет две формы: can - для настоящего времени, could - для прошедшего. Употребляется 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ля выражения возможности или способности совершения действ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ля выражения умения в прошло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ля выражения разрешения совершить действи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ля выражения запрет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овершить действи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16000" y="836640"/>
            <a:ext cx="40388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udy these examp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he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an speak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English well but she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an't write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it at all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Bill and Jenny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couldn't come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to the party last week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an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we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go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ome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?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Yes, you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can go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ou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an't speak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at the lesson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13600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9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2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5" dur="10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8" dur="10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1" dur="100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Must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/mustn’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283760"/>
            <a:ext cx="4495680" cy="55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лагол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must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употребляетс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ля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необходимости произвести действие в настоящем или будущем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ля соблюдения прави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ля обозначения настоятельного сове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ля выражения запрещени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8320" y="1483920"/>
            <a:ext cx="44956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udy these ex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ust go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You must be home by 10p.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You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ust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come and see my new fla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You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mustn't do it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4752720" cy="5040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219640" y="1413000"/>
            <a:ext cx="392436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3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SHOULD/ SHOULDN’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потребляетс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чтобы 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ать сов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советовать, что не следует дела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ыразить совет можно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hy don’t you…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 think it’s a good ide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 don’t think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Study these examp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Tom should go to bed earlier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,because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he's always tired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You work all the time. You shouldn't work so har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hy don’t you go to bed earlier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 think it’s a good idea to see i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 don’t think it’s a good idea to  cross the street he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4753080" cy="4537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148360" y="1557360"/>
            <a:ext cx="35510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000"/>
                            </p:stCondLst>
                            <p:childTnLst>
                              <p:par>
                                <p:cTn id="5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000"/>
                            </p:stCondLst>
                            <p:childTnLst>
                              <p:par>
                                <p:cTn id="5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2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9T15:21:11Z</dcterms:created>
  <dc:creator>Владимир</dc:creator>
  <dc:description/>
  <dc:language>en-US</dc:language>
  <cp:lastModifiedBy>Владимир</cp:lastModifiedBy>
  <dcterms:modified xsi:type="dcterms:W3CDTF">2008-01-19T16:58:34Z</dcterms:modified>
  <cp:revision>2</cp:revision>
  <dc:subject/>
  <dc:title>Слайд 1</dc:title>
</cp:coreProperties>
</file>