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3.jpeg" ContentType="image/jpeg"/>
  <Override PartName="/ppt/media/image21.jpeg" ContentType="image/jpeg"/>
  <Override PartName="/ppt/media/chimes.wav" ContentType="audio/x-wav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9.gif" ContentType="image/gif"/>
  <Override PartName="/ppt/media/image14.jpeg" ContentType="image/jpeg"/>
  <Override PartName="/ppt/media/image13.jpeg" ContentType="image/jpeg"/>
  <Override PartName="/ppt/media/image40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16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1B58-C075-4689-8596-942AE4D15F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1FE9-B269-4826-A8BA-97F885AA6A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BEF7-45E4-4927-8BAD-21B366C8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74EE-210B-4CC9-8748-D0928212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9F9C-D402-4060-8B5D-9D507B71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50AC-66A1-4B17-BC26-8D9463777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42B2-7B20-4EBF-BE77-F109171F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780A-67FE-484B-80FB-F3F5371D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EAAA-808A-4772-BDE4-F58CEBF6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9BCD-A439-4DD0-9E2B-36C09FEA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96BA-9CD4-4F1B-9178-F087A940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3894-D425-47C4-A175-8182D96E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F355-7327-48D4-AEB2-63A3E4BC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81A-1C7D-437D-8B18-C50C13C7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8142-E7DC-4B5E-9205-F766F53390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image" Target="../media/image41.png"/><Relationship Id="rId13" Type="http://schemas.openxmlformats.org/officeDocument/2006/relationships/image" Target="../media/image41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image" Target="../media/image41.png"/><Relationship Id="rId17" Type="http://schemas.openxmlformats.org/officeDocument/2006/relationships/image" Target="../media/image41.png"/><Relationship Id="rId18" Type="http://schemas.openxmlformats.org/officeDocument/2006/relationships/image" Target="../media/image41.png"/><Relationship Id="rId19" Type="http://schemas.openxmlformats.org/officeDocument/2006/relationships/image" Target="../media/image41.png"/><Relationship Id="rId20" Type="http://schemas.openxmlformats.org/officeDocument/2006/relationships/image" Target="../media/image41.png"/><Relationship Id="rId21" Type="http://schemas.openxmlformats.org/officeDocument/2006/relationships/image" Target="../media/image41.png"/><Relationship Id="rId22" Type="http://schemas.openxmlformats.org/officeDocument/2006/relationships/image" Target="../media/image41.png"/><Relationship Id="rId23" Type="http://schemas.openxmlformats.org/officeDocument/2006/relationships/image" Target="../media/image41.png"/><Relationship Id="rId24" Type="http://schemas.openxmlformats.org/officeDocument/2006/relationships/image" Target="../media/image41.png"/><Relationship Id="rId25" Type="http://schemas.openxmlformats.org/officeDocument/2006/relationships/image" Target="../media/image41.png"/><Relationship Id="rId26" Type="http://schemas.openxmlformats.org/officeDocument/2006/relationships/image" Target="../media/image41.png"/><Relationship Id="rId2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ocls.kyivlibs.org.ua/ahmatova/ahmatova_gallery/catalog.htm" TargetMode="External"/><Relationship Id="rId3" Type="http://schemas.openxmlformats.org/officeDocument/2006/relationships/hyperlink" Target="http://ocls.kyivlibs.org.ua/ahmatova/ahmatova_gallery/catalog.htm" TargetMode="External"/><Relationship Id="rId4" Type="http://schemas.openxmlformats.org/officeDocument/2006/relationships/hyperlink" Target="http://www.gov.spb.ru/culture/culture_history/literature" TargetMode="External"/><Relationship Id="rId5" Type="http://schemas.openxmlformats.org/officeDocument/2006/relationships/hyperlink" Target="http://www.gov.spb.ru/culture/culture_history/literature" TargetMode="External"/><Relationship Id="rId6" Type="http://schemas.openxmlformats.org/officeDocument/2006/relationships/hyperlink" Target="http://www.topos.ru/" TargetMode="External"/><Relationship Id="rId7" Type="http://schemas.openxmlformats.org/officeDocument/2006/relationships/hyperlink" Target="http://www.topos.ru/article/665/printed" TargetMode="External"/><Relationship Id="rId8" Type="http://schemas.openxmlformats.org/officeDocument/2006/relationships/hyperlink" Target="http://www.kmvline.ru/" TargetMode="External"/><Relationship Id="rId9" Type="http://schemas.openxmlformats.org/officeDocument/2006/relationships/hyperlink" Target="http://www.claw.ru/book8/2050.htm" TargetMode="External"/><Relationship Id="rId10" Type="http://schemas.openxmlformats.org/officeDocument/2006/relationships/hyperlink" Target="http://www.sobranie.org/" TargetMode="External"/><Relationship Id="rId11" Type="http://schemas.openxmlformats.org/officeDocument/2006/relationships/hyperlink" Target="http://www.www.world-art.ru/people.php?id=3331" TargetMode="External"/><Relationship Id="rId12" Type="http://schemas.openxmlformats.org/officeDocument/2006/relationships/hyperlink" Target="http://www.hrono.info/biograf/blok.html" TargetMode="External"/><Relationship Id="rId13" Type="http://schemas.openxmlformats.org/officeDocument/2006/relationships/hyperlink" Target="http://alexander-block.ru/alexander-blok-sokolov-1961.html" TargetMode="External"/><Relationship Id="rId14" Type="http://schemas.openxmlformats.org/officeDocument/2006/relationships/hyperlink" Target="http://www.pseudology.org/" TargetMode="External"/><Relationship Id="rId15" Type="http://schemas.openxmlformats.org/officeDocument/2006/relationships/hyperlink" Target="http://www.x-top.org/prikol/cat1/subcat4321/page_14/" TargetMode="External"/><Relationship Id="rId16" Type="http://schemas.openxmlformats.org/officeDocument/2006/relationships/hyperlink" Target="http://www.x-top.org/prikol/cat1/subcat4321/page_14/" TargetMode="External"/><Relationship Id="rId17" Type="http://schemas.openxmlformats.org/officeDocument/2006/relationships/hyperlink" Target="http://zn-gippius.ouc.ru/" TargetMode="External"/><Relationship Id="rId18" Type="http://schemas.openxmlformats.org/officeDocument/2006/relationships/hyperlink" Target="http://zn-gippius.ouc.ru/" TargetMode="External"/><Relationship Id="rId19" Type="http://schemas.openxmlformats.org/officeDocument/2006/relationships/hyperlink" Target="http://photoluck.ru/albums/userpics/10001/giraff~1.jpg" TargetMode="External"/><Relationship Id="rId20" Type="http://schemas.openxmlformats.org/officeDocument/2006/relationships/hyperlink" Target="http://photoluck.ru/albums/userpics/10001/giraff~1.jpg" TargetMode="External"/><Relationship Id="rId21" Type="http://schemas.openxmlformats.org/officeDocument/2006/relationships/hyperlink" Target="http://photo.tsvetayeva.com/" TargetMode="External"/><Relationship Id="rId22" Type="http://schemas.openxmlformats.org/officeDocument/2006/relationships/hyperlink" Target="http://photo.tsvetayeva.com/" TargetMode="External"/><Relationship Id="rId23" Type="http://schemas.openxmlformats.org/officeDocument/2006/relationships/hyperlink" Target="http://www.decadence.ru/decadents/balmont.php" TargetMode="External"/><Relationship Id="rId24" Type="http://schemas.openxmlformats.org/officeDocument/2006/relationships/hyperlink" Target="http://slova.org.ru/bunin/about/" TargetMode="External"/><Relationship Id="rId25" Type="http://schemas.openxmlformats.org/officeDocument/2006/relationships/hyperlink" Target="http://www.museum.ru/alb/image.asp?5047" TargetMode="External"/><Relationship Id="rId26" Type="http://schemas.openxmlformats.org/officeDocument/2006/relationships/hyperlink" Target="http://art.rin.ru/cgi-bin/index.pl?id=52&amp;start=11&amp;page=18&amp;work=4&amp;art=229" TargetMode="External"/><Relationship Id="rId27" Type="http://schemas.openxmlformats.org/officeDocument/2006/relationships/hyperlink" Target="http://www.picture.art-catalog.ru/picture.php?id_picture=4331" TargetMode="External"/><Relationship Id="rId28" Type="http://schemas.openxmlformats.org/officeDocument/2006/relationships/hyperlink" Target="http://2005.novayagazeta.ru/nomer/2005/31n/n31n-s24.shtml" TargetMode="External"/><Relationship Id="rId29" Type="http://schemas.openxmlformats.org/officeDocument/2006/relationships/hyperlink" Target="http://www.silverage.ru/poets/merezhk_bio.html" TargetMode="External"/><Relationship Id="rId30" Type="http://schemas.openxmlformats.org/officeDocument/2006/relationships/hyperlink" Target="http://www.bashvest.ru/showinf.php?id=7694" TargetMode="External"/><Relationship Id="rId31" Type="http://schemas.openxmlformats.org/officeDocument/2006/relationships/hyperlink" Target="http://www.cvetaeva.org.ru/chapter-al-bk-385/" TargetMode="External"/><Relationship Id="rId32" Type="http://schemas.openxmlformats.org/officeDocument/2006/relationships/hyperlink" Target="http://www.pseudology.org/Slonim/SlonimMark2.htm" TargetMode="External"/><Relationship Id="rId33" Type="http://schemas.openxmlformats.org/officeDocument/2006/relationships/hyperlink" Target="http://schools.keldysh.ru/school1413/lit/Web_lit_med/kr_hr.htm" TargetMode="External"/><Relationship Id="rId34" Type="http://schemas.openxmlformats.org/officeDocument/2006/relationships/hyperlink" Target="http://abursh.sytes.net/rusart/graphics/syskov/defaultr.htm" TargetMode="External"/><Relationship Id="rId35" Type="http://schemas.openxmlformats.org/officeDocument/2006/relationships/hyperlink" Target="http://www.v-mayakovsky.narod.ru/books.html" TargetMode="External"/><Relationship Id="rId36" Type="http://schemas.openxmlformats.org/officeDocument/2006/relationships/hyperlink" Target="http://www.bashvest.ru/showinf.php?id=9459" TargetMode="External"/><Relationship Id="rId37" Type="http://schemas.openxmlformats.org/officeDocument/2006/relationships/hyperlink" Target="http://download.world-art.ru/people.php?id=31312" TargetMode="External"/><Relationship Id="rId38" Type="http://schemas.openxmlformats.org/officeDocument/2006/relationships/hyperlink" Target="http://www.litera.ru/stixiya/authors/bunin/bledneet-noch-tumanov.html" TargetMode="External"/><Relationship Id="rId3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gif"/><Relationship Id="rId4" Type="http://schemas.openxmlformats.org/officeDocument/2006/relationships/image" Target="../media/image30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image" Target="../media/image41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5"/>
          <p:cNvSpPr/>
          <p:nvPr/>
        </p:nvSpPr>
        <p:spPr>
          <a:xfrm>
            <a:off x="285840" y="500040"/>
            <a:ext cx="8429400" cy="61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Электронная книг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«Серебряный век русской поэз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I </a:t>
            </a: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ча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Живопись символиз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             </a:t>
            </a:r>
            <a:r>
              <a:rPr b="1" lang="ru-RU" sz="2000" spc="-1" strike="noStrike">
                <a:solidFill>
                  <a:srgbClr val="ffff00"/>
                </a:solidFill>
                <a:latin typeface="Bookman Old Style"/>
              </a:rPr>
              <a:t>автор-составитель Сосина Ольга Викто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Bookman Old Style"/>
              </a:rPr>
              <a:t>           </a:t>
            </a:r>
            <a:r>
              <a:rPr b="1" lang="ru-RU" sz="2000" spc="-1" strike="noStrike">
                <a:solidFill>
                  <a:srgbClr val="ffff00"/>
                </a:solidFill>
                <a:latin typeface="Bookman Old Style"/>
              </a:rPr>
              <a:t>учитель литературы МОУ Заволжского лице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Bookman Old Style"/>
              </a:rPr>
              <a:t>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Bookman Old Style"/>
              </a:rPr>
              <a:t>г. Заволжска Ивановской об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Bookman Old Style"/>
              </a:rPr>
              <a:t>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Bookman Old Style"/>
              </a:rPr>
              <a:t>2006-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607320" y="6357960"/>
            <a:ext cx="34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омпозитор  Д.Шостакович Квинтет  соль мин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Шостакович квинтет Прелюдия и фуга2.wma" descr=""/>
          <p:cNvPicPr/>
          <p:nvPr/>
        </p:nvPicPr>
        <p:blipFill>
          <a:blip r:embed="rId2"/>
          <a:stretch/>
        </p:blipFill>
        <p:spPr>
          <a:xfrm>
            <a:off x="7858080" y="4071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2571840" y="0"/>
            <a:ext cx="38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сточни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285840" y="357120"/>
            <a:ext cx="8858160" cy="75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узы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.ван Бетховен. Аппассиона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иг Э. Валь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царт  В.-А. Рекви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аганини Концерт № 4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eg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Шопен Ф. Вальс № 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узыкальная тема из репертуара группы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tallika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»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call of ctulu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линка М.Жавороно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хманинов  С.Вокализ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хманинов С. Симфония №3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хманинов  С. Концерт № 2 для фортепиано с оркестр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виридов Г. Музыкальные иллюстрации к повести Пушкина «Метель». Роман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3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равинский И.Ф. Фрагмент балета «Петрушка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3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айковский П.И. Баркарола(Июнь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3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айковский П.И. Сладкая грёз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37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Шостакович Д. Квинтет соль мино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37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Шостакович Д. Симфония № 7 до мино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37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узыкальная тема из репертуара группы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Ария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37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минова С. Вариация к блоковскому «Ночь, улица…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37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37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12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12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12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2571840" y="0"/>
            <a:ext cx="38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сточни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214200" y="301680"/>
            <a:ext cx="8929800" cy="65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айты Интерн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ocls.kyivlibs.org.ua/ahmatova/ahmatova_gallery/catalog.htm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mir-chudes.narod.r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gov.spb.ru/culture/culture_history/literatur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topos.r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topos.ru/article/665/printed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kmvline.r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claw.ru/book8/2050.htm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Sobranie.or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www.www.world-art.ru/people.php?id=333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knigorod.gmsib.r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www.hrono.info/biograf/blok.html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alexander-block.ru/alexander-blok-sokolov-1961.html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pseudology.or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x-top.org/prikol/cat1/subcat4321/page_14/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://zn-gippius.ouc.ru/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http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photoluck.ru/albums/userpics/10001/giraff~1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://photo.tsvetayeva.com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http://www.decadence.ru/decadents/balmont.php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http://slova.org.ru/bunin/about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http://www.museum.ru/alb/image.asp?504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6"/>
              </a:rPr>
              <a:t>http://art.rin.ru/cgi-bin/index.pl?id=52&amp;start=11&amp;page=18&amp;work=4&amp;art=22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7"/>
              </a:rPr>
              <a:t>http://www.picture.art-catalog.ru/picture.php?id_picture=433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8"/>
              </a:rPr>
              <a:t>http://2005.novayagazeta.ru/nomer/2005/31n/n31n-s24.s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9"/>
              </a:rPr>
              <a:t>http://www.silverage.ru/poets/merezhk_bio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0"/>
              </a:rPr>
              <a:t>http://www.bashvest.ru/showinf.php?id=769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1"/>
              </a:rPr>
              <a:t>http://www.cvetaeva.org.ru/chapter-al-bk-385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2"/>
              </a:rPr>
              <a:t>http://www.pseudology.org/Slonim/SlonimMark2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3"/>
              </a:rPr>
              <a:t>http://schools.keldysh.ru/school1413/lit/Web_lit_med/kr_hr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4"/>
              </a:rPr>
              <a:t>http://abursh.sytes.net/rusart/graphics/syskov/defaultr.htm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5"/>
              </a:rPr>
              <a:t>http://www.v-mayakovsky.narod.ru/books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6"/>
              </a:rPr>
              <a:t>http://www.bashvest.ru/showinf.php?id=945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7"/>
              </a:rPr>
              <a:t>http://download.world-art.ru/people.php?id=313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8"/>
              </a:rPr>
              <a:t>http://www.litera.ru/stixiya/authors/bunin/bledneet-noch-tumanov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://www.myslo.ru/gazeta/677/history/3532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://www.encyc.mir-x.ru/poeti_stihi.asp?poet=%C1%F3%ED%E8%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://www.raifa.ru/numbers/kul_isk/?ID=432&amp;forpri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://fotki.yandex.ru/users/igo2181/view/5044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14200" y="357120"/>
            <a:ext cx="87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ыставка художников-символистов «Алая роз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2" descr="IMGP2855ss.jpg"/>
          <p:cNvPicPr/>
          <p:nvPr/>
        </p:nvPicPr>
        <p:blipFill>
          <a:blip r:embed="rId2"/>
          <a:stretch/>
        </p:blipFill>
        <p:spPr>
          <a:xfrm>
            <a:off x="357120" y="1071720"/>
            <a:ext cx="3471840" cy="26208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k_al_rosa.jpg"/>
          <p:cNvPicPr/>
          <p:nvPr/>
        </p:nvPicPr>
        <p:blipFill>
          <a:blip r:embed="rId3"/>
          <a:stretch/>
        </p:blipFill>
        <p:spPr>
          <a:xfrm>
            <a:off x="1428840" y="3929040"/>
            <a:ext cx="1500120" cy="2259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3786120" y="785880"/>
            <a:ext cx="5357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ъединение московских художников -символистов возглавляли  П. Кузнецов и  П.Уткин, уроженцы Саратова, где в мае-июне 1904 г. и состоялась первая выставка «Алой розы». На ней экспонировались работы П. Кузнецова, Н. Сапунова, М. Сарьян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. Судейкина, П. Уткина 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 качестве почетных экспонентов были приглашены М. Врубель и В.Борисов- Мусат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звание выставки и объединения не случайно. Меценат, поддерживающий художников, Савва Мамонтов написал романтическую драму «Алая роза». Поэт и философ В. Соловьев в образе Алой розы поэтизировал земную страсть. Цветок был символом и знаком надежды, юности, любв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424440" y="6357960"/>
            <a:ext cx="306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омпозитор П.И.Чайковский Сладкая грё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07_Сладкая грёза П.И.Чайковский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214200" y="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ыставка художников-символистов «Алая роз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Зал Михаила Александровича Вруб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8" descr="врубель царевна- лебедь.jpg"/>
          <p:cNvPicPr/>
          <p:nvPr/>
        </p:nvPicPr>
        <p:blipFill>
          <a:blip r:embed="rId2"/>
          <a:stretch/>
        </p:blipFill>
        <p:spPr>
          <a:xfrm>
            <a:off x="1000080" y="1214280"/>
            <a:ext cx="3643200" cy="53690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1" descr="врубель.jpg"/>
          <p:cNvPicPr/>
          <p:nvPr/>
        </p:nvPicPr>
        <p:blipFill>
          <a:blip r:embed="rId3"/>
          <a:stretch/>
        </p:blipFill>
        <p:spPr>
          <a:xfrm>
            <a:off x="6929280" y="500040"/>
            <a:ext cx="1071720" cy="1601640"/>
          </a:xfrm>
          <a:prstGeom prst="rect">
            <a:avLst/>
          </a:prstGeom>
          <a:ln w="0">
            <a:noFill/>
          </a:ln>
        </p:spPr>
      </p:pic>
      <p:sp>
        <p:nvSpPr>
          <p:cNvPr id="60" name="TextBox 12"/>
          <p:cNvSpPr/>
          <p:nvPr/>
        </p:nvSpPr>
        <p:spPr>
          <a:xfrm>
            <a:off x="6572160" y="2428920"/>
            <a:ext cx="23576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главное место в движении художественного символизма по праву принадлежит М.А.Врубелю, впитавшему в себя все противоречия, все глубину гениальных озарений и трагических пророчеств времен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3" descr="врубель портрет поэта брюсова 1906.jpg"/>
          <p:cNvPicPr/>
          <p:nvPr/>
        </p:nvPicPr>
        <p:blipFill>
          <a:blip r:embed="rId4"/>
          <a:stretch/>
        </p:blipFill>
        <p:spPr>
          <a:xfrm>
            <a:off x="1000080" y="1214280"/>
            <a:ext cx="3643200" cy="53578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врубель роза в стакане 1904.jpg"/>
          <p:cNvPicPr/>
          <p:nvPr/>
        </p:nvPicPr>
        <p:blipFill>
          <a:blip r:embed="rId5"/>
          <a:stretch/>
        </p:blipFill>
        <p:spPr>
          <a:xfrm>
            <a:off x="928800" y="1214280"/>
            <a:ext cx="3714480" cy="54295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0" descr="жемчужина1904.jpg"/>
          <p:cNvPicPr/>
          <p:nvPr/>
        </p:nvPicPr>
        <p:blipFill>
          <a:blip r:embed="rId6"/>
          <a:stretch/>
        </p:blipFill>
        <p:spPr>
          <a:xfrm>
            <a:off x="285840" y="928800"/>
            <a:ext cx="5092560" cy="50720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врубель сирень 1900.jpg"/>
          <p:cNvPicPr/>
          <p:nvPr/>
        </p:nvPicPr>
        <p:blipFill>
          <a:blip r:embed="rId7"/>
          <a:stretch/>
        </p:blipFill>
        <p:spPr>
          <a:xfrm>
            <a:off x="285840" y="928800"/>
            <a:ext cx="5143320" cy="50720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врубель ангел с кадилом и свечой 1897.jpg"/>
          <p:cNvPicPr/>
          <p:nvPr/>
        </p:nvPicPr>
        <p:blipFill>
          <a:blip r:embed="rId8"/>
          <a:stretch/>
        </p:blipFill>
        <p:spPr>
          <a:xfrm>
            <a:off x="1143000" y="762120"/>
            <a:ext cx="2643120" cy="58816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9" descr="врубель тамара и демон 1890.jpg"/>
          <p:cNvPicPr/>
          <p:nvPr/>
        </p:nvPicPr>
        <p:blipFill>
          <a:blip r:embed="rId9"/>
          <a:stretch/>
        </p:blipFill>
        <p:spPr>
          <a:xfrm>
            <a:off x="714240" y="785880"/>
            <a:ext cx="4497480" cy="60721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врубель демон сидящий 1890.jpg"/>
          <p:cNvPicPr/>
          <p:nvPr/>
        </p:nvPicPr>
        <p:blipFill>
          <a:blip r:embed="rId10"/>
          <a:stretch/>
        </p:blipFill>
        <p:spPr>
          <a:xfrm>
            <a:off x="0" y="1571760"/>
            <a:ext cx="6424560" cy="3571920"/>
          </a:xfrm>
          <a:prstGeom prst="rect">
            <a:avLst/>
          </a:prstGeom>
          <a:ln w="0">
            <a:noFill/>
          </a:ln>
        </p:spPr>
      </p:pic>
      <p:sp>
        <p:nvSpPr>
          <p:cNvPr id="68" name="TextBox 13"/>
          <p:cNvSpPr/>
          <p:nvPr/>
        </p:nvSpPr>
        <p:spPr>
          <a:xfrm>
            <a:off x="5500800" y="564372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2f2f2"/>
                </a:solidFill>
                <a:latin typeface="Calibri"/>
              </a:rPr>
              <a:t>Демон сидящ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5572080" y="56437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2f2f2"/>
                </a:solidFill>
                <a:latin typeface="Calibri"/>
              </a:rPr>
              <a:t>Тамара   и   Дем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5"/>
          <p:cNvSpPr/>
          <p:nvPr/>
        </p:nvSpPr>
        <p:spPr>
          <a:xfrm>
            <a:off x="5429160" y="571500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2f2f2"/>
                </a:solidFill>
                <a:latin typeface="Calibri"/>
              </a:rPr>
              <a:t>Ангел  с  кадил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6"/>
          <p:cNvSpPr/>
          <p:nvPr/>
        </p:nvSpPr>
        <p:spPr>
          <a:xfrm>
            <a:off x="5572080" y="56437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2f2f2"/>
                </a:solidFill>
                <a:latin typeface="Calibri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7"/>
          <p:cNvSpPr/>
          <p:nvPr/>
        </p:nvSpPr>
        <p:spPr>
          <a:xfrm>
            <a:off x="5572080" y="571500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2f2f2"/>
                </a:solidFill>
                <a:latin typeface="Calibri"/>
              </a:rPr>
              <a:t>Жемчуж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8"/>
          <p:cNvSpPr/>
          <p:nvPr/>
        </p:nvSpPr>
        <p:spPr>
          <a:xfrm>
            <a:off x="5643720" y="564372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2f2f2"/>
                </a:solidFill>
                <a:latin typeface="Calibri"/>
              </a:rPr>
              <a:t>Роза в стак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9"/>
          <p:cNvSpPr/>
          <p:nvPr/>
        </p:nvSpPr>
        <p:spPr>
          <a:xfrm>
            <a:off x="5715000" y="564372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2f2f2"/>
                </a:solidFill>
                <a:latin typeface="Calibri"/>
              </a:rPr>
              <a:t>Портрет Валерия Брюс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0"/>
          <p:cNvSpPr/>
          <p:nvPr/>
        </p:nvSpPr>
        <p:spPr>
          <a:xfrm>
            <a:off x="5572080" y="564372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2f2f2"/>
                </a:solidFill>
                <a:latin typeface="Calibri"/>
              </a:rPr>
              <a:t>Царевна—Лебед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214200" y="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ыставка художников-символистов «Алая роза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Зал В. Э. Борисова—Мусато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7" descr="борисов-мусатов.jpg"/>
          <p:cNvPicPr/>
          <p:nvPr/>
        </p:nvPicPr>
        <p:blipFill>
          <a:blip r:embed="rId2"/>
          <a:stretch/>
        </p:blipFill>
        <p:spPr>
          <a:xfrm>
            <a:off x="3500280" y="1285920"/>
            <a:ext cx="1500480" cy="1751040"/>
          </a:xfrm>
          <a:prstGeom prst="rect">
            <a:avLst/>
          </a:prstGeom>
          <a:ln w="0">
            <a:noFill/>
          </a:ln>
        </p:spPr>
      </p:pic>
      <p:sp>
        <p:nvSpPr>
          <p:cNvPr id="78" name="TextBox 8"/>
          <p:cNvSpPr/>
          <p:nvPr/>
        </p:nvSpPr>
        <p:spPr>
          <a:xfrm>
            <a:off x="3643200" y="300024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втопортр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10" descr="водоём.jpg"/>
          <p:cNvPicPr/>
          <p:nvPr/>
        </p:nvPicPr>
        <p:blipFill>
          <a:blip r:embed="rId3"/>
          <a:stretch/>
        </p:blipFill>
        <p:spPr>
          <a:xfrm>
            <a:off x="214200" y="785880"/>
            <a:ext cx="3222720" cy="2714400"/>
          </a:xfrm>
          <a:prstGeom prst="rect">
            <a:avLst/>
          </a:prstGeom>
          <a:ln w="0">
            <a:noFill/>
          </a:ln>
        </p:spPr>
      </p:pic>
      <p:sp>
        <p:nvSpPr>
          <p:cNvPr id="80" name="TextBox 11"/>
          <p:cNvSpPr/>
          <p:nvPr/>
        </p:nvSpPr>
        <p:spPr>
          <a:xfrm>
            <a:off x="214200" y="85716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Водоё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13" descr="бор-мус-автопортрет с сестрой1898.jpg"/>
          <p:cNvPicPr/>
          <p:nvPr/>
        </p:nvPicPr>
        <p:blipFill>
          <a:blip r:embed="rId4"/>
          <a:stretch/>
        </p:blipFill>
        <p:spPr>
          <a:xfrm>
            <a:off x="285840" y="3643200"/>
            <a:ext cx="3313080" cy="2749680"/>
          </a:xfrm>
          <a:prstGeom prst="rect">
            <a:avLst/>
          </a:prstGeom>
          <a:ln w="0">
            <a:noFill/>
          </a:ln>
        </p:spPr>
      </p:pic>
      <p:sp>
        <p:nvSpPr>
          <p:cNvPr id="82" name="TextBox 14"/>
          <p:cNvSpPr/>
          <p:nvPr/>
        </p:nvSpPr>
        <p:spPr>
          <a:xfrm>
            <a:off x="214200" y="6000840"/>
            <a:ext cx="285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втопортрет с сестр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15" descr="бор-мус весна 1898-1901.jpg"/>
          <p:cNvPicPr/>
          <p:nvPr/>
        </p:nvPicPr>
        <p:blipFill>
          <a:blip r:embed="rId5"/>
          <a:stretch/>
        </p:blipFill>
        <p:spPr>
          <a:xfrm>
            <a:off x="5072040" y="714240"/>
            <a:ext cx="3643200" cy="2772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6"/>
          <p:cNvSpPr/>
          <p:nvPr/>
        </p:nvSpPr>
        <p:spPr>
          <a:xfrm>
            <a:off x="5643720" y="785880"/>
            <a:ext cx="17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Вес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17" descr="бор-мусат натюрморт 1902.jpg"/>
          <p:cNvPicPr/>
          <p:nvPr/>
        </p:nvPicPr>
        <p:blipFill>
          <a:blip r:embed="rId6"/>
          <a:stretch/>
        </p:blipFill>
        <p:spPr>
          <a:xfrm>
            <a:off x="5072040" y="3643200"/>
            <a:ext cx="3641760" cy="2928960"/>
          </a:xfrm>
          <a:prstGeom prst="rect">
            <a:avLst/>
          </a:prstGeom>
          <a:ln w="0">
            <a:noFill/>
          </a:ln>
        </p:spPr>
      </p:pic>
      <p:sp>
        <p:nvSpPr>
          <p:cNvPr id="86" name="TextBox 18"/>
          <p:cNvSpPr/>
          <p:nvPr/>
        </p:nvSpPr>
        <p:spPr>
          <a:xfrm>
            <a:off x="5286240" y="6143760"/>
            <a:ext cx="25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Натюрмор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9"/>
          <p:cNvSpPr/>
          <p:nvPr/>
        </p:nvSpPr>
        <p:spPr>
          <a:xfrm>
            <a:off x="3643200" y="3429000"/>
            <a:ext cx="15004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менно В.Борисова-Мусатова, уроженца  Саратова, считали своим учителем молодые художники «Алой розы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6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8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0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2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428760" y="21420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ыставка художников-символистов «Алая роз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2" descr="п уткин сон 1905.jpg"/>
          <p:cNvPicPr/>
          <p:nvPr/>
        </p:nvPicPr>
        <p:blipFill>
          <a:blip r:embed="rId2"/>
          <a:stretch/>
        </p:blipFill>
        <p:spPr>
          <a:xfrm>
            <a:off x="428760" y="714240"/>
            <a:ext cx="2928960" cy="306072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428760" y="85716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П.Уткин Со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4" descr="сапунов карусель 1908.jpg"/>
          <p:cNvPicPr/>
          <p:nvPr/>
        </p:nvPicPr>
        <p:blipFill>
          <a:blip r:embed="rId3"/>
          <a:stretch/>
        </p:blipFill>
        <p:spPr>
          <a:xfrm>
            <a:off x="4500720" y="714240"/>
            <a:ext cx="3929040" cy="296388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4643280" y="857160"/>
            <a:ext cx="235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Н. Сапунов Карусел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6" descr="павел кузнецов голубой фонтан.jpg"/>
          <p:cNvPicPr/>
          <p:nvPr/>
        </p:nvPicPr>
        <p:blipFill>
          <a:blip r:embed="rId4"/>
          <a:stretch/>
        </p:blipFill>
        <p:spPr>
          <a:xfrm>
            <a:off x="428760" y="3929040"/>
            <a:ext cx="2987640" cy="271476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428760" y="4000680"/>
            <a:ext cx="32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П.Кузнецов Голубой фон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8" descr="sud_love.jpg"/>
          <p:cNvPicPr/>
          <p:nvPr/>
        </p:nvPicPr>
        <p:blipFill>
          <a:blip r:embed="rId5"/>
          <a:stretch/>
        </p:blipFill>
        <p:spPr>
          <a:xfrm>
            <a:off x="5361120" y="3857760"/>
            <a:ext cx="2782800" cy="2732040"/>
          </a:xfrm>
          <a:prstGeom prst="rect">
            <a:avLst/>
          </a:prstGeom>
          <a:ln w="0">
            <a:noFill/>
          </a:ln>
        </p:spPr>
      </p:pic>
      <p:sp>
        <p:nvSpPr>
          <p:cNvPr id="96" name="TextBox 9"/>
          <p:cNvSpPr/>
          <p:nvPr/>
        </p:nvSpPr>
        <p:spPr>
          <a:xfrm>
            <a:off x="5429160" y="621504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Ю.Судейкин Любов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11" descr="47ca9ee4aad0df84b5985e16df9d2d29.gif"/>
          <p:cNvPicPr/>
          <p:nvPr/>
        </p:nvPicPr>
        <p:blipFill>
          <a:blip r:embed="rId6"/>
          <a:stretch/>
        </p:blipFill>
        <p:spPr>
          <a:xfrm rot="685200">
            <a:off x="2857320" y="2928600"/>
            <a:ext cx="2500200" cy="25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1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3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5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7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0" y="2142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Выставка художников-символистов «Голубая роз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2" descr="61632.jpeg"/>
          <p:cNvPicPr/>
          <p:nvPr/>
        </p:nvPicPr>
        <p:blipFill>
          <a:blip r:embed="rId2"/>
          <a:stretch/>
        </p:blipFill>
        <p:spPr>
          <a:xfrm>
            <a:off x="428760" y="1071720"/>
            <a:ext cx="2928960" cy="38890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"/>
          <p:cNvSpPr/>
          <p:nvPr/>
        </p:nvSpPr>
        <p:spPr>
          <a:xfrm>
            <a:off x="3429000" y="785880"/>
            <a:ext cx="5715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Выставка «Голубая роза», организованная на средства мецената и издателя «Золотого руна», художника-любителя Н. Рябушинского, открылась 18 марта 1907 г. в Москве на Мясницкой улице в доме фабриканта фарфора М. Кузнецов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В залах, декорированных серебристо-серыми и нежно-голубыми тканями, разместились картины  четырнадцати художников — П. Кузнецова, П. Уткина, Н. Сапунов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М. Сарьяна, С. Судейкина, Н. Крымова, А. Арапова, А. Фонвизина, Н. и В. Милиоти, Н. Феофилактова, В. Дриттенпрейса, И. Кнабе и Н. Рябушинского. Здесь же располагались скульптуры А. Матвеева и П. Бромирского. Звучала музыка русских композиторов в исполнении лучших музыкантов, читали свои стихи Андрей Белый и В. Брюс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0" y="507204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Голубой цвет — цвет неба, воды, бесконечного пространства — как бы олицетворял поэтическую мечту и реальность, тоску и надежд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3714840" y="4071960"/>
            <a:ext cx="52149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сключительность «Голубой розы»  в том, что её художники смогли пластически выразить нематериальные категории — эмоции, настроения, душевные переживания;  идеи её были подхвачены и по-своему развиты в  авангардистском  творчестве Н. Гончаровой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М. Ларионова, К. Малевич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Выставку посетило боле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яти тысяч челове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7" descr="74afff49d3f587eabe43cf53ebfcdbf2.gif"/>
          <p:cNvPicPr/>
          <p:nvPr/>
        </p:nvPicPr>
        <p:blipFill>
          <a:blip r:embed="rId3"/>
          <a:stretch/>
        </p:blipFill>
        <p:spPr>
          <a:xfrm rot="1878000">
            <a:off x="6932160" y="5715000"/>
            <a:ext cx="1166760" cy="10303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9" descr="ник рябушинский.jpg"/>
          <p:cNvPicPr/>
          <p:nvPr/>
        </p:nvPicPr>
        <p:blipFill>
          <a:blip r:embed="rId4"/>
          <a:stretch/>
        </p:blipFill>
        <p:spPr>
          <a:xfrm>
            <a:off x="428760" y="642960"/>
            <a:ext cx="3000240" cy="44290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10"/>
          <p:cNvSpPr/>
          <p:nvPr/>
        </p:nvSpPr>
        <p:spPr>
          <a:xfrm>
            <a:off x="3942360" y="658188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090"/>
                </a:solidFill>
                <a:latin typeface="Calibri"/>
              </a:rPr>
              <a:t>Композитор  Э. Григ Валь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06_Вальс Э.Григ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sar_peizag_a_r.jpg"/>
          <p:cNvPicPr/>
          <p:nvPr/>
        </p:nvPicPr>
        <p:blipFill>
          <a:blip r:embed="rId2"/>
          <a:stretch/>
        </p:blipFill>
        <p:spPr>
          <a:xfrm>
            <a:off x="285840" y="642960"/>
            <a:ext cx="3655800" cy="2928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2" descr="utkin_lub_bur.jpg"/>
          <p:cNvPicPr/>
          <p:nvPr/>
        </p:nvPicPr>
        <p:blipFill>
          <a:blip r:embed="rId3"/>
          <a:stretch/>
        </p:blipFill>
        <p:spPr>
          <a:xfrm>
            <a:off x="5072040" y="642960"/>
            <a:ext cx="3500640" cy="28209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"/>
          <p:cNvSpPr/>
          <p:nvPr/>
        </p:nvSpPr>
        <p:spPr>
          <a:xfrm>
            <a:off x="214200" y="2142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Выставка художников-символистов «Голубая роз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1714680" y="642960"/>
            <a:ext cx="357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f7f7f"/>
                </a:solidFill>
                <a:latin typeface="Calibri"/>
              </a:rPr>
              <a:t>М.Сарьян Пейзаж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5143680" y="642960"/>
            <a:ext cx="257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П.Уткин Ветер(?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13" descr="п уткин 1911 Дети на фоне морозного  окна.jpg"/>
          <p:cNvPicPr/>
          <p:nvPr/>
        </p:nvPicPr>
        <p:blipFill>
          <a:blip r:embed="rId4"/>
          <a:stretch/>
        </p:blipFill>
        <p:spPr>
          <a:xfrm>
            <a:off x="5786280" y="3714840"/>
            <a:ext cx="2802240" cy="27144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4"/>
          <p:cNvSpPr/>
          <p:nvPr/>
        </p:nvSpPr>
        <p:spPr>
          <a:xfrm>
            <a:off x="5429160" y="3714840"/>
            <a:ext cx="257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П.Уткин Дети на фоне морозного ок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15" descr="сапунов натюрморт с вазой и цветами1910.jpg"/>
          <p:cNvPicPr/>
          <p:nvPr/>
        </p:nvPicPr>
        <p:blipFill>
          <a:blip r:embed="rId5"/>
          <a:stretch/>
        </p:blipFill>
        <p:spPr>
          <a:xfrm>
            <a:off x="571680" y="3714840"/>
            <a:ext cx="2500200" cy="28224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6"/>
          <p:cNvSpPr/>
          <p:nvPr/>
        </p:nvSpPr>
        <p:spPr>
          <a:xfrm>
            <a:off x="571680" y="3786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Н. Сапунов Натюрмор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Рисунок 7" descr="74afff49d3f587eabe43cf53ebfcdbf2.gif"/>
          <p:cNvPicPr/>
          <p:nvPr/>
        </p:nvPicPr>
        <p:blipFill>
          <a:blip r:embed="rId6"/>
          <a:stretch/>
        </p:blipFill>
        <p:spPr>
          <a:xfrm rot="1878000">
            <a:off x="3282840" y="3298680"/>
            <a:ext cx="2259000" cy="199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0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2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4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6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3" descr="п кузнецов цветущий сад в бахчисарае1907.jpg"/>
          <p:cNvPicPr/>
          <p:nvPr/>
        </p:nvPicPr>
        <p:blipFill>
          <a:blip r:embed="rId2"/>
          <a:stretch/>
        </p:blipFill>
        <p:spPr>
          <a:xfrm>
            <a:off x="214200" y="587520"/>
            <a:ext cx="3503880" cy="29844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5" descr="павел кузнецов в степи мираж 1911.jpg"/>
          <p:cNvPicPr/>
          <p:nvPr/>
        </p:nvPicPr>
        <p:blipFill>
          <a:blip r:embed="rId3"/>
          <a:stretch/>
        </p:blipFill>
        <p:spPr>
          <a:xfrm>
            <a:off x="5305320" y="620640"/>
            <a:ext cx="3338640" cy="29512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214200" y="2142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Выставка художников-символистов «Голубая роз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285840" y="785880"/>
            <a:ext cx="335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95959"/>
                </a:solidFill>
                <a:latin typeface="Calibri"/>
              </a:rPr>
              <a:t>П.Кузнецов Цветущий сад в Бахчисара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5786280" y="785880"/>
            <a:ext cx="292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95959"/>
                </a:solidFill>
                <a:latin typeface="Calibri"/>
              </a:rPr>
              <a:t>П.Кузнецов В  степи. Мира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11" descr="судейкин балет 1910.jpg"/>
          <p:cNvPicPr/>
          <p:nvPr/>
        </p:nvPicPr>
        <p:blipFill>
          <a:blip r:embed="rId4"/>
          <a:stretch/>
        </p:blipFill>
        <p:spPr>
          <a:xfrm>
            <a:off x="5214960" y="3857760"/>
            <a:ext cx="3429000" cy="25254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2"/>
          <p:cNvSpPr/>
          <p:nvPr/>
        </p:nvSpPr>
        <p:spPr>
          <a:xfrm>
            <a:off x="5786280" y="3929040"/>
            <a:ext cx="25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.Судейкин Ба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13" descr="судейкин саксонские фигурки 1911.jpg"/>
          <p:cNvPicPr/>
          <p:nvPr/>
        </p:nvPicPr>
        <p:blipFill>
          <a:blip r:embed="rId5"/>
          <a:stretch/>
        </p:blipFill>
        <p:spPr>
          <a:xfrm>
            <a:off x="285840" y="3786120"/>
            <a:ext cx="3643200" cy="26290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4"/>
          <p:cNvSpPr/>
          <p:nvPr/>
        </p:nvSpPr>
        <p:spPr>
          <a:xfrm>
            <a:off x="285840" y="3857760"/>
            <a:ext cx="321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.Судейкин Саксонские фигу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Рисунок 7" descr="74afff49d3f587eabe43cf53ebfcdbf2.gif"/>
          <p:cNvPicPr/>
          <p:nvPr/>
        </p:nvPicPr>
        <p:blipFill>
          <a:blip r:embed="rId6"/>
          <a:stretch/>
        </p:blipFill>
        <p:spPr>
          <a:xfrm rot="1878000">
            <a:off x="3282840" y="3298680"/>
            <a:ext cx="2259000" cy="199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2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4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6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8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2428920" y="0"/>
            <a:ext cx="38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сточни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71680" y="357120"/>
            <a:ext cx="8286480" cy="66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асинский П.В.  Федякин С.Р. Русская литература конца 19 века—начала 20 века и первой эмиграции.- М.: Академия, 199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ьшой учебный справочник. Русская литература. Двадцатый век.- М.:Дрофа, 20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итература. Справочник абитуриента.-  Москва, филологическое общество «Слово», 199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усские писатели. Библиографический словарь Под ред. Николаева П.А. – М.: Просвещение, 199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рюсов В.Я. Среди стихов.1894-1924. Манифесты. Статьи. Рецензии. – М.: Советский писатель, 199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елимир Хлебников. Творения. Под редакцией М.Я.Полякова. – М.: Советский писатель, 198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льницкая С. Поэтический мир Цветаевой: конфликт лирического героя и действительности. –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ien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199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ндрей Белый. Солнце: Избранные стихотворения. – М, 199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хматова А.А. Сочинения в двух томах. – М, 1990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лок А. Собрание сочинений в шести томах. – М, 197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альмонт К. Стозвучные песни. Сочинения.- Ярославль, 199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лошин М. Дом поэта. Стихи.Главы из книги «Суриков». – Ленинград, 199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умилёв Н. Избранное. – М, 1994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енин С.А. Собрание сочинений в двух томах. – М, 1991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ндельштам О. Избранное. – М, 199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одасевич В.Ф. Тяжёлая лира( репринтное воспроизведение издания 1922года). – Москва, «Книга», 199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ветаева М. И. Собрание сочинений в 7 томах. – М, 1994-199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08:19:00Z</dcterms:created>
  <dc:creator>Admin</dc:creator>
  <dc:description/>
  <dc:language>en-US</dc:language>
  <cp:lastModifiedBy>Admin</cp:lastModifiedBy>
  <dcterms:modified xsi:type="dcterms:W3CDTF">2010-01-16T08:46:15Z</dcterms:modified>
  <cp:revision>3</cp:revision>
  <dc:subject/>
  <dc:title>Слайд 1</dc:title>
</cp:coreProperties>
</file>