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13.gif" ContentType="image/gif"/>
  <Override PartName="/ppt/media/image22.wmf" ContentType="image/x-wmf"/>
  <Override PartName="/ppt/media/image20.jpeg" ContentType="image/jpeg"/>
  <Override PartName="/ppt/media/image7.wmf" ContentType="image/x-wmf"/>
  <Override PartName="/ppt/media/image16.jpeg" ContentType="image/jpeg"/>
  <Override PartName="/ppt/media/image9.gif" ContentType="image/gif"/>
  <Override PartName="/ppt/media/image5.wmf" ContentType="image/x-wmf"/>
  <Override PartName="/ppt/media/applause.wav" ContentType="audio/x-wav"/>
  <Override PartName="/ppt/media/chimes.wav" ContentType="audio/x-wav"/>
  <Override PartName="/ppt/media/image6.gif" ContentType="image/gif"/>
  <Override PartName="/ppt/media/image11.gif" ContentType="image/gif"/>
  <Override PartName="/ppt/media/image8.wmf" ContentType="image/x-wmf"/>
  <Override PartName="/ppt/media/image10.gif" ContentType="image/gif"/>
  <Override PartName="/ppt/media/image4.gif" ContentType="image/gif"/>
  <Override PartName="/ppt/media/image1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7.jpeg" ContentType="image/jpeg"/>
  <Override PartName="/ppt/media/image12.gif" ContentType="image/gif"/>
  <Override PartName="/ppt/media/image14.gif" ContentType="image/gif"/>
  <Override PartName="/ppt/media/image15.gif" ContentType="image/gif"/>
  <Override PartName="/ppt/media/image18.wmf" ContentType="image/x-wmf"/>
  <Override PartName="/ppt/media/image19.wmf" ContentType="image/x-wmf"/>
  <Override PartName="/ppt/media/image21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9A0-65D5-4E19-B65A-E0E8B803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E45-6942-4EE3-8681-6E5D4B9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EBC-9D0E-4D34-9194-B584166D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90B-B02C-4AA5-8976-2EA9DEEA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800-F9E3-464B-820E-4182178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746-EE44-4027-8185-0FDD772B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21B-15D1-49AF-97E1-22515964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D9C-2916-4EFD-A0ED-20CE2C5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F2A-526E-4E4F-8F9D-BDC049D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85B-36A4-424D-A226-9523148F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193-4F6F-4C76-A270-E6F2D9ED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DB3-455B-435E-90AD-F0FD114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784-31A0-4C5D-B9AD-5BB13C5C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846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рок занимательной математики для 5 класса разработан учителем математики МОУ «СОШ № 3»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рода Ясного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енбургской области</a:t>
            </a:r>
            <a:br>
              <a:rPr sz="40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Липлянской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атьяной Геннадьев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58560" y="764640"/>
            <a:ext cx="6049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ряка и Бряка поссорились . Мряка 7 раз фрякнула Бряку марфуфочкой по чему попало, а Бряка фрякнул Мряку  той же марфуфочкой по чему попало 9 раз. Спрашивается  сколько раз хватали  бедную марфуфочку за хвост и фрякали ею по чему попа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176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6200000">
            <a:off x="5699160" y="3223800"/>
            <a:ext cx="6669000" cy="220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6678720"/>
            <a:ext cx="9144000" cy="1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16200000">
            <a:off x="-3223800" y="3412800"/>
            <a:ext cx="6669000" cy="22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2340000" y="4869000"/>
            <a:ext cx="223200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877080" y="40766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524720" y="2421000"/>
            <a:ext cx="1008000" cy="22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30712 0.03171 E">
                                      <p:cBhvr>
                                        <p:cTn id="17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47640" y="1484280"/>
            <a:ext cx="590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осчитай-к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4724280"/>
            <a:ext cx="7775640" cy="19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780000" y="1989000"/>
          <a:ext cx="17301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989000"/>
                    <a:ext cx="17301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195640" y="1484280"/>
          <a:ext cx="1995480" cy="252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484280"/>
                    <a:ext cx="19954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651640" y="2133720"/>
          <a:ext cx="1828800" cy="23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133720"/>
                    <a:ext cx="18288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920" y="4797360"/>
            <a:ext cx="7561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ела  стая гусей : один впереди и два позади, один позади и два впереди, один гусь между двумя и три в ряд. Сколько было всего гус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03280" y="1844640"/>
          <a:ext cx="2016360" cy="25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1844640"/>
                    <a:ext cx="201636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1989000"/>
          <a:ext cx="2016000" cy="25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1989000"/>
                    <a:ext cx="20160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1403280" y="620280"/>
            <a:ext cx="6769080" cy="4680000"/>
          </a:xfrm>
          <a:prstGeom prst="flowChartMerge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220500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716280"/>
            <a:ext cx="446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2205000"/>
            <a:ext cx="309744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3716280"/>
            <a:ext cx="1511280" cy="165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995280" y="2205000"/>
            <a:ext cx="1871640" cy="309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5640" y="404640"/>
            <a:ext cx="187344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052640"/>
            <a:ext cx="71294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ашифровано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24160" y="-45252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24160" y="-45252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3224160" y="-45252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76480" y="-4525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268280"/>
          <a:ext cx="9143640" cy="1368720"/>
        </p:xfrm>
        <a:graphic>
          <a:graphicData uri="http://schemas.openxmlformats.org/drawingml/2006/table">
            <a:tbl>
              <a:tblPr/>
              <a:tblGrid>
                <a:gridCol w="610560"/>
                <a:gridCol w="607320"/>
                <a:gridCol w="610920"/>
                <a:gridCol w="608760"/>
                <a:gridCol w="610920"/>
                <a:gridCol w="610200"/>
                <a:gridCol w="607680"/>
                <a:gridCol w="610560"/>
                <a:gridCol w="607320"/>
                <a:gridCol w="610920"/>
                <a:gridCol w="610920"/>
                <a:gridCol w="608760"/>
                <a:gridCol w="610920"/>
                <a:gridCol w="607320"/>
                <a:gridCol w="6105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 txBox="1"/>
          <p:nvPr/>
        </p:nvSpPr>
        <p:spPr>
          <a:xfrm>
            <a:off x="1692360" y="404640"/>
            <a:ext cx="554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Ключ к шифру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26920" y="476280"/>
          <a:ext cx="7201080" cy="1152360"/>
        </p:xfrm>
        <a:graphic>
          <a:graphicData uri="http://schemas.openxmlformats.org/drawingml/2006/table">
            <a:tbl>
              <a:tblPr/>
              <a:tblGrid>
                <a:gridCol w="600120"/>
                <a:gridCol w="600120"/>
                <a:gridCol w="600120"/>
                <a:gridCol w="600120"/>
                <a:gridCol w="600120"/>
                <a:gridCol w="600120"/>
                <a:gridCol w="600120"/>
                <a:gridCol w="599760"/>
                <a:gridCol w="600120"/>
                <a:gridCol w="600120"/>
                <a:gridCol w="600120"/>
                <a:gridCol w="60012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187280" y="2133720"/>
          <a:ext cx="2232360" cy="1035000"/>
        </p:xfrm>
        <a:graphic>
          <a:graphicData uri="http://schemas.openxmlformats.org/drawingml/2006/table">
            <a:tbl>
              <a:tblPr/>
              <a:tblGrid>
                <a:gridCol w="744840"/>
                <a:gridCol w="742680"/>
                <a:gridCol w="74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26920" y="3573360"/>
          <a:ext cx="4343400" cy="1035000"/>
        </p:xfrm>
        <a:graphic>
          <a:graphicData uri="http://schemas.openxmlformats.org/drawingml/2006/table">
            <a:tbl>
              <a:tblPr/>
              <a:tblGrid>
                <a:gridCol w="621000"/>
                <a:gridCol w="620640"/>
                <a:gridCol w="620640"/>
                <a:gridCol w="619200"/>
                <a:gridCol w="620640"/>
                <a:gridCol w="620640"/>
                <a:gridCol w="62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55640" y="5157720"/>
          <a:ext cx="4392720" cy="1035000"/>
        </p:xfrm>
        <a:graphic>
          <a:graphicData uri="http://schemas.openxmlformats.org/drawingml/2006/table">
            <a:tbl>
              <a:tblPr/>
              <a:tblGrid>
                <a:gridCol w="878040"/>
                <a:gridCol w="879480"/>
                <a:gridCol w="877680"/>
                <a:gridCol w="879480"/>
                <a:gridCol w="87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 txBox="1"/>
          <p:nvPr/>
        </p:nvSpPr>
        <p:spPr>
          <a:xfrm>
            <a:off x="971640" y="1125360"/>
            <a:ext cx="50472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050920" y="1197000"/>
            <a:ext cx="583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АТЕМАТИКЕ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2000" y="2781360"/>
            <a:ext cx="1944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0000" y="414972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ЦАРСКИХ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00000" y="5734080"/>
            <a:ext cx="41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УТЕ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16000" y="1052640"/>
            <a:ext cx="6408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"Расставь знаки"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4360" y="549360"/>
            <a:ext cx="59752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5 5 5 =3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3141720"/>
            <a:ext cx="604836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5 5 5 =5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1280" y="4508640"/>
            <a:ext cx="597672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5 5 5 =6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5877000"/>
            <a:ext cx="597672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5 5 5 =30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1773360"/>
            <a:ext cx="604836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5 5 5 =4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549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5 5-5-5):5=3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19280" y="692280"/>
            <a:ext cx="73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6000" y="1700280"/>
            <a:ext cx="547200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 5 :5-5:5=4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63640" y="1989000"/>
            <a:ext cx="7308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4437000"/>
            <a:ext cx="604836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-5+5+5:5=6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4360" y="3068640"/>
            <a:ext cx="611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5-5+5 5):5=5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0" y="3357720"/>
            <a:ext cx="727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1280" y="5877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-5+5+5 5=30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6000" y="6093000"/>
            <a:ext cx="73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03280" y="1557360"/>
            <a:ext cx="7056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Надо подумать!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8920" y="260280"/>
            <a:ext cx="64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2060640"/>
            <a:ext cx="441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страну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3284640"/>
            <a:ext cx="7704000" cy="24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Математика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00000" y="1557360"/>
            <a:ext cx="4759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руках 10 пальце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620640"/>
          <a:ext cx="34668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34668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324000" y="4508640"/>
            <a:ext cx="67672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олько пальцев на 10 рука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191 0.01852 0.0066 0.03912 0.02153 0.04445 C 0.0283 0.05046 0.03559 0.05278 0.04323 0.05556 C 0.0915 0.05486 0.13993 0.05463 0.1882 0.05324 C 0.21233 0.05255 0.2375 0.04144 0.26163 0.03773 C 0.29445 0.03843 0.32709 0.03866 0.3599 0.04005 C 0.3757 0.04074 0.39202 0.05093 0.40834 0.05324 C 0.42552 0.05926 0.4441 0.06204 0.46163 0.06435 C 0.49375 0.07338 0.52587 0.07986 0.55834 0.08658 C 0.56459 0.09097 0.56979 0.09329 0.57657 0.0956 C 0.58282 0.10116 0.58959 0.10347 0.59653 0.10671 C 0.59775 0.1081 0.6 0.11111 0.6 0.11111 E">
                                      <p:cBhvr>
                                        <p:cTn id="46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95280" y="1628640"/>
          <a:ext cx="198612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198612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769400" y="3357720"/>
            <a:ext cx="547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ое игр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теннис 4 час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час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грал  каждый из ни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732720" y="1557360"/>
          <a:ext cx="206856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1557360"/>
                    <a:ext cx="2068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8360" y="2133720"/>
          <a:ext cx="31428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133720"/>
                    <a:ext cx="3142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451640" y="1484280"/>
            <a:ext cx="362160" cy="36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1557360"/>
            <a:ext cx="504720" cy="36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66667E-006 -2.59259E-006 C 0.00921 -0.00833 0.01216 -0.02546 0.01824 -0.03773 C 0.02292 -0.06203 0.02917 -0.0824 0.04827 -0.0912 C 0.05192 -0.09838 0.06476 -0.1125 0.07153 -0.11551 C 0.07379 -0.11852 0.07553 -0.12222 0.0783 -0.12453 C 0.08403 -0.12916 0.09862 -0.13217 0.1033 -0.13333 C 0.11997 -0.13727 0.13646 -0.14004 0.1533 -0.14213 C 0.16754 -0.14722 0.18195 -0.14745 0.19653 -0.15115 C 0.2099 -0.15439 0.2231 -0.15787 0.23664 -0.15995 C 0.27362 -0.17685 0.31928 -0.17407 0.3566 -0.17546 C 0.37587 -0.18078 0.39515 -0.18287 0.41494 -0.18449 C 0.42622 -0.18912 0.43837 -0.1912 0.45001 -0.19328 C 0.47657 -0.19259 0.5033 -0.19259 0.52987 -0.1912 C 0.54167 -0.19074 0.56494 -0.18449 0.56494 -0.18449 C 0.58577 -0.17477 0.60973 -0.17314 0.6316 -0.16898 C 0.66563 -0.1625 0.69931 -0.1537 0.73334 -0.14676 C 0.74011 -0.14352 0.74428 -0.13981 0.75157 -0.13773 C 0.76372 -0.12569 0.75244 -0.13472 0.76997 -0.12893 C 0.77778 -0.12639 0.78143 -0.12176 0.7882 -0.11551 C 0.79202 -0.11389 0.79619 -0.11296 0.80001 -0.11111 C 0.80643 -0.10787 0.80973 -0.10277 0.81494 -0.09768 C 0.81806 -0.09444 0.82501 -0.08889 0.82501 -0.08889 C 0.82952 -0.06967 0.8224 -0.09676 0.8316 -0.07546 C 0.83369 -0.07083 0.83317 -0.06481 0.8349 -0.05995 C 0.83785 -0.05185 0.83976 -0.04676 0.84167 -0.03773 C 0.84445 -0.02407 0.8415 -0.03773 0.84653 -0.02453 C 0.8474 -0.02245 0.84949 -0.0162 0.84827 -0.01782 C 0.84254 -0.02546 0.83907 -0.03657 0.83334 -0.04444 C 0.83108 -0.05324 0.82917 -0.05717 0.82327 -0.06227 C 0.81546 -0.07777 0.81997 -0.07245 0.81164 -0.08009 C 0.80851 -0.0956 0.81251 -0.0831 0.8033 -0.0956 C 0.79827 -0.10231 0.79879 -0.10578 0.79167 -0.10879 C 0.78021 -0.12407 0.75955 -0.12731 0.74497 -0.12893 C 0.73317 -0.1324 0.72188 -0.13564 0.7099 -0.13773 C 0.70591 -0.13958 0.70226 -0.14259 0.69827 -0.14444 C 0.68994 -0.14814 0.68021 -0.15069 0.67153 -0.15324 C 0.64219 -0.17314 0.6007 -0.17986 0.56824 -0.18449 C 0.54688 -0.1875 0.52605 -0.19514 0.50487 -0.2 C 0.4165 -0.19884 0.37535 -0.19907 0.30487 -0.1912 C 0.29515 -0.18657 0.3033 -0.19004 0.28664 -0.18657 C 0.25678 -0.18055 0.22674 -0.17939 0.19653 -0.17546 C 0.18282 -0.17361 0.16997 -0.16736 0.1566 -0.16435 C 0.12535 -0.1574 0.09428 -0.15069 0.0632 -0.14213 C 0.054 -0.13379 0.04237 -0.13078 0.03334 -0.12222 C 0.02622 -0.11551 0.0283 -0.1118 0.02153 -0.10231 C 0.01337 -0.09097 0.00851 -0.07685 0.00157 -0.06435 C -0.00156 -0.05139 -0.0026 -0.03588 -0.00834 -0.02453 C -0.01093 -0.01134 -0.0118 0.00209 -0.01336 0.01551 C -0.01492 0.02963 -0.01267 0.0257 -0.01666 0.03102 E">
                                      <p:cBhvr>
                                        <p:cTn id="48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732720" y="225360"/>
          <a:ext cx="3514680" cy="27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225360"/>
                    <a:ext cx="351468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451640" y="1125360"/>
          <a:ext cx="2863800" cy="266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1125360"/>
                    <a:ext cx="28638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96360" y="1989000"/>
          <a:ext cx="3708360" cy="290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1989000"/>
                    <a:ext cx="370836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39640" y="429264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ипаж, запряженный тройкой лошад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хал за один час 15 км. С как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жала каждая лошад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-0.02127 C -0.16024 -0.03098 -0.20104 -0.043 -0.24288 -0.04809 C -0.3467 -0.10081 -0.45989 -0.06266 -0.56528 -0.05988 C -0.58298 -0.05595 -0.59965 -0.04809 -0.61684 -0.04069 C -0.6342 -0.02081 -0.61215 -0.04416 -0.63316 -0.02913 C -0.63941 -0.02474 -0.64184 -0.01688 -0.64896 -0.01688 E">
                                      <p:cBhvr>
                                        <p:cTn id="49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75 -0.14197 C -0.26424 -0.13919 -0.40903 -0.14197 -0.554 -0.13272 C -0.56042 -0.13272 -0.57778 -0.09642 -0.58403 -0.08717 C -0.58611 -0.08347 -0.58959 -0.0696 -0.58959 -0.06844 E">
                                      <p:cBhvr>
                                        <p:cTn id="50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41 -0.15052 C -0.18247 -0.15861 -0.18768 -0.16139 -0.20799 -0.16393 C -0.22743 -0.17341 -0.25104 -0.17642 -0.27118 -0.17988 C -0.34219 -0.17919 -0.41285 -0.17965 -0.48368 -0.17757 C -0.50695 -0.17688 -0.54514 -0.15306 -0.56389 -0.13457 C -0.56962 -0.12902 -0.57448 -0.12116 -0.58073 -0.11653 E">
                                      <p:cBhvr>
                                        <p:cTn id="50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403280" y="549360"/>
            <a:ext cx="5977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ведем итог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2637000"/>
            <a:ext cx="86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(М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692360" y="3860640"/>
            <a:ext cx="107928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(Ц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27280" y="2637000"/>
            <a:ext cx="1152720" cy="89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(Ы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1280" y="3933720"/>
            <a:ext cx="865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(Л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67640" y="2565360"/>
            <a:ext cx="117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(О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92720" y="5734080"/>
            <a:ext cx="1440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00(О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04000" y="4292640"/>
            <a:ext cx="13683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00(Д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16360" y="5157720"/>
            <a:ext cx="863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(!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64000" y="3860640"/>
            <a:ext cx="86364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2(Я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5280" y="5661000"/>
            <a:ext cx="9748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(К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96000" y="2349360"/>
            <a:ext cx="93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7(Н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58920" y="1341360"/>
            <a:ext cx="7200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7.40741E-007 C -0.00763 0.00278 -0.01388 0.00695 -0.0217 0.0088 C -0.02725 0.01181 -0.03333 0.01343 -0.03836 0.01783 C -0.03993 0.01921 -0.04149 0.0213 -0.04322 0.02222 C -0.05034 0.02639 -0.0592 0.02801 -0.06666 0.03102 C -0.07291 0.03982 -0.08159 0.04074 -0.08993 0.04445 C -0.10347 0.0507 -0.11788 0.05394 -0.13159 0.05995 C -0.14965 0.06783 -0.13211 0.06042 -0.14496 0.06898 C -0.15034 0.07269 -0.15763 0.07361 -0.16336 0.07546 C -0.17569 0.08727 -0.15989 0.07338 -0.17499 0.08218 C -0.1894 0.09051 -0.20312 0.10232 -0.21822 0.1088 C -0.22343 0.11574 -0.23003 0.11783 -0.23489 0.12454 C -0.2401 0.13171 -0.24496 0.14005 -0.24826 0.14884 C -0.24722 0.15625 -0.24687 0.16389 -0.24496 0.17107 C -0.24166 0.18333 -0.23611 0.18056 -0.22829 0.18658 C -0.19878 0.20926 -0.1743 0.22361 -0.13993 0.23333 C -0.10121 0.24421 -0.06267 0.25648 -0.02326 0.26227 C 0.02778 0.26968 0.12987 0.28449 0.12987 0.28449 C 0.21928 0.27847 0.3573 0.30903 0.43004 0.20232 C 0.44202 0.18472 0.44601 0.16898 0.4533 0.14884 C 0.45278 0.13773 0.45382 0.12639 0.45174 0.11551 C 0.45087 0.11088 0.44775 0.10741 0.44497 0.1044 C 0.41667 0.07315 0.43091 0.08866 0.40504 0.07546 C 0.39879 0.07222 0.39306 0.06736 0.38664 0.06435 C 0.38021 0.06134 0.37344 0.05926 0.36667 0.05787 C 0.35903 0.05625 0.35122 0.05625 0.34341 0.05556 C 0.21164 0.05949 0.16615 0.05695 0.06667 0.07338 C 0.04775 0.08033 0.02952 0.08148 0.01007 0.08449 C 0.00504 0.08681 0.00018 0.08958 -0.00503 0.0912 C -0.00937 0.09259 -0.01388 0.09167 -0.01822 0.09329 C -0.02187 0.09468 -0.02482 0.09838 -0.02829 0.1 C -0.03263 0.10208 -0.05052 0.10394 -0.05329 0.1044 C -0.05972 0.10741 -0.05711 0.10509 -0.06163 0.11111 E">
                                      <p:cBhvr>
                                        <p:cTn id="51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62936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, математика!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чало всех начал,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Ты кладезь знаний сокровенных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даже бог, что этот мир создал,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л математик, несомн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1413000"/>
            <a:ext cx="6120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ребьев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04640"/>
          <a:ext cx="8208720" cy="5556240"/>
        </p:xfrm>
        <a:graphic>
          <a:graphicData uri="http://schemas.openxmlformats.org/drawingml/2006/table">
            <a:tbl>
              <a:tblPr/>
              <a:tblGrid>
                <a:gridCol w="2052360"/>
                <a:gridCol w="2052000"/>
                <a:gridCol w="2052000"/>
                <a:gridCol w="2052360"/>
              </a:tblGrid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476360" y="170028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393372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170028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69228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86064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54936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270828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501336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94172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54936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386064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1628640"/>
            <a:ext cx="865080" cy="890640"/>
          </a:xfrm>
          <a:prstGeom prst="flowChartConnector">
            <a:avLst/>
          </a:prstGeom>
          <a:solidFill>
            <a:srgbClr val="f93d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933720"/>
            <a:ext cx="576000" cy="6098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620640"/>
            <a:ext cx="576000" cy="6098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157720"/>
            <a:ext cx="574920" cy="6098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2924280"/>
            <a:ext cx="57636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5084640"/>
            <a:ext cx="576360" cy="6098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844640"/>
            <a:ext cx="57636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2852640"/>
            <a:ext cx="627120" cy="6098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2852640"/>
            <a:ext cx="685800" cy="6858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1647720" cy="4522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692360" y="260280"/>
            <a:ext cx="66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ра в пу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940360" y="3500280"/>
          <a:ext cx="3024360" cy="24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3500280"/>
                    <a:ext cx="302436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 flipH="1">
            <a:off x="6156360" y="1557360"/>
            <a:ext cx="23032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5.55556E-007 0.10347 L -0.49601 -0.08542 E">
                                      <p:cBhvr>
                                        <p:cTn id="6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549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Посчитай-ка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773360"/>
            <a:ext cx="583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Что зашифрован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3284640"/>
            <a:ext cx="5184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Расставь знак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4941720"/>
            <a:ext cx="49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до подума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89000"/>
          <a:ext cx="178128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7812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1484280"/>
          <a:ext cx="17809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84280"/>
                    <a:ext cx="17809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2997360"/>
          <a:ext cx="1781280" cy="14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97360"/>
                    <a:ext cx="1781280" cy="14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920" y="4653000"/>
          <a:ext cx="1780920" cy="14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653000"/>
                    <a:ext cx="17809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6597 0.05255 L 0.58368 0.05162 E">
                                      <p:cBhvr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8941 0.05278 L 0.61927 0.05185 E">
                                      <p:cBhvr>
                                        <p:cTn id="8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6198 0.03171 L 0.63507 0.03079 E">
                                      <p:cBhvr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0.0974 0.03171 L 0.61145 0.02014 E">
                                      <p:cBhvr>
                                        <p:cTn id="9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508720" y="1989000"/>
            <a:ext cx="180000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оза Люська забодала забор, который держался на 13 столбиках. 7 столбиков упали вместе с забором , а остальные остались. Сколько столбиков стоит  самостоятельн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948360" y="3068640"/>
          <a:ext cx="1231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3068640"/>
                    <a:ext cx="1231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 txBox="1"/>
          <p:nvPr/>
        </p:nvSpPr>
        <p:spPr>
          <a:xfrm>
            <a:off x="539640" y="476280"/>
            <a:ext cx="777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 - шу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-0.01227 L -0.27222 0.05092 E">
                                      <p:cBhvr>
                                        <p:cTn id="12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54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ляша коллекционирует мляшечки , а Пляша – плянечки. У Мляши мляшечков в 3 раза больше , чем у Пляши плянечков. Сколько у Пляши плянечков, если у Мляши 69 мляшечков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54936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424720" cy="30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5280" y="6381720"/>
            <a:ext cx="8424720" cy="30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5013360"/>
            <a:ext cx="1582560" cy="136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867280" y="3141720"/>
            <a:ext cx="28800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03704E-006 L -0.496 0.01064 E">
                                      <p:cBhvr>
                                        <p:cTn id="15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04722 L -0.42118 0.03681 E">
                                      <p:cBhvr>
                                        <p:cTn id="15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5:51:43Z</dcterms:created>
  <dc:creator>User</dc:creator>
  <dc:description/>
  <dc:language>en-US</dc:language>
  <cp:lastModifiedBy>Customer</cp:lastModifiedBy>
  <dcterms:modified xsi:type="dcterms:W3CDTF">2010-01-16T15:18:06Z</dcterms:modified>
  <cp:revision>11</cp:revision>
  <dc:subject/>
  <dc:title>Слайд 1</dc:title>
</cp:coreProperties>
</file>