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2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3.png" ContentType="image/png"/>
  <Override PartName="/ppt/media/image12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applause.wav" ContentType="audio/x-wav"/>
  <Override PartName="/ppt/media/image43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46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A63-8234-4C3E-8C29-2E5B046C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D37-7A70-41CF-8352-3B83CEC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AA0-DFFB-4284-95A2-FF0D2B03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D2C-CA49-4F52-838E-22BE24AD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52D-9FDE-4522-A995-1FA385E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759-3635-4FD4-AC7E-891C297C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491-1C7A-49F2-AC5B-0DC15C30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D5B-171B-4325-947D-469F48A3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81-A3DF-48A8-874C-1BA8825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EF8-7DDB-40B6-93A9-0A1FD6F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80F-F121-4351-8C91-EB37B73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641-F977-447B-B2C1-A7FEF34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05A-2ACA-4332-BDE7-FA6513CA0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ткрытый урок </a:t>
            </a:r>
            <a:br>
              <a:rPr sz="60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 технологии в 4 классе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Чудо-тесто. Панно «Земляни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76640" y="142920"/>
            <a:ext cx="632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У «Основная общеобразовательная школа № 3 г.Калини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443120" y="6286680"/>
            <a:ext cx="40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: Седова Татьяна Валенти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8"/>
          <p:cNvSpPr txBox="1"/>
          <p:nvPr/>
        </p:nvSpPr>
        <p:spPr>
          <a:xfrm>
            <a:off x="324000" y="1557360"/>
            <a:ext cx="8496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95" name="Picture 10" descr="курочка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08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1" descr="филимоново1"/>
            <p:cNvPicPr/>
            <p:nvPr/>
          </p:nvPicPr>
          <p:blipFill>
            <a:blip r:embed="rId3"/>
            <a:stretch/>
          </p:blipFill>
          <p:spPr>
            <a:xfrm>
              <a:off x="4427640" y="0"/>
              <a:ext cx="4722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Picture 13" descr="наездник свисток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55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4" descr="петушок"/>
            <p:cNvPicPr/>
            <p:nvPr/>
          </p:nvPicPr>
          <p:blipFill>
            <a:blip r:embed="rId5"/>
            <a:stretch/>
          </p:blipFill>
          <p:spPr>
            <a:xfrm>
              <a:off x="5508720" y="0"/>
              <a:ext cx="3635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16" descr="копилка свисток"/>
          <p:cNvPicPr/>
          <p:nvPr/>
        </p:nvPicPr>
        <p:blipFill>
          <a:blip r:embed="rId6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девушка с петушком"/>
          <p:cNvPicPr/>
          <p:nvPr/>
        </p:nvPicPr>
        <p:blipFill>
          <a:blip r:embed="rId7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6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7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8"/>
          <p:cNvPicPr/>
          <p:nvPr/>
        </p:nvPicPr>
        <p:blipFill>
          <a:blip r:embed="rId4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земляника"/>
          <p:cNvPicPr/>
          <p:nvPr/>
        </p:nvPicPr>
        <p:blipFill>
          <a:blip r:embed="rId2"/>
          <a:stretch/>
        </p:blipFill>
        <p:spPr>
          <a:xfrm>
            <a:off x="1782720" y="260280"/>
            <a:ext cx="4662360" cy="6408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4284720" y="5661000"/>
            <a:ext cx="40989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0000"/>
                    </a:gs>
                    <a:gs pos="100000">
                      <a:srgbClr val="cc0099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емляничка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ff0000"/>
                  </a:gs>
                  <a:gs pos="100000">
                    <a:srgbClr val="cc0099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92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192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ic037_2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-108000" y="5241960"/>
            <a:ext cx="925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Шаг 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Лепим листочки у земляни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ic037_3"/>
          <p:cNvPicPr/>
          <p:nvPr/>
        </p:nvPicPr>
        <p:blipFill>
          <a:blip r:embed="rId2"/>
          <a:stretch/>
        </p:blipFill>
        <p:spPr>
          <a:xfrm>
            <a:off x="0" y="0"/>
            <a:ext cx="6470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724360" y="1557360"/>
            <a:ext cx="396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Шаг 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Леп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стебе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c037_4"/>
          <p:cNvPicPr/>
          <p:nvPr/>
        </p:nvPicPr>
        <p:blipFill>
          <a:blip r:embed="rId2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320" y="1557360"/>
            <a:ext cx="3366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Шаг 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иступ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 леп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ic037_5"/>
          <p:cNvPicPr/>
          <p:nvPr/>
        </p:nvPicPr>
        <p:blipFill>
          <a:blip r:embed="rId3"/>
          <a:stretch/>
        </p:blipFill>
        <p:spPr>
          <a:xfrm>
            <a:off x="3132000" y="0"/>
            <a:ext cx="447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037_6"/>
          <p:cNvPicPr/>
          <p:nvPr/>
        </p:nvPicPr>
        <p:blipFill>
          <a:blip r:embed="rId2"/>
          <a:stretch/>
        </p:blipFill>
        <p:spPr>
          <a:xfrm>
            <a:off x="0" y="0"/>
            <a:ext cx="6948360" cy="6869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820200" y="1989000"/>
            <a:ext cx="232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Шаг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Дел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ягод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pic037_7"/>
          <p:cNvPicPr/>
          <p:nvPr/>
        </p:nvPicPr>
        <p:blipFill>
          <a:blip r:embed="rId3"/>
          <a:stretch/>
        </p:blipFill>
        <p:spPr>
          <a:xfrm>
            <a:off x="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-105480" y="1628640"/>
            <a:ext cx="3052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Шаг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Дел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малень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лис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к ягод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pic037_8"/>
          <p:cNvPicPr/>
          <p:nvPr/>
        </p:nvPicPr>
        <p:blipFill>
          <a:blip r:embed="rId2"/>
          <a:stretch/>
        </p:blipFill>
        <p:spPr>
          <a:xfrm>
            <a:off x="2771640" y="404640"/>
            <a:ext cx="637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85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земляничка"/>
          <p:cNvPicPr/>
          <p:nvPr/>
        </p:nvPicPr>
        <p:blipFill>
          <a:blip r:embed="rId2"/>
          <a:stretch/>
        </p:blipFill>
        <p:spPr>
          <a:xfrm>
            <a:off x="0" y="0"/>
            <a:ext cx="53895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876640" y="2052720"/>
            <a:ext cx="2942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Шаг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Любуе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сво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рабо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AG00373_"/>
          <p:cNvPicPr/>
          <p:nvPr/>
        </p:nvPicPr>
        <p:blipFill>
          <a:blip r:embed="rId2"/>
          <a:stretch/>
        </p:blipFill>
        <p:spPr>
          <a:xfrm>
            <a:off x="4716360" y="2637000"/>
            <a:ext cx="4176720" cy="401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101"/>
          <p:cNvPicPr/>
          <p:nvPr/>
        </p:nvPicPr>
        <p:blipFill>
          <a:blip r:embed="rId3"/>
          <a:stretch/>
        </p:blipFill>
        <p:spPr>
          <a:xfrm rot="17790600">
            <a:off x="1341360" y="3490920"/>
            <a:ext cx="1882800" cy="3343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50920" y="0"/>
            <a:ext cx="900108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лагодарю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AG00402_"/>
          <p:cNvPicPr/>
          <p:nvPr/>
        </p:nvPicPr>
        <p:blipFill>
          <a:blip r:embed="rId2"/>
          <a:stretch/>
        </p:blipFill>
        <p:spPr>
          <a:xfrm>
            <a:off x="0" y="836640"/>
            <a:ext cx="3187800" cy="507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Arial"/>
              </a:rPr>
              <a:t>«Отчего зацвёл цветок?»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Arial"/>
              </a:rPr>
              <a:t>Мальчик спрашивает м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Arial"/>
              </a:rPr>
              <a:t>«Оттого, что мы цвет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Arial"/>
              </a:rPr>
              <a:t>Не ленились поливать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404720" y="40464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ff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557440" y="115920"/>
            <a:ext cx="10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80720" y="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9999ff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565800" y="54936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00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005440" y="26028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c0099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58520" y="40464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7526520" y="0"/>
            <a:ext cx="136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52360" y="220500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cc00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117800" y="2637000"/>
            <a:ext cx="128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2413440" y="206064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4861080" y="206064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6600ff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086520" y="2349360"/>
            <a:ext cx="1252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7526520" y="198900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6600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3709800" y="270828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ccff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109440" y="4437000"/>
            <a:ext cx="128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478520" y="472428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80008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773440" y="436572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068360" y="436572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49800" y="493704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6373440" y="472428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9933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5" descr="AG00317_"/>
          <p:cNvPicPr/>
          <p:nvPr/>
        </p:nvPicPr>
        <p:blipFill>
          <a:blip r:embed="rId2"/>
          <a:stretch/>
        </p:blipFill>
        <p:spPr>
          <a:xfrm>
            <a:off x="7351560" y="3716280"/>
            <a:ext cx="1792440" cy="230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AG00315_"/>
          <p:cNvPicPr/>
          <p:nvPr/>
        </p:nvPicPr>
        <p:blipFill>
          <a:blip r:embed="rId3"/>
          <a:stretch/>
        </p:blipFill>
        <p:spPr>
          <a:xfrm>
            <a:off x="7229520" y="3789360"/>
            <a:ext cx="197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офейный сервиз"/>
          <p:cNvPicPr/>
          <p:nvPr/>
        </p:nvPicPr>
        <p:blipFill>
          <a:blip r:embed="rId2"/>
          <a:stretch/>
        </p:blipFill>
        <p:spPr>
          <a:xfrm>
            <a:off x="2484360" y="1217520"/>
            <a:ext cx="6389640" cy="564048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539640" y="476280"/>
            <a:ext cx="61437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олотая хохлома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6004000006"/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398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лебёдушка"/>
          <p:cNvPicPr/>
          <p:nvPr/>
        </p:nvPicPr>
        <p:blipFill>
          <a:blip r:embed="rId3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лебедь"/>
          <p:cNvPicPr/>
          <p:nvPr/>
        </p:nvPicPr>
        <p:blipFill>
          <a:blip r:embed="rId4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Хохлома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гончар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onchar"/>
          <p:cNvPicPr/>
          <p:nvPr/>
        </p:nvPicPr>
        <p:blipFill>
          <a:blip r:embed="rId3"/>
          <a:stretch/>
        </p:blipFill>
        <p:spPr>
          <a:xfrm>
            <a:off x="219564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800px-T%C3%B6pferscheibe"/>
          <p:cNvPicPr/>
          <p:nvPr/>
        </p:nvPicPr>
        <p:blipFill>
          <a:blip r:embed="rId4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гончарная печь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77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pech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95"/>
          <p:cNvPicPr/>
          <p:nvPr/>
        </p:nvPicPr>
        <p:blipFill>
          <a:blip r:embed="rId2"/>
          <a:stretch/>
        </p:blipFill>
        <p:spPr>
          <a:xfrm>
            <a:off x="2843280" y="0"/>
            <a:ext cx="3201840" cy="403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krugk"/>
          <p:cNvPicPr/>
          <p:nvPr/>
        </p:nvPicPr>
        <p:blipFill>
          <a:blip r:embed="rId3"/>
          <a:stretch/>
        </p:blipFill>
        <p:spPr>
          <a:xfrm>
            <a:off x="0" y="3195720"/>
            <a:ext cx="3780000" cy="366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uvi"/>
          <p:cNvPicPr/>
          <p:nvPr/>
        </p:nvPicPr>
        <p:blipFill>
          <a:blip r:embed="rId4"/>
          <a:stretch/>
        </p:blipFill>
        <p:spPr>
          <a:xfrm>
            <a:off x="5829480" y="2565360"/>
            <a:ext cx="3314520" cy="429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_0808"/>
          <p:cNvPicPr/>
          <p:nvPr/>
        </p:nvPicPr>
        <p:blipFill>
          <a:blip r:embed="rId5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дымково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Picture 6" descr="дама с собачка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348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жар-птица"/>
            <p:cNvPicPr/>
            <p:nvPr/>
          </p:nvPicPr>
          <p:blipFill>
            <a:blip r:embed="rId4"/>
            <a:stretch/>
          </p:blipFill>
          <p:spPr>
            <a:xfrm>
              <a:off x="3348000" y="0"/>
              <a:ext cx="5796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9" descr="утиное семейство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барашек и курочка"/>
          <p:cNvPicPr/>
          <p:nvPr/>
        </p:nvPicPr>
        <p:blipFill>
          <a:blip r:embed="rId6"/>
          <a:stretch/>
        </p:blipFill>
        <p:spPr>
          <a:xfrm>
            <a:off x="0" y="11160"/>
            <a:ext cx="9144000" cy="6831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15" descr="любимый гармонист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4595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6" descr="i60014"/>
            <p:cNvPicPr/>
            <p:nvPr/>
          </p:nvPicPr>
          <p:blipFill>
            <a:blip r:embed="rId8"/>
            <a:stretch/>
          </p:blipFill>
          <p:spPr>
            <a:xfrm>
              <a:off x="4557600" y="0"/>
              <a:ext cx="4586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WordArt 18"/>
          <p:cNvSpPr txBox="1"/>
          <p:nvPr/>
        </p:nvSpPr>
        <p:spPr>
          <a:xfrm>
            <a:off x="395280" y="981000"/>
            <a:ext cx="8353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ымко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10:14Z</dcterms:created>
  <dc:creator>1</dc:creator>
  <dc:description/>
  <dc:language>en-US</dc:language>
  <cp:lastModifiedBy>Катенок</cp:lastModifiedBy>
  <dcterms:modified xsi:type="dcterms:W3CDTF">2010-07-12T07:28:18Z</dcterms:modified>
  <cp:revision>14</cp:revision>
  <dc:subject/>
  <dc:title>Слайд 1</dc:title>
</cp:coreProperties>
</file>