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9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1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788-26C7-4EAA-AE76-538CCD51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1B8-334D-4F88-8700-1E09DE1B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88E-BC74-4F5C-AF89-F71C67F4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673-34EE-4FC0-AF90-1457906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B4D-C684-428D-915A-F5F7DF6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BBC-B632-4040-9095-E617DCD5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CFC-186D-4DDF-83FA-17B72713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258-70A6-421B-8DBC-CE7D30A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20D-3343-494C-BD29-745F967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C35-D841-47F2-90E5-A494B61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B70-7F77-4182-AC0B-60E40F6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C7C-0A43-4FA8-A84F-8ABAF70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5817-5468-4E88-8EA7-3577AED6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5943600"/>
            <a:ext cx="54288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4120" y="594360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800600" y="5943600"/>
            <a:ext cx="457200" cy="7142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812880" y="304920"/>
            <a:ext cx="65008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May you and your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be bless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peacefu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successfu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health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wealth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uck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prosp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for the whole year throug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68560" y="1523880"/>
            <a:ext cx="6175440" cy="15541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3120" y="152280"/>
            <a:ext cx="5278680" cy="5214600"/>
          </a:xfrm>
          <a:prstGeom prst="rect">
            <a:avLst/>
          </a:prstGeom>
          <a:solidFill>
            <a:srgbClr val="ccff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fresh new year is he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year to l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banish worry, doubt, fe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love, and laugh, and g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bright new year is give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live each day with ze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aily grow and try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r highest and our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 have th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ce more to right some wron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pray for peace, to plant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sing more joyful son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718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76520" y="152280"/>
            <a:ext cx="5735520" cy="8226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0080" y="0"/>
            <a:ext cx="5643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0" y="1219320"/>
          <a:ext cx="416556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416556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705720" y="0"/>
          <a:ext cx="243828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5720" y="0"/>
                    <a:ext cx="243828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stryusha</cp:lastModifiedBy>
  <dcterms:modified xsi:type="dcterms:W3CDTF">2009-12-29T06:00:3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