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8.png" ContentType="image/png"/>
  <Override PartName="/ppt/media/image5.gif" ContentType="image/gif"/>
  <Override PartName="/ppt/media/image18.jpeg" ContentType="image/jpeg"/>
  <Override PartName="/ppt/media/image16.gif" ContentType="image/gif"/>
  <Override PartName="/ppt/media/image2.png" ContentType="image/png"/>
  <Override PartName="/ppt/media/image17.png" ContentType="image/png"/>
  <Override PartName="/ppt/media/image14.gif" ContentType="image/gif"/>
  <Override PartName="/ppt/media/image1.png" ContentType="image/png"/>
  <Override PartName="/ppt/media/image7.jpeg" ContentType="image/jpeg"/>
  <Override PartName="/ppt/media/image15.gif" ContentType="image/gif"/>
  <Override PartName="/ppt/media/image3.png" ContentType="image/png"/>
  <Override PartName="/ppt/media/image4.png" ContentType="image/png"/>
  <Override PartName="/ppt/media/image10.gif" ContentType="image/gif"/>
  <Override PartName="/ppt/media/image9.png" ContentType="image/png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A85-16D5-4B58-93B5-D93F3713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5C6-0FBA-4793-8B70-C35A8326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CA4-3F1D-42D4-A5DC-C7769210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33E-A81D-498B-8569-9180B080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03C2-35C4-4740-AC1F-52B2AEE3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15C8-3890-4B02-96C8-036174BD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D38E-48A4-47A9-9DEC-E550457F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2183-8723-4C9E-9AE3-6C6F0CED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DE74-AB41-4370-85A1-30103333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BA46-BDF6-4F7B-AFBD-1D019ACD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8877-F968-4E3D-9884-1746B9E2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8AB-6C70-4A5B-BDC6-8D15B5EE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9CF9-7812-4758-A297-BE69454E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6082-2719-4AD6-B38E-B1BC749A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F30B-7B53-4820-AE08-05C676D0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6D36-8A9D-4655-AF00-EADBA2AD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C0B7-7C2E-4D8F-86B9-CDB8368E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98AF5-E8FF-4077-BF98-228E5EAA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7BD3C-00D4-4667-A318-996274B8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2C83-C69A-4226-BF07-CE0633DF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772D-B5B0-4ECD-B06D-D11F9870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D5F7F-5635-49E0-95A1-E2FA6B05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8B4-7F63-444F-8DA0-A5625F51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631C0-1161-46DA-AAA2-2E94A3FD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2C4D0-F7A5-43BB-AEB6-566BFC4A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6B75-047C-4C33-A768-C1D95D22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292A-649E-44AE-AE0F-1DFD83E4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A3E5-C520-4FFE-86D1-9E85A9F6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6923-CFB6-4F28-BAFE-BE616AFE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B6858-CCE8-4B41-B84F-29066B15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F86-E6DA-466B-ADCB-6B8525FE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CCF-DA9A-4933-A9EB-6F47FE02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CF0-E449-4619-A5EA-328E8298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808-2E06-492D-A124-7BA385E8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635-46F8-46E4-ACCF-8303F4F9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990-202E-4DAB-803D-F26C1715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DC0E-4642-47CF-862E-3ED946F977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187B-7D43-4320-9370-E1E74D3FB7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D40B-32CF-42DA-A8A6-A948EE61651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ookman Old Style"/>
              </a:rPr>
              <a:t>Умножение и </a:t>
            </a: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Bookman Old Style"/>
              </a:rPr>
              <a:t>деление на 5 .</a:t>
            </a: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Bookman Old Style"/>
              </a:rPr>
              <a:t>Пятая часть числа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71840" y="5572080"/>
            <a:ext cx="56433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Составила Мизерная Е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09 Новый год (Галкин Сердючка).mp3" descr=""/>
          <p:cNvPicPr/>
          <p:nvPr/>
        </p:nvPicPr>
        <p:blipFill>
          <a:blip r:embed="rId2"/>
          <a:stretch/>
        </p:blipFill>
        <p:spPr>
          <a:xfrm>
            <a:off x="121428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4326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rose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Arial"/>
              </a:rPr>
              <a:t>Сегодня на уроке я узнал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Arial"/>
              </a:rPr>
              <a:t>На уроке мне понравилось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rose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33"/>
                </a:solidFill>
                <a:latin typeface="Bookman Old Style"/>
              </a:rPr>
              <a:t>Домашнее задание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100" spc="-1" strike="noStrike">
                <a:solidFill>
                  <a:srgbClr val="006699"/>
                </a:solidFill>
                <a:latin typeface="Arial"/>
              </a:rPr>
              <a:t>Стр. 8 – правило,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100" spc="-1" strike="noStrike">
                <a:solidFill>
                  <a:srgbClr val="006699"/>
                </a:solidFill>
                <a:latin typeface="Arial"/>
              </a:rPr>
              <a:t>№</a:t>
            </a:r>
            <a:r>
              <a:rPr b="1" i="1" lang="ru-RU" sz="6100" spc="-1" strike="noStrike">
                <a:solidFill>
                  <a:srgbClr val="006699"/>
                </a:solidFill>
                <a:latin typeface="Arial"/>
              </a:rPr>
              <a:t>11, 27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ad000"/>
                </a:solidFill>
                <a:latin typeface="Bookman Old Style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7933c"/>
                </a:solidFill>
                <a:latin typeface="Bookman Old Style"/>
              </a:rPr>
              <a:t>Повторим таблицу умножения и деления на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7933c"/>
                </a:solidFill>
                <a:latin typeface="Bookman Old Style"/>
              </a:rPr>
              <a:t>Научимся находить пятую часть чис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7933c"/>
                </a:solidFill>
                <a:latin typeface="Bookman Old Style"/>
              </a:rPr>
              <a:t>Будем думать, размышлять, на вопросы отвеч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7933c"/>
                </a:solidFill>
                <a:latin typeface="Bookman Old Style"/>
              </a:rPr>
              <a:t> </a:t>
            </a:r>
            <a:r>
              <a:rPr b="0" i="1" lang="ru-RU" sz="3200" spc="-1" strike="noStrike">
                <a:solidFill>
                  <a:srgbClr val="77933c"/>
                </a:solidFill>
                <a:latin typeface="Bookman Old Style"/>
              </a:rPr>
              <a:t>И задачи, и примеры будем быстро           м      мы счит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Зарядка для ум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7-конечная звезда 17"/>
          <p:cNvSpPr/>
          <p:nvPr/>
        </p:nvSpPr>
        <p:spPr>
          <a:xfrm>
            <a:off x="500040" y="1785960"/>
            <a:ext cx="1785960" cy="17143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7-конечная звезда 22"/>
          <p:cNvSpPr/>
          <p:nvPr/>
        </p:nvSpPr>
        <p:spPr>
          <a:xfrm>
            <a:off x="2428920" y="1143000"/>
            <a:ext cx="1785960" cy="17146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7-конечная звезда 23"/>
          <p:cNvSpPr/>
          <p:nvPr/>
        </p:nvSpPr>
        <p:spPr>
          <a:xfrm>
            <a:off x="3857760" y="2143080"/>
            <a:ext cx="1785960" cy="17146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-конечная звезда 24"/>
          <p:cNvSpPr/>
          <p:nvPr/>
        </p:nvSpPr>
        <p:spPr>
          <a:xfrm>
            <a:off x="5286240" y="1214280"/>
            <a:ext cx="1785960" cy="17146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-конечная звезда 25"/>
          <p:cNvSpPr/>
          <p:nvPr/>
        </p:nvSpPr>
        <p:spPr>
          <a:xfrm>
            <a:off x="7072200" y="2071800"/>
            <a:ext cx="1785960" cy="17143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7-конечная звезда 26"/>
          <p:cNvSpPr/>
          <p:nvPr/>
        </p:nvSpPr>
        <p:spPr>
          <a:xfrm>
            <a:off x="428760" y="4714920"/>
            <a:ext cx="1785960" cy="17143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7-конечная звезда 27"/>
          <p:cNvSpPr/>
          <p:nvPr/>
        </p:nvSpPr>
        <p:spPr>
          <a:xfrm>
            <a:off x="1928880" y="3571920"/>
            <a:ext cx="1785960" cy="17143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7-конечная звезда 28"/>
          <p:cNvSpPr/>
          <p:nvPr/>
        </p:nvSpPr>
        <p:spPr>
          <a:xfrm>
            <a:off x="3714840" y="4714920"/>
            <a:ext cx="1785960" cy="17143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-конечная звезда 29"/>
          <p:cNvSpPr/>
          <p:nvPr/>
        </p:nvSpPr>
        <p:spPr>
          <a:xfrm>
            <a:off x="5286240" y="3643200"/>
            <a:ext cx="1785960" cy="17146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7-конечная звезда 30"/>
          <p:cNvSpPr/>
          <p:nvPr/>
        </p:nvSpPr>
        <p:spPr>
          <a:xfrm>
            <a:off x="6715080" y="4714920"/>
            <a:ext cx="1785960" cy="17143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3"/>
          <p:cNvSpPr/>
          <p:nvPr/>
        </p:nvSpPr>
        <p:spPr>
          <a:xfrm>
            <a:off x="1143000" y="2500200"/>
            <a:ext cx="571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3071880" y="1500120"/>
            <a:ext cx="571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5"/>
          <p:cNvSpPr/>
          <p:nvPr/>
        </p:nvSpPr>
        <p:spPr>
          <a:xfrm>
            <a:off x="1000080" y="228600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6"/>
          <p:cNvSpPr/>
          <p:nvPr/>
        </p:nvSpPr>
        <p:spPr>
          <a:xfrm>
            <a:off x="2928960" y="164304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7"/>
          <p:cNvSpPr/>
          <p:nvPr/>
        </p:nvSpPr>
        <p:spPr>
          <a:xfrm>
            <a:off x="4357800" y="264312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8"/>
          <p:cNvSpPr/>
          <p:nvPr/>
        </p:nvSpPr>
        <p:spPr>
          <a:xfrm>
            <a:off x="5857920" y="17146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9"/>
          <p:cNvSpPr/>
          <p:nvPr/>
        </p:nvSpPr>
        <p:spPr>
          <a:xfrm>
            <a:off x="7715160" y="2571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0"/>
          <p:cNvSpPr/>
          <p:nvPr/>
        </p:nvSpPr>
        <p:spPr>
          <a:xfrm>
            <a:off x="928800" y="528624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2500200" y="407196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2"/>
          <p:cNvSpPr/>
          <p:nvPr/>
        </p:nvSpPr>
        <p:spPr>
          <a:xfrm>
            <a:off x="4214880" y="521496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3"/>
          <p:cNvSpPr/>
          <p:nvPr/>
        </p:nvSpPr>
        <p:spPr>
          <a:xfrm>
            <a:off x="5929200" y="414324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4"/>
          <p:cNvSpPr/>
          <p:nvPr/>
        </p:nvSpPr>
        <p:spPr>
          <a:xfrm>
            <a:off x="7358040" y="528624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5600" y="691920"/>
            <a:ext cx="8528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Работаем в групп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835280" y="2491920"/>
            <a:ext cx="64008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Разложите 10 яблок на 5 тарелок поровну. Сколько яблок окажется на 1 тарел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H:\Documents and Settings\Aida\Рабочий стол\НОвая ГРАФИКА сборник\boy07.gif"/>
          <p:cNvPicPr/>
          <p:nvPr/>
        </p:nvPicPr>
        <p:blipFill>
          <a:blip r:embed="rId1"/>
          <a:stretch/>
        </p:blipFill>
        <p:spPr>
          <a:xfrm>
            <a:off x="285840" y="4000680"/>
            <a:ext cx="1627200" cy="1479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2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7"/>
          <p:cNvSpPr/>
          <p:nvPr/>
        </p:nvSpPr>
        <p:spPr>
          <a:xfrm>
            <a:off x="6877080" y="4797360"/>
            <a:ext cx="1944720" cy="1727280"/>
          </a:xfrm>
          <a:prstGeom prst="ellipse">
            <a:avLst/>
          </a:prstGeom>
          <a:solidFill>
            <a:srgbClr val="c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5219640" y="3429000"/>
            <a:ext cx="1944720" cy="1728720"/>
          </a:xfrm>
          <a:prstGeom prst="ellipse">
            <a:avLst/>
          </a:prstGeom>
          <a:solidFill>
            <a:srgbClr val="c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3492360" y="4797360"/>
            <a:ext cx="1944720" cy="1727280"/>
          </a:xfrm>
          <a:prstGeom prst="ellipse">
            <a:avLst/>
          </a:prstGeom>
          <a:solidFill>
            <a:srgbClr val="c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763640" y="3357720"/>
            <a:ext cx="1944720" cy="1726920"/>
          </a:xfrm>
          <a:prstGeom prst="ellipse">
            <a:avLst/>
          </a:prstGeom>
          <a:solidFill>
            <a:srgbClr val="c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1"/>
          <p:cNvSpPr/>
          <p:nvPr/>
        </p:nvSpPr>
        <p:spPr>
          <a:xfrm>
            <a:off x="179280" y="4941720"/>
            <a:ext cx="1944720" cy="1727280"/>
          </a:xfrm>
          <a:prstGeom prst="ellipse">
            <a:avLst/>
          </a:prstGeom>
          <a:solidFill>
            <a:srgbClr val="c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2124000" y="1341360"/>
            <a:ext cx="865440" cy="79236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6"/>
          <p:cNvSpPr/>
          <p:nvPr/>
        </p:nvSpPr>
        <p:spPr>
          <a:xfrm>
            <a:off x="611280" y="549360"/>
            <a:ext cx="865080" cy="7920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4"/>
          <p:cNvSpPr/>
          <p:nvPr/>
        </p:nvSpPr>
        <p:spPr>
          <a:xfrm>
            <a:off x="3276720" y="476280"/>
            <a:ext cx="914400" cy="9144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5"/>
          <p:cNvSpPr/>
          <p:nvPr/>
        </p:nvSpPr>
        <p:spPr>
          <a:xfrm>
            <a:off x="611280" y="1989000"/>
            <a:ext cx="865080" cy="79236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8"/>
          <p:cNvSpPr/>
          <p:nvPr/>
        </p:nvSpPr>
        <p:spPr>
          <a:xfrm>
            <a:off x="3564000" y="1989000"/>
            <a:ext cx="914400" cy="9144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9"/>
          <p:cNvSpPr/>
          <p:nvPr/>
        </p:nvSpPr>
        <p:spPr>
          <a:xfrm>
            <a:off x="7596360" y="620640"/>
            <a:ext cx="914400" cy="84132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0"/>
          <p:cNvSpPr/>
          <p:nvPr/>
        </p:nvSpPr>
        <p:spPr>
          <a:xfrm>
            <a:off x="4859280" y="1197000"/>
            <a:ext cx="914400" cy="9144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1"/>
          <p:cNvSpPr/>
          <p:nvPr/>
        </p:nvSpPr>
        <p:spPr>
          <a:xfrm>
            <a:off x="6084720" y="2205000"/>
            <a:ext cx="914400" cy="9144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2"/>
          <p:cNvSpPr/>
          <p:nvPr/>
        </p:nvSpPr>
        <p:spPr>
          <a:xfrm>
            <a:off x="7667640" y="2060640"/>
            <a:ext cx="914400" cy="9144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3"/>
          <p:cNvSpPr/>
          <p:nvPr/>
        </p:nvSpPr>
        <p:spPr>
          <a:xfrm>
            <a:off x="5796000" y="476280"/>
            <a:ext cx="914400" cy="9144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4335E-006 L -0.05503 0.67122 E">
                                      <p:cBhvr>
                                        <p:cTn id="173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5607E-006 L 0.13385 0.28324 E">
                                      <p:cBhvr>
                                        <p:cTn id="176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83237E-006 L 0.18108 0.55606 E">
                                      <p:cBhvr>
                                        <p:cTn id="179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0671 L 0.18906 0.23075 E">
                                      <p:cBhvr>
                                        <p:cTn id="182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5.78035E-007 L 0.44098 0.69226 E">
                                      <p:cBhvr>
                                        <p:cTn id="185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9.42197E-006 L -0.44896 0.65018 E">
                                      <p:cBhvr>
                                        <p:cTn id="189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5.78035E-007 L -0.33854 0.50359 E">
                                      <p:cBhvr>
                                        <p:cTn id="192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5.49133E-006 L -0.19687 0.51398 E">
                                      <p:cBhvr>
                                        <p:cTn id="195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8.49711E-006 L -0.17326 0.4719 E">
                                      <p:cBhvr>
                                        <p:cTn id="198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32948E-006 L 0.03142 0.51375 E">
                                      <p:cBhvr>
                                        <p:cTn id="201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6877080" y="4797360"/>
            <a:ext cx="1944720" cy="1727280"/>
          </a:xfrm>
          <a:prstGeom prst="ellipse">
            <a:avLst/>
          </a:prstGeom>
          <a:solidFill>
            <a:srgbClr val="c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"/>
          <p:cNvSpPr/>
          <p:nvPr/>
        </p:nvSpPr>
        <p:spPr>
          <a:xfrm>
            <a:off x="5219640" y="3429000"/>
            <a:ext cx="1944720" cy="1728720"/>
          </a:xfrm>
          <a:prstGeom prst="ellipse">
            <a:avLst/>
          </a:prstGeom>
          <a:solidFill>
            <a:srgbClr val="c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3492360" y="4797360"/>
            <a:ext cx="1944720" cy="1727280"/>
          </a:xfrm>
          <a:prstGeom prst="ellipse">
            <a:avLst/>
          </a:prstGeom>
          <a:solidFill>
            <a:srgbClr val="c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1763640" y="3357720"/>
            <a:ext cx="1944720" cy="1726920"/>
          </a:xfrm>
          <a:prstGeom prst="ellipse">
            <a:avLst/>
          </a:prstGeom>
          <a:solidFill>
            <a:srgbClr val="c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179280" y="4941720"/>
            <a:ext cx="1944720" cy="1727280"/>
          </a:xfrm>
          <a:prstGeom prst="ellipse">
            <a:avLst/>
          </a:prstGeom>
          <a:solidFill>
            <a:srgbClr val="c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9"/>
          <p:cNvSpPr/>
          <p:nvPr/>
        </p:nvSpPr>
        <p:spPr>
          <a:xfrm>
            <a:off x="2124000" y="1341360"/>
            <a:ext cx="865440" cy="79236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611280" y="549360"/>
            <a:ext cx="865080" cy="7920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1"/>
          <p:cNvSpPr/>
          <p:nvPr/>
        </p:nvSpPr>
        <p:spPr>
          <a:xfrm>
            <a:off x="3276720" y="476280"/>
            <a:ext cx="914400" cy="9144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611280" y="1989000"/>
            <a:ext cx="865080" cy="79236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3"/>
          <p:cNvSpPr/>
          <p:nvPr/>
        </p:nvSpPr>
        <p:spPr>
          <a:xfrm>
            <a:off x="3564000" y="1989000"/>
            <a:ext cx="914400" cy="9144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4"/>
          <p:cNvSpPr/>
          <p:nvPr/>
        </p:nvSpPr>
        <p:spPr>
          <a:xfrm>
            <a:off x="7596360" y="620640"/>
            <a:ext cx="914400" cy="84132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5"/>
          <p:cNvSpPr/>
          <p:nvPr/>
        </p:nvSpPr>
        <p:spPr>
          <a:xfrm>
            <a:off x="4859280" y="1197000"/>
            <a:ext cx="914400" cy="9144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6"/>
          <p:cNvSpPr/>
          <p:nvPr/>
        </p:nvSpPr>
        <p:spPr>
          <a:xfrm>
            <a:off x="6084720" y="2205000"/>
            <a:ext cx="914400" cy="9144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7"/>
          <p:cNvSpPr/>
          <p:nvPr/>
        </p:nvSpPr>
        <p:spPr>
          <a:xfrm>
            <a:off x="7667640" y="2060640"/>
            <a:ext cx="914400" cy="9144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8"/>
          <p:cNvSpPr/>
          <p:nvPr/>
        </p:nvSpPr>
        <p:spPr>
          <a:xfrm>
            <a:off x="5796000" y="476280"/>
            <a:ext cx="914400" cy="914400"/>
          </a:xfrm>
          <a:prstGeom prst="ellipse">
            <a:avLst/>
          </a:prstGeom>
          <a:solidFill>
            <a:srgbClr val="a5b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4335E-006 L -0.05503 0.67122 E">
                                      <p:cBhvr>
                                        <p:cTn id="207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5607E-006 L 0.13385 0.28324 E">
                                      <p:cBhvr>
                                        <p:cTn id="209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83237E-006 L 0.18108 0.55606 E">
                                      <p:cBhvr>
                                        <p:cTn id="211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0671 L 0.18906 0.23075 E">
                                      <p:cBhvr>
                                        <p:cTn id="213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5.78035E-007 L 0.44098 0.69226 E">
                                      <p:cBhvr>
                                        <p:cTn id="215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9.42197E-006 L -0.44896 0.65018 E">
                                      <p:cBhvr>
                                        <p:cTn id="217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5.78035E-007 L -0.33854 0.50359 E">
                                      <p:cBhvr>
                                        <p:cTn id="219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5.49133E-006 L -0.19687 0.51398 E">
                                      <p:cBhvr>
                                        <p:cTn id="221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8.49711E-006 L -0.17326 0.4719 E">
                                      <p:cBhvr>
                                        <p:cTn id="223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32948E-006 L 0.03142 0.51375 E">
                                      <p:cBhvr>
                                        <p:cTn id="225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orange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33"/>
                </a:solidFill>
                <a:latin typeface="Garamond"/>
              </a:rPr>
              <a:t>ФИЗМИНУТКА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50"/>
                            </p:stCondLst>
                            <p:childTnLst>
                              <p:par>
                                <p:cTn id="23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2"/>
          <p:cNvSpPr/>
          <p:nvPr/>
        </p:nvSpPr>
        <p:spPr>
          <a:xfrm>
            <a:off x="-36360" y="4869000"/>
            <a:ext cx="9196200" cy="2287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ddd0fc32575ct"/>
          <p:cNvPicPr/>
          <p:nvPr/>
        </p:nvPicPr>
        <p:blipFill>
          <a:blip r:embed="rId2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b812f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b812f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cc9900"/>
              </a:gs>
            </a:gsLst>
            <a:lin ang="4848000"/>
          </a:gradFill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cc9900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6" descr="arg-blue-left-tr"/>
          <p:cNvPicPr/>
          <p:nvPr/>
        </p:nvPicPr>
        <p:blipFill>
          <a:blip r:embed="rId3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" descr="ani-bird_red"/>
          <p:cNvPicPr/>
          <p:nvPr/>
        </p:nvPicPr>
        <p:blipFill>
          <a:blip r:embed="rId4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b13"/>
          <p:cNvPicPr/>
          <p:nvPr/>
        </p:nvPicPr>
        <p:blipFill>
          <a:blip r:embed="rId5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9" descr="b13"/>
          <p:cNvPicPr/>
          <p:nvPr/>
        </p:nvPicPr>
        <p:blipFill>
          <a:blip r:embed="rId6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20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2" descr="B_Fly31"/>
          <p:cNvPicPr/>
          <p:nvPr/>
        </p:nvPicPr>
        <p:blipFill>
          <a:blip r:embed="rId7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3" descr="B_Fly21"/>
          <p:cNvPicPr/>
          <p:nvPr/>
        </p:nvPicPr>
        <p:blipFill>
          <a:blip r:embed="rId8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B_Fly14"/>
          <p:cNvPicPr/>
          <p:nvPr/>
        </p:nvPicPr>
        <p:blipFill>
          <a:blip r:embed="rId9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5" descr="b11"/>
          <p:cNvPicPr/>
          <p:nvPr/>
        </p:nvPicPr>
        <p:blipFill>
          <a:blip r:embed="rId10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b11"/>
          <p:cNvPicPr/>
          <p:nvPr/>
        </p:nvPicPr>
        <p:blipFill>
          <a:blip r:embed="rId11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27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8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000"/>
                            </p:stCondLst>
                            <p:childTnLst>
                              <p:par>
                                <p:cTn id="3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4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1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34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4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345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6000"/>
                            </p:stCondLst>
                            <p:childTnLst>
                              <p:par>
                                <p:cTn id="35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3000"/>
                            </p:stCondLst>
                            <p:childTnLst>
                              <p:par>
                                <p:cTn id="36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7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5000"/>
                            </p:stCondLst>
                            <p:childTnLst>
                              <p:par>
                                <p:cTn id="37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7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8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9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0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4000"/>
                            </p:stCondLst>
                            <p:childTnLst>
                              <p:par>
                                <p:cTn id="3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7000"/>
                            </p:stCondLst>
                            <p:childTnLst>
                              <p:par>
                                <p:cTn id="41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412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1000"/>
                            </p:stCondLst>
                            <p:childTnLst>
                              <p:par>
                                <p:cTn id="4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3000"/>
                            </p:stCondLst>
                            <p:childTnLst>
                              <p:par>
                                <p:cTn id="41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420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7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smile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33"/>
                </a:solidFill>
                <a:latin typeface="Bookman Old Style"/>
              </a:rPr>
              <a:t>ПРОВЕРЬ СЕБЯ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вариант                      2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5                                    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                                       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2                                     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                                       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4                                     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1:10:32Z</dcterms:created>
  <dc:creator>Демонстрационно-бесплатная версия</dc:creator>
  <dc:description/>
  <dc:language>en-US</dc:language>
  <cp:lastModifiedBy>Шарыпова Елена Викторовна</cp:lastModifiedBy>
  <dcterms:modified xsi:type="dcterms:W3CDTF">2009-12-16T04:56:55Z</dcterms:modified>
  <cp:revision>9</cp:revision>
  <dc:subject/>
  <dc:title>Умножение и  деление на 5 . Пятая часть числа </dc:title>
</cp:coreProperties>
</file>