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82C-6C57-4BB0-AECA-017BCBE9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CE8-7C5F-4FFE-AD72-FD77B642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D36-82E5-4E9A-8414-1953B42C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E4E-670F-4A03-9920-4D937182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7F7-7B2B-46E0-9FC8-4C20B1DA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28E7-C080-4845-BE6E-19622CF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928B-9E60-40EA-8940-E446CE53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92E8-F132-48F6-8B28-CB040B1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78AF-4C3D-4577-AF1D-4573B3E7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F80C-0F90-4CCE-B835-E3E10CB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084-7F20-4917-B0DE-3C1F4D55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D6D-68CA-4087-A948-FC92894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1763-B4EB-4F26-8F98-38E6E10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93B-6584-4824-8680-ACDC2DE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692-868A-459B-9ADA-F6EF5478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4AB-C13B-4F94-BB54-4810F7E2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D485-DB0A-4BBB-8EE5-9853846A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7BC-4EE9-4F4E-BF91-EEE5257D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1A0-72EE-45DD-B188-6D72522D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5A8-F4DC-4E01-9D10-B91B6A68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458-AFC1-4F22-8A07-83BB5B6D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741-2049-4322-9365-A28628F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871-84DD-4CBA-9321-E25F9BD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733-2D37-4B6B-A828-43782700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81B3-3ADC-480D-A508-998B47D470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CB04-D50E-4C63-B1BA-B3EDA5109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e73a0b"/>
                </a:solidFill>
                <a:latin typeface="Arial Black"/>
              </a:rPr>
              <a:t>Красная книга</a:t>
            </a:r>
            <a:endParaRPr b="1" lang="en-US" sz="1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522936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стави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кова Л. 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85327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3927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Большеклювая вор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Чёрный дят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189000"/>
            <a:ext cx="3751200" cy="34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067280" y="3716280"/>
            <a:ext cx="46371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838512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21640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Мандари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озовый фламин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27360" cy="339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3719520"/>
            <a:ext cx="44640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51192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866920" y="1904760"/>
            <a:ext cx="2978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етер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епной орё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4248000" cy="3211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4680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51192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30592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Маха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Мнемоз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80000" y="115920"/>
            <a:ext cx="4662360" cy="3498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08360" y="3789360"/>
            <a:ext cx="4680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5119200"/>
            <a:ext cx="179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11640" y="1904760"/>
            <a:ext cx="2833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тре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адали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80000" cy="3208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3668760"/>
            <a:ext cx="46800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-5119200"/>
            <a:ext cx="277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16360" y="1904760"/>
            <a:ext cx="232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Осё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Вырезу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067280" cy="4095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4680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52948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e73a0b"/>
                </a:solidFill>
                <a:latin typeface="Arial Black"/>
              </a:rPr>
              <a:t>Люби и охраняй нашу природу!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691000" cy="4191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08720" y="476280"/>
            <a:ext cx="2663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276720" y="-1080"/>
            <a:ext cx="3754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81440" cy="3108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19280" y="980640"/>
            <a:ext cx="33987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Боре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Ли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4495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83851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ион тонколи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яб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52720" cy="3136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68000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5119200"/>
            <a:ext cx="457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041800" cy="3351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5184720" cy="2897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867280" y="1268280"/>
            <a:ext cx="295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М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снеж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736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Шафран двухцветко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дснеж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680000" cy="3556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4608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83851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мурский т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елый медв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404640"/>
            <a:ext cx="5040000" cy="306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80000" y="3645000"/>
            <a:ext cx="48956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83851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79640" y="549000"/>
            <a:ext cx="32655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Мор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амышовый к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31680"/>
            <a:ext cx="4753080" cy="3513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603600"/>
            <a:ext cx="46083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86058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51640" y="1904760"/>
            <a:ext cx="280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Дельф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расная ли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040360" cy="3087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0418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5:45:57Z</dcterms:created>
  <dc:creator>SamLab.ws</dc:creator>
  <dc:description/>
  <dc:language>en-US</dc:language>
  <cp:lastModifiedBy>Admin</cp:lastModifiedBy>
  <dcterms:modified xsi:type="dcterms:W3CDTF">2009-12-22T07:40:16Z</dcterms:modified>
  <cp:revision>3</cp:revision>
  <dc:subject/>
  <dc:title>Красная книга</dc:title>
</cp:coreProperties>
</file>