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8EA-4BE7-49C3-97B3-422BC201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B7A-74F8-4728-8B38-7A2BD44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FC856-BF28-42E0-961B-FB759C6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6A890-0958-454D-BD90-16EB7FDA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56293-CD86-4AB7-963C-F4E4C4A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35B09-7D0C-405A-AD7A-DF4F725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538CE-AC0A-4270-97AD-073C4A2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0EA34-0169-4133-B2E1-184FE3F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1BCF-5B78-45BC-9977-A7C4F627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E48B4-A424-4792-9682-E6AE3CDF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88EB-8B34-4AB4-8F9D-B435285F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2FDEE-63CE-42AC-A54E-E48E4CFF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978-E8BA-44E5-AA4C-DA98AD4F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F85D5-3291-4DB8-8539-C9D742AD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5B559-4C04-467A-A2C8-F104F7B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8869-42AB-4CDB-8BBA-24B3FC95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946A3-3922-4C3F-A8CE-C862CFB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CFEBE-5B39-4041-B920-49C25796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ABDCF-DF1A-4A57-A50F-34AD45F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767E1-146B-40A9-871B-E63D517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6760B-1CE8-4E0F-A192-A8478F2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AAFF8-5C64-4AF7-B717-6FB57891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B12ED-F67E-424C-B6BC-48D6157B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434-8C90-4A25-BD53-32E03BBB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39CB2-76CF-467F-92CF-CD56CBC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254A6-448C-4EE5-A70C-291750BE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19B8B-FD19-4A0B-BEFA-729FBBF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4757A-9D89-4776-92F9-512FABE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796A4-16E0-47D6-AB02-AD9A5474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4F040-783C-49C4-BA5B-F48F799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B06B-B666-42DB-819E-8DFB7A8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F6110-EDCF-4E0E-9BF3-7835180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9B45-7ED8-4351-8AD1-B298197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10FB4-82B2-4C05-87AD-74DBD5D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2E53-2411-4D49-8434-1AD43BAE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AB88-D723-4899-8B95-BB48396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3452-2A33-4D62-B132-3245F27B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43245-B3A5-45BC-81AD-0B7966D0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2D3F3-BBAF-4020-841E-E61FF5CB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1224F-33B3-4EC4-BC6B-AE6F31C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9D66-72C1-4C21-8A20-D2DC31E5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32AA5-EE37-48DE-B405-AD96A89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53A8C-53A5-4C24-B8A3-5D55C1B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9FF49-364F-457E-9744-093C4566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18AB8-E38C-4E77-A24C-D4CCA13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D1E2-DFE9-45C9-8ECC-BDF156D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5245A-00F6-4DB5-9D18-E602546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961CA-669D-4DB2-BA0C-4D964DF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4C656-71BB-4174-A281-512BFB9E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6B16E-063F-43FA-AAB1-1AE905A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FBDDA-81BE-4E6A-BB90-AE4AE69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22D7-AF31-4BDE-A281-6A838E0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2AF8-B4C7-465B-BAC7-8BDC7B8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39E-7695-4F28-99B3-4AC4608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8CD8-CB96-453F-B8F1-B6AAF56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8E9-50AE-48B2-AAB3-EB4851A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904-C3DC-4F07-AAF8-7D4553C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6CB6-7F3A-4ED5-8070-043335D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17F5-F573-4946-8DA1-AF33A707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215C-9707-4091-A101-844D5AC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9651-FBB4-43FE-9121-146B2028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45C2-78E5-4F9F-ACE0-6E3AA59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5C1F-5E66-4BBA-B327-27B076B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8C44-FAAE-4648-8B4E-F853DAE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3E18-7358-4FEE-A7A5-3719FC7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143F-894E-4BD4-947D-CF2F7C7F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6FFF-3D4E-4EDE-8F08-24924B48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2EF-3EFB-4774-BDE5-20599103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E8BB-2E24-4231-92AE-0D16CBAB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81B2-3C5F-4458-81AB-148A251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5B65-C0D5-4183-B824-A5FF9A9C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237E-81CC-4064-A905-96715FC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5EBF-63A5-47B1-8C8D-8D23EC7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9D22-D7BC-4651-958E-D67FD24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BA3E-B76C-4C60-9A81-1755A74C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3AC3-85C6-48FA-9D87-8DA846C1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718C-332C-48D4-A66E-51D4582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4826-023B-46DE-9C87-73DB197B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D9F-072A-4150-8CF3-2A9E60AC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7ECB-45B3-4FD5-9B77-C63AA7B9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500A-DDF6-48D5-938A-8487780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AA1A-D8CF-4B74-BA34-0486EC57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3A0D-C45E-4F2B-AE9C-4BDB51D8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16AE-CC07-40BA-9317-F7F5CE0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BF26-A973-419F-91E2-831E8FE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4F2D-C2EB-44CE-988B-250DE04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3272-6B68-49CB-A3B5-AA364B4A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8A0C-BFBA-4D49-A86A-E2AFBBD8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D859-4D77-4588-B1D7-5413387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A30-3097-4B5F-B804-68144E6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AA03E-4FC2-4D08-A381-423450B5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7850A-F286-4743-96A4-8F6E1E35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9670-291F-445F-8DE7-4EE7DBF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92F9-9B94-45AA-812C-E45C073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1AB1-14AE-4CC3-9DE4-B79395AB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84A0A-42F0-4AD6-A44B-711F269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B6D1-5775-4B4E-903F-BAF0AE4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CD60-8EA3-4373-81F6-CCE19C4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A147-76B3-4D74-BF64-CEF7E599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7DED-4DB2-4CC5-9D57-26812AC6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EC9-6F85-49B9-B9DB-6D1400E1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3397-0349-4A3D-8BD2-6701DB32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319F-FFC2-4A00-B971-621331C5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78C9-B5BA-4BC0-A627-D543339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0D86-F346-455A-8609-8DAF117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C2D3-0358-4FC3-B314-C5ED13B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C302-9AD6-4748-A61D-D69A172B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A9EA-0BA9-4F38-B0D1-D7C8A86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C8E3-30F4-4ADC-8003-811F8E8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F114-7D5D-43AB-90EB-6C13ADA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8D19A-C2CF-4655-9BCC-E5D853D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399-DCE9-4DF2-BD7C-669DAE4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1F1D-230E-4A35-9000-F1667CB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D2CB-1725-483F-9CA3-FAB72379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6D850-5F23-4B73-B7EA-F915BE90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38769-BD44-4D4A-9256-F0C649C5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A54D-929B-41F0-AA17-9FB36A80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E7E4-2C76-4DBC-BBC2-41B9C0F2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6616-6210-40E1-8AE0-06CB46B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B986-7EDA-4639-81F8-D6D2844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4137-9C64-4949-B59E-761F12F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5390-3E93-49E3-B5F2-5A3D6ACA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BEB-20E8-4755-AC05-EA30D064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6A64-B157-46A0-9545-1D39936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BF83-02BA-4E06-AED4-F26AE58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FA2B2-3B6E-406E-9484-DB21758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DAE2-9893-4160-A6D8-80EA42E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0976-F6B3-4288-B076-585D6B00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E450-A508-4F77-8D0B-FDC610B8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66EF-0662-4C3B-8931-C4B3D38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C2A8A-8971-42EE-A63B-D6028957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B3246-9824-4421-B86C-2FA3E74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6174-712E-4140-8071-705B644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BB5-C267-4872-9AFF-DD3D80C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373A-D29C-4A29-9FF8-B9AAB64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CB71-82B0-4241-BB94-07572D1D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29BE1-AE46-4D02-8D4D-1CFF1BC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43D6-5EB6-45F3-963D-854E294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95D6-2FA7-4DF7-9CD4-5F9129FF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E7D86-9A18-48AB-A2B0-7CD86BD9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F6E7-F205-48C8-B8D4-83966EE8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ED38A-A154-40F8-996A-E1C1F05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65E31-07C6-49FD-9B31-B6D70623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C8B79-7DA4-484A-A5FF-BA5259B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4617b"/>
                </a:solidFill>
                <a:latin typeface="Calibri"/>
              </a:rPr>
              <a:t>Копьёв И.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410-8C5D-4562-BD2C-9F185DCA6EB1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B83D-6C33-4373-BC18-6BE5869D58CA}" type="slidenum">
              <a:rPr b="0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4EAD-1A6A-4106-99AB-7BE6A6862E87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FE5-18A1-49DD-92C9-F0178E0B096C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4617b"/>
                </a:solidFill>
                <a:latin typeface="Calibri"/>
              </a:rPr>
              <a:t>Копьёв И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AD2-C693-4B18-B27D-722D3BED3A1B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4E7-FB03-454C-BF0E-EC952D47615B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D454-F6D8-4AE3-B459-4280ED2549C1}" type="slidenum">
              <a:rPr b="0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272-4D0D-4FA2-B11E-65C2319765E7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40E-B7B9-4E43-B111-EB64AEB1555D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8A4-AA64-4FB6-BDF0-46A180DEC68C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EAE-329A-43C2-B267-6067E7327223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914C-246A-4F6A-95AA-F862353711F3}" type="slidenum">
              <a:rPr b="0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mbria"/>
              </a:rPr>
              <a:t>Представление чисел в памяти компьютера</a:t>
            </a:r>
            <a:endParaRPr b="0" lang="en-US" sz="29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4617b"/>
                </a:solidFill>
                <a:latin typeface="Cambria"/>
              </a:rPr>
              <a:t>Учитель информа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4617b"/>
                </a:solidFill>
                <a:latin typeface="Cambria"/>
              </a:rPr>
              <a:t>высшей категории  Копьёв И.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рифметические действия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193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 и В положительн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714240" y="2271600"/>
          <a:ext cx="6948720" cy="457200"/>
        </p:xfrm>
        <a:graphic>
          <a:graphicData uri="http://schemas.openxmlformats.org/drawingml/2006/table">
            <a:tbl>
              <a:tblPr/>
              <a:tblGrid>
                <a:gridCol w="2808360"/>
                <a:gridCol w="68436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запис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ые код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714240" y="3986280"/>
          <a:ext cx="6948720" cy="13716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714240" y="338616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714240" y="281448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sp>
        <p:nvSpPr>
          <p:cNvPr id="579" name="Прямая соединительная линия 8"/>
          <p:cNvSpPr/>
          <p:nvPr/>
        </p:nvSpPr>
        <p:spPr>
          <a:xfrm>
            <a:off x="4214880" y="3914640"/>
            <a:ext cx="3429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1760400" y="306396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рифметические действия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 – положительное, В – отрицательное,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|B|&gt;|A|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4240" y="2271600"/>
          <a:ext cx="6948720" cy="457200"/>
        </p:xfrm>
        <a:graphic>
          <a:graphicData uri="http://schemas.openxmlformats.org/drawingml/2006/table">
            <a:tbl>
              <a:tblPr/>
              <a:tblGrid>
                <a:gridCol w="2808360"/>
                <a:gridCol w="68436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запис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ые код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14240" y="3986280"/>
          <a:ext cx="6948720" cy="13716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714240" y="338616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14240" y="281448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sp>
        <p:nvSpPr>
          <p:cNvPr id="587" name="Прямая соединительная линия 8"/>
          <p:cNvSpPr/>
          <p:nvPr/>
        </p:nvSpPr>
        <p:spPr>
          <a:xfrm>
            <a:off x="4214880" y="3914640"/>
            <a:ext cx="3429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9"/>
          <p:cNvSpPr/>
          <p:nvPr/>
        </p:nvSpPr>
        <p:spPr>
          <a:xfrm>
            <a:off x="714240" y="4786200"/>
            <a:ext cx="77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еводе в прямой код биты цифровой части результата инвертируются и к младшему разряду прибавляется единиц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00110 + 1 =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00111= -7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1760400" y="306396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рифметические действия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 – положительное, В – отрицательное,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|B|&lt;|A|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14240" y="2271600"/>
          <a:ext cx="6948720" cy="457200"/>
        </p:xfrm>
        <a:graphic>
          <a:graphicData uri="http://schemas.openxmlformats.org/drawingml/2006/table">
            <a:tbl>
              <a:tblPr/>
              <a:tblGrid>
                <a:gridCol w="2808360"/>
                <a:gridCol w="68436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запис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ые код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714240" y="398628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714240" y="338616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714240" y="281448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sp>
        <p:nvSpPr>
          <p:cNvPr id="596" name="Прямая соединительная линия 8"/>
          <p:cNvSpPr/>
          <p:nvPr/>
        </p:nvSpPr>
        <p:spPr>
          <a:xfrm>
            <a:off x="4214880" y="3914640"/>
            <a:ext cx="3429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714240" y="53704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у переноса из знакового разряда компьютер отбрасы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01640" y="4451400"/>
          <a:ext cx="6948360" cy="914400"/>
        </p:xfrm>
        <a:graphic>
          <a:graphicData uri="http://schemas.openxmlformats.org/drawingml/2006/table">
            <a:tbl>
              <a:tblPr/>
              <a:tblGrid>
                <a:gridCol w="1403280"/>
                <a:gridCol w="1405080"/>
                <a:gridCol w="684000"/>
                <a:gridCol w="432000"/>
                <a:gridCol w="431640"/>
                <a:gridCol w="432000"/>
                <a:gridCol w="431640"/>
                <a:gridCol w="432000"/>
                <a:gridCol w="431640"/>
                <a:gridCol w="43344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нос отбрасыв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599" name="Соединительная линия уступом 12"/>
          <p:cNvCxnSpPr/>
          <p:nvPr/>
        </p:nvCxnSpPr>
        <p:spPr>
          <a:xfrm flipH="1" flipV="1" rot="10800000">
            <a:off x="4206600" y="4195440"/>
            <a:ext cx="2556360" cy="475200"/>
          </a:xfrm>
          <a:prstGeom prst="bentConnector3">
            <a:avLst>
              <a:gd name="adj1" fmla="val -6281"/>
            </a:avLst>
          </a:prstGeom>
          <a:ln w="2844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600" name="TextBox 13"/>
          <p:cNvSpPr/>
          <p:nvPr/>
        </p:nvSpPr>
        <p:spPr>
          <a:xfrm>
            <a:off x="1760400" y="306396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рифметические действия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 и В  отрицатель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14240" y="1822320"/>
          <a:ext cx="6948720" cy="457200"/>
        </p:xfrm>
        <a:graphic>
          <a:graphicData uri="http://schemas.openxmlformats.org/drawingml/2006/table">
            <a:tbl>
              <a:tblPr/>
              <a:tblGrid>
                <a:gridCol w="2808360"/>
                <a:gridCol w="68436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запис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ые код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14240" y="353700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714240" y="293688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714240" y="2365200"/>
          <a:ext cx="6948720" cy="457200"/>
        </p:xfrm>
        <a:graphic>
          <a:graphicData uri="http://schemas.openxmlformats.org/drawingml/2006/table">
            <a:tbl>
              <a:tblPr/>
              <a:tblGrid>
                <a:gridCol w="1403640"/>
                <a:gridCol w="1404720"/>
                <a:gridCol w="684360"/>
                <a:gridCol w="431640"/>
                <a:gridCol w="432000"/>
                <a:gridCol w="431640"/>
                <a:gridCol w="432000"/>
                <a:gridCol w="431640"/>
                <a:gridCol w="431640"/>
                <a:gridCol w="433440"/>
                <a:gridCol w="432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д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sp>
        <p:nvSpPr>
          <p:cNvPr id="607" name="Прямая соединительная линия 8"/>
          <p:cNvSpPr/>
          <p:nvPr/>
        </p:nvSpPr>
        <p:spPr>
          <a:xfrm>
            <a:off x="4214880" y="3465360"/>
            <a:ext cx="3429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714240" y="5046840"/>
            <a:ext cx="77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еводе в прямой код биты цифровой части результата инвертируются и к младшему разряду прибавляется единиц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01011+1=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01100= -12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701640" y="4002120"/>
          <a:ext cx="6948360" cy="914400"/>
        </p:xfrm>
        <a:graphic>
          <a:graphicData uri="http://schemas.openxmlformats.org/drawingml/2006/table">
            <a:tbl>
              <a:tblPr/>
              <a:tblGrid>
                <a:gridCol w="1403280"/>
                <a:gridCol w="1405080"/>
                <a:gridCol w="684000"/>
                <a:gridCol w="432000"/>
                <a:gridCol w="431640"/>
                <a:gridCol w="432000"/>
                <a:gridCol w="431640"/>
                <a:gridCol w="432000"/>
                <a:gridCol w="431640"/>
                <a:gridCol w="43344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нос отбрасыв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610" name="Соединительная линия уступом 12"/>
          <p:cNvCxnSpPr/>
          <p:nvPr/>
        </p:nvCxnSpPr>
        <p:spPr>
          <a:xfrm flipH="1" flipV="1" rot="10800000">
            <a:off x="4206600" y="3746160"/>
            <a:ext cx="2556360" cy="475200"/>
          </a:xfrm>
          <a:prstGeom prst="bentConnector3">
            <a:avLst>
              <a:gd name="adj1" fmla="val -6281"/>
            </a:avLst>
          </a:prstGeom>
          <a:ln w="2844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611" name="TextBox 13"/>
          <p:cNvSpPr/>
          <p:nvPr/>
        </p:nvSpPr>
        <p:spPr>
          <a:xfrm>
            <a:off x="1760400" y="26146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Целые числа в памяти компьютера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pic>
        <p:nvPicPr>
          <p:cNvPr id="531" name="Содержимое 3" descr=""/>
          <p:cNvPicPr/>
          <p:nvPr/>
        </p:nvPicPr>
        <p:blipFill>
          <a:blip r:embed="rId1"/>
          <a:stretch/>
        </p:blipFill>
        <p:spPr>
          <a:xfrm>
            <a:off x="396720" y="1212840"/>
            <a:ext cx="8539200" cy="50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исла без знака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исло 39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100111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нобайтово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формат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Таблица 3" descr=""/>
          <p:cNvPicPr/>
          <p:nvPr/>
        </p:nvPicPr>
        <p:blipFill>
          <a:blip r:embed="rId1"/>
          <a:stretch/>
        </p:blipFill>
        <p:spPr>
          <a:xfrm>
            <a:off x="487440" y="1573200"/>
            <a:ext cx="5207040" cy="1193760"/>
          </a:xfrm>
          <a:prstGeom prst="rect">
            <a:avLst/>
          </a:prstGeom>
          <a:ln w="0">
            <a:noFill/>
          </a:ln>
        </p:spPr>
      </p:pic>
      <p:sp>
        <p:nvSpPr>
          <p:cNvPr id="535" name="Содержимое 2"/>
          <p:cNvSpPr/>
          <p:nvPr/>
        </p:nvSpPr>
        <p:spPr>
          <a:xfrm>
            <a:off x="428760" y="2928960"/>
            <a:ext cx="8215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исло 39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100111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вубайтово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форма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Таблица 5" descr=""/>
          <p:cNvPicPr/>
          <p:nvPr/>
        </p:nvPicPr>
        <p:blipFill>
          <a:blip r:embed="rId2"/>
          <a:stretch/>
        </p:blipFill>
        <p:spPr>
          <a:xfrm>
            <a:off x="487440" y="3382920"/>
            <a:ext cx="8375400" cy="1201680"/>
          </a:xfrm>
          <a:prstGeom prst="rect">
            <a:avLst/>
          </a:prstGeom>
          <a:ln w="0">
            <a:noFill/>
          </a:ln>
        </p:spPr>
      </p:pic>
      <p:sp>
        <p:nvSpPr>
          <p:cNvPr id="537" name="Содержимое 2"/>
          <p:cNvSpPr/>
          <p:nvPr/>
        </p:nvSpPr>
        <p:spPr>
          <a:xfrm>
            <a:off x="428760" y="4857840"/>
            <a:ext cx="8715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65 53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1111 111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убайтов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орм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Таблица 7" descr=""/>
          <p:cNvPicPr/>
          <p:nvPr/>
        </p:nvPicPr>
        <p:blipFill>
          <a:blip r:embed="rId3"/>
          <a:stretch/>
        </p:blipFill>
        <p:spPr>
          <a:xfrm>
            <a:off x="487440" y="5315040"/>
            <a:ext cx="8375400" cy="119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исла со знаком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pic>
        <p:nvPicPr>
          <p:cNvPr id="540" name="Схема 4" descr=""/>
          <p:cNvPicPr/>
          <p:nvPr/>
        </p:nvPicPr>
        <p:blipFill>
          <a:blip r:embed="rId1"/>
          <a:stretch/>
        </p:blipFill>
        <p:spPr>
          <a:xfrm>
            <a:off x="255600" y="2457360"/>
            <a:ext cx="5529240" cy="1766880"/>
          </a:xfrm>
          <a:prstGeom prst="rect">
            <a:avLst/>
          </a:prstGeom>
          <a:ln w="0">
            <a:noFill/>
          </a:ln>
        </p:spPr>
      </p:pic>
      <p:pic>
        <p:nvPicPr>
          <p:cNvPr id="541" name="Схема 6" descr=""/>
          <p:cNvPicPr/>
          <p:nvPr/>
        </p:nvPicPr>
        <p:blipFill>
          <a:blip r:embed="rId2"/>
          <a:stretch/>
        </p:blipFill>
        <p:spPr>
          <a:xfrm>
            <a:off x="3602160" y="4406760"/>
            <a:ext cx="4646520" cy="1749600"/>
          </a:xfrm>
          <a:prstGeom prst="rect">
            <a:avLst/>
          </a:prstGeom>
          <a:ln w="0">
            <a:noFill/>
          </a:ln>
        </p:spPr>
      </p:pic>
      <p:pic>
        <p:nvPicPr>
          <p:cNvPr id="542" name="TextBox 7" descr=""/>
          <p:cNvPicPr/>
          <p:nvPr/>
        </p:nvPicPr>
        <p:blipFill>
          <a:blip r:embed="rId3"/>
          <a:stretch/>
        </p:blipFill>
        <p:spPr>
          <a:xfrm>
            <a:off x="371520" y="1189080"/>
            <a:ext cx="8504280" cy="107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Формы записи целых чисел со знаком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pic>
        <p:nvPicPr>
          <p:cNvPr id="544" name="Содержимое 5" descr=""/>
          <p:cNvPicPr/>
          <p:nvPr/>
        </p:nvPicPr>
        <p:blipFill>
          <a:blip r:embed="rId1"/>
          <a:stretch/>
        </p:blipFill>
        <p:spPr>
          <a:xfrm>
            <a:off x="384120" y="1895400"/>
            <a:ext cx="6881760" cy="353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Формы записи чисел целых чисел со знаком</a:t>
            </a:r>
            <a:endParaRPr b="0" lang="en-US" sz="2900" spc="-1" strike="noStrike">
              <a:solidFill>
                <a:srgbClr val="04617b"/>
              </a:solidFill>
              <a:latin typeface="Cambr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857160" y="4941720"/>
          <a:ext cx="3456000" cy="1575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8568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19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011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рямой, обратный и дополнитель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3680" y="4941720"/>
          <a:ext cx="3455640" cy="1575000"/>
        </p:xfrm>
        <a:graphic>
          <a:graphicData uri="http://schemas.openxmlformats.org/drawingml/2006/table">
            <a:tbl>
              <a:tblPr/>
              <a:tblGrid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8568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127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111111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прямой, обратный и дополнитель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Схема 5" descr=""/>
          <p:cNvPicPr/>
          <p:nvPr/>
        </p:nvPicPr>
        <p:blipFill>
          <a:blip r:embed="rId1"/>
          <a:stretch/>
        </p:blipFill>
        <p:spPr>
          <a:xfrm>
            <a:off x="414360" y="1279440"/>
            <a:ext cx="8358120" cy="1731960"/>
          </a:xfrm>
          <a:prstGeom prst="rect">
            <a:avLst/>
          </a:prstGeom>
          <a:ln w="0">
            <a:noFill/>
          </a:ln>
        </p:spPr>
      </p:pic>
      <p:sp>
        <p:nvSpPr>
          <p:cNvPr id="549" name="Правая фигурная скобка 7"/>
          <p:cNvSpPr/>
          <p:nvPr/>
        </p:nvSpPr>
        <p:spPr>
          <a:xfrm rot="5400000">
            <a:off x="4371120" y="-788040"/>
            <a:ext cx="401400" cy="8105760"/>
          </a:xfrm>
          <a:custGeom>
            <a:avLst/>
            <a:gdLst>
              <a:gd name="textAreaLeft" fmla="*/ 0 w 401400"/>
              <a:gd name="textAreaRight" fmla="*/ 145080 w 401400"/>
              <a:gd name="textAreaTop" fmla="*/ 10440 h 8105760"/>
              <a:gd name="textAreaBottom" fmla="*/ 8095320 h 810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89"/>
                </a:cubicBezTo>
                <a:lnTo>
                  <a:pt x="10800" y="10711"/>
                </a:lnTo>
                <a:cubicBezTo>
                  <a:pt x="10800" y="10756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89"/>
                </a:cubicBezTo>
                <a:lnTo>
                  <a:pt x="10800" y="21511"/>
                </a:lnTo>
                <a:cubicBezTo>
                  <a:pt x="10800" y="2155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2563920" y="3538440"/>
            <a:ext cx="40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одинаковое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Формы записи чисел целых чисел со знаком</a:t>
            </a:r>
            <a:endParaRPr b="0" lang="en-US" sz="2900" spc="-1" strike="noStrike">
              <a:solidFill>
                <a:srgbClr val="04617b"/>
              </a:solidFill>
              <a:latin typeface="Cambr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857160" y="4905360"/>
          <a:ext cx="3456000" cy="13716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код числа -19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143680" y="4905360"/>
          <a:ext cx="3455640" cy="1371600"/>
        </p:xfrm>
        <a:graphic>
          <a:graphicData uri="http://schemas.openxmlformats.org/drawingml/2006/table">
            <a:tbl>
              <a:tblPr/>
              <a:tblGrid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код числа -12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4" name="Схема 7" descr=""/>
          <p:cNvPicPr/>
          <p:nvPr/>
        </p:nvPicPr>
        <p:blipFill>
          <a:blip r:embed="rId1"/>
          <a:stretch/>
        </p:blipFill>
        <p:spPr>
          <a:xfrm>
            <a:off x="414360" y="1279440"/>
            <a:ext cx="8358120" cy="1731960"/>
          </a:xfrm>
          <a:prstGeom prst="rect">
            <a:avLst/>
          </a:prstGeom>
          <a:ln w="0">
            <a:noFill/>
          </a:ln>
        </p:spPr>
      </p:pic>
      <p:sp>
        <p:nvSpPr>
          <p:cNvPr id="555" name="Правая фигурная скобка 8"/>
          <p:cNvSpPr/>
          <p:nvPr/>
        </p:nvSpPr>
        <p:spPr>
          <a:xfrm rot="5400000">
            <a:off x="4371120" y="-788040"/>
            <a:ext cx="401400" cy="8105760"/>
          </a:xfrm>
          <a:custGeom>
            <a:avLst/>
            <a:gdLst>
              <a:gd name="textAreaLeft" fmla="*/ 0 w 401400"/>
              <a:gd name="textAreaRight" fmla="*/ 145080 w 401400"/>
              <a:gd name="textAreaTop" fmla="*/ 10440 h 8105760"/>
              <a:gd name="textAreaBottom" fmla="*/ 8095320 h 810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89"/>
                </a:cubicBezTo>
                <a:lnTo>
                  <a:pt x="10800" y="10711"/>
                </a:lnTo>
                <a:cubicBezTo>
                  <a:pt x="10800" y="10756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89"/>
                </a:cubicBezTo>
                <a:lnTo>
                  <a:pt x="10800" y="21511"/>
                </a:lnTo>
                <a:cubicBezTo>
                  <a:pt x="10800" y="2155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9"/>
          <p:cNvSpPr/>
          <p:nvPr/>
        </p:nvSpPr>
        <p:spPr>
          <a:xfrm>
            <a:off x="2417760" y="3538440"/>
            <a:ext cx="43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разное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Формы записи чисел целых чисел со знаком</a:t>
            </a:r>
            <a:endParaRPr b="0" lang="en-US" sz="29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58" name="Содержимое 2"/>
          <p:cNvSpPr/>
          <p:nvPr/>
        </p:nvSpPr>
        <p:spPr>
          <a:xfrm>
            <a:off x="428760" y="125424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ратный код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учается инвертированием всех цифр двоичного кода абсолютной величины числа, включая разряд знака: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ули заменяются единицами, а единицы – нуля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7160" y="2143080"/>
          <a:ext cx="3456000" cy="210348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1708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-19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Код модуля числа:        0 0010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Обратный код числа:   1 110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143680" y="2111400"/>
          <a:ext cx="3455640" cy="2103480"/>
        </p:xfrm>
        <a:graphic>
          <a:graphicData uri="http://schemas.openxmlformats.org/drawingml/2006/table">
            <a:tbl>
              <a:tblPr/>
              <a:tblGrid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1708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-12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Код модуля числа:        0 111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Обратный код числа:   1 0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Содержимое 2"/>
          <p:cNvSpPr/>
          <p:nvPr/>
        </p:nvSpPr>
        <p:spPr>
          <a:xfrm>
            <a:off x="428760" y="400536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полнительный код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учается образованием обратного кода с последующим прибавлением единицы к его младшему разря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57160" y="4915080"/>
          <a:ext cx="3456000" cy="13716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. код числа -19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5143680" y="4915080"/>
          <a:ext cx="3455640" cy="1371600"/>
        </p:xfrm>
        <a:graphic>
          <a:graphicData uri="http://schemas.openxmlformats.org/drawingml/2006/table">
            <a:tbl>
              <a:tblPr/>
              <a:tblGrid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. код числа -12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рифметические действия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pic>
        <p:nvPicPr>
          <p:cNvPr id="565" name="Содержимое 4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388000" cy="2237040"/>
          </a:xfrm>
          <a:prstGeom prst="rect">
            <a:avLst/>
          </a:prstGeom>
          <a:ln w="0">
            <a:noFill/>
          </a:ln>
        </p:spPr>
      </p:pic>
      <p:grpSp>
        <p:nvGrpSpPr>
          <p:cNvPr id="566" name="Плюс 7"/>
          <p:cNvGrpSpPr/>
          <p:nvPr/>
        </p:nvGrpSpPr>
        <p:grpSpPr>
          <a:xfrm>
            <a:off x="2457360" y="3432240"/>
            <a:ext cx="1524240" cy="1523880"/>
            <a:chOff x="2457360" y="3432240"/>
            <a:chExt cx="1524240" cy="1523880"/>
          </a:xfrm>
        </p:grpSpPr>
        <p:pic>
          <p:nvPicPr>
            <p:cNvPr id="567" name="Плюс 7" descr=""/>
            <p:cNvPicPr/>
            <p:nvPr/>
          </p:nvPicPr>
          <p:blipFill>
            <a:blip r:embed="rId2"/>
            <a:stretch/>
          </p:blipFill>
          <p:spPr>
            <a:xfrm>
              <a:off x="2457360" y="343224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23960" y="3935520"/>
              <a:ext cx="1393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Минус 8"/>
          <p:cNvGrpSpPr/>
          <p:nvPr/>
        </p:nvGrpSpPr>
        <p:grpSpPr>
          <a:xfrm>
            <a:off x="5346720" y="3895560"/>
            <a:ext cx="1584360" cy="597240"/>
            <a:chOff x="5346720" y="3895560"/>
            <a:chExt cx="1584360" cy="597240"/>
          </a:xfrm>
        </p:grpSpPr>
        <p:pic>
          <p:nvPicPr>
            <p:cNvPr id="570" name="Минус 8" descr=""/>
            <p:cNvPicPr/>
            <p:nvPr/>
          </p:nvPicPr>
          <p:blipFill>
            <a:blip r:embed="rId3"/>
            <a:stretch/>
          </p:blipFill>
          <p:spPr>
            <a:xfrm>
              <a:off x="5346720" y="3895560"/>
              <a:ext cx="158436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418000" y="3927600"/>
              <a:ext cx="14479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Содержимое 4" descr=""/>
          <p:cNvPicPr/>
          <p:nvPr/>
        </p:nvPicPr>
        <p:blipFill>
          <a:blip r:embed="rId4"/>
          <a:stretch/>
        </p:blipFill>
        <p:spPr>
          <a:xfrm>
            <a:off x="396720" y="4973760"/>
            <a:ext cx="847260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7:19:05Z</dcterms:created>
  <dc:creator>Игорь</dc:creator>
  <dc:description/>
  <dc:language>en-US</dc:language>
  <cp:lastModifiedBy>Игорь</cp:lastModifiedBy>
  <dcterms:modified xsi:type="dcterms:W3CDTF">2010-01-03T17:18:05Z</dcterms:modified>
  <cp:revision>86</cp:revision>
  <dc:subject/>
  <dc:title>Представление чисел в компьютере</dc:title>
</cp:coreProperties>
</file>