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2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41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46.jpeg" ContentType="image/jpeg"/>
  <Override PartName="/ppt/media/image8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2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7D89-E75E-4964-86A6-D3224456E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62C8-5598-46B5-9F01-C935FC97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3DB-B98B-4668-8393-AC06F8CD0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A3B-4A1B-476B-8A7F-67EC85C7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1FEE-8D8B-4AEA-8C04-B1991818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ED4F-5005-4337-B6B0-3B7FFB9F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698B-7901-49A4-A261-ECA4A0C0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2FF-197D-44F4-A370-D1672E200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6A4F-EDB0-4B43-829C-E6821E49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F30D-14E3-47C6-B11F-E2940F59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843A-3F57-44BC-B949-5F7E01A9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16B2-CDA6-4D03-BFAD-354B7ED7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04EC-F97E-4996-8B82-0A1E57D0F55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95120" y="1365120"/>
            <a:ext cx="8863200" cy="20368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357200" y="4000320"/>
            <a:ext cx="6400800" cy="64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684e"/>
                </a:solidFill>
                <a:latin typeface="Times New Roman"/>
              </a:rPr>
              <a:t>Родительское собрани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4500720" y="4857840"/>
            <a:ext cx="435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 Храпкова Ольга Владимировна, учитель русского языка и литературы МОУ «СОШ №1 г.Калининска Саратовской област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Заголовок 1" descr=""/>
          <p:cNvPicPr/>
          <p:nvPr/>
        </p:nvPicPr>
        <p:blipFill>
          <a:blip r:embed="rId1"/>
          <a:stretch/>
        </p:blipFill>
        <p:spPr>
          <a:xfrm>
            <a:off x="298440" y="1365120"/>
            <a:ext cx="8839080" cy="205452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993600" y="-6480"/>
            <a:ext cx="7132680" cy="1987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99720" y="5500800"/>
            <a:ext cx="7086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200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8684e"/>
                </a:solidFill>
                <a:latin typeface="Times New Roman"/>
              </a:rPr>
              <a:t>когда сложно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C:\Documents and Settings\user\Рабочий стол\толерантн\Дети\б.jpeg"/>
          <p:cNvPicPr/>
          <p:nvPr/>
        </p:nvPicPr>
        <p:blipFill>
          <a:blip r:embed="rId2"/>
          <a:stretch/>
        </p:blipFill>
        <p:spPr>
          <a:xfrm>
            <a:off x="209520" y="1928880"/>
            <a:ext cx="2801880" cy="2071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C:\Documents and Settings\user\Рабочий стол\толерантн\Дети\бо.jpeg"/>
          <p:cNvPicPr/>
          <p:nvPr/>
        </p:nvPicPr>
        <p:blipFill>
          <a:blip r:embed="rId3"/>
          <a:stretch/>
        </p:blipFill>
        <p:spPr>
          <a:xfrm>
            <a:off x="3429000" y="3357720"/>
            <a:ext cx="2489040" cy="17049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C:\Documents and Settings\user\Рабочий стол\толерантн\Дети\54264.jpg"/>
          <p:cNvPicPr/>
          <p:nvPr/>
        </p:nvPicPr>
        <p:blipFill>
          <a:blip r:embed="rId4"/>
          <a:stretch/>
        </p:blipFill>
        <p:spPr>
          <a:xfrm>
            <a:off x="6143760" y="1857240"/>
            <a:ext cx="2757240" cy="2143440"/>
          </a:xfrm>
          <a:prstGeom prst="rect">
            <a:avLst/>
          </a:prstGeom>
          <a:ln w="0">
            <a:noFill/>
          </a:ln>
        </p:spPr>
      </p:pic>
      <p:pic>
        <p:nvPicPr>
          <p:cNvPr id="58" name="120609.mp3" descr=""/>
          <p:cNvPicPr/>
          <p:nvPr/>
        </p:nvPicPr>
        <p:blipFill>
          <a:blip r:embed="rId5"/>
          <a:stretch/>
        </p:blipFill>
        <p:spPr>
          <a:xfrm>
            <a:off x="883908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0" y="5643720"/>
            <a:ext cx="9144000" cy="66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8684e"/>
                </a:solidFill>
                <a:latin typeface="Times New Roman"/>
              </a:rPr>
              <a:t>от которых зависит очень много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2" descr="C:\Documents and Settings\user\Рабочий стол\толерантн\Дети\сс.jpeg"/>
          <p:cNvPicPr/>
          <p:nvPr/>
        </p:nvPicPr>
        <p:blipFill>
          <a:blip r:embed="rId2"/>
          <a:stretch/>
        </p:blipFill>
        <p:spPr>
          <a:xfrm>
            <a:off x="500040" y="1285920"/>
            <a:ext cx="173052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user\Рабочий стол\толерантн\Дети\ссора.jpeg"/>
          <p:cNvPicPr/>
          <p:nvPr/>
        </p:nvPicPr>
        <p:blipFill>
          <a:blip r:embed="rId3"/>
          <a:stretch/>
        </p:blipFill>
        <p:spPr>
          <a:xfrm>
            <a:off x="7358040" y="1214280"/>
            <a:ext cx="1438200" cy="1751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Documents and Settings\user\Рабочий стол\толерантн\Дети\ссо.jpeg"/>
          <p:cNvPicPr/>
          <p:nvPr/>
        </p:nvPicPr>
        <p:blipFill>
          <a:blip r:embed="rId4"/>
          <a:srcRect l="0" t="11127" r="0" b="0"/>
          <a:stretch/>
        </p:blipFill>
        <p:spPr>
          <a:xfrm>
            <a:off x="5072040" y="3357720"/>
            <a:ext cx="2143080" cy="1869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:\Documents and Settings\user\Рабочий стол\внеклассная работа\семь\3184.jpg"/>
          <p:cNvPicPr/>
          <p:nvPr/>
        </p:nvPicPr>
        <p:blipFill>
          <a:blip r:embed="rId5"/>
          <a:stretch/>
        </p:blipFill>
        <p:spPr>
          <a:xfrm>
            <a:off x="1749600" y="3357720"/>
            <a:ext cx="2798640" cy="18572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 thruBlk="true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00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1"/>
          <a:stretch/>
        </p:blipFill>
        <p:spPr>
          <a:xfrm>
            <a:off x="353880" y="36360"/>
            <a:ext cx="8717040" cy="2352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28840" y="5357520"/>
            <a:ext cx="64008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684e"/>
                </a:solidFill>
                <a:latin typeface="Times New Roman"/>
              </a:rPr>
              <a:t>вспомнить, что есть нечто больше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2" descr="C:\Documents and Settings\user\Рабочий стол\толерантн\Дети\сс1.jpeg"/>
          <p:cNvPicPr/>
          <p:nvPr/>
        </p:nvPicPr>
        <p:blipFill>
          <a:blip r:embed="rId2"/>
          <a:stretch/>
        </p:blipFill>
        <p:spPr>
          <a:xfrm>
            <a:off x="285840" y="1643040"/>
            <a:ext cx="1825560" cy="1928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user\Рабочий стол\толерантн\Дети\св.jpeg"/>
          <p:cNvPicPr/>
          <p:nvPr/>
        </p:nvPicPr>
        <p:blipFill>
          <a:blip r:embed="rId3"/>
          <a:stretch/>
        </p:blipFill>
        <p:spPr>
          <a:xfrm>
            <a:off x="571680" y="4143240"/>
            <a:ext cx="2035080" cy="1352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user\Рабочий стол\толерантн\Дети\4444.jpeg"/>
          <p:cNvPicPr/>
          <p:nvPr/>
        </p:nvPicPr>
        <p:blipFill>
          <a:blip r:embed="rId4"/>
          <a:stretch/>
        </p:blipFill>
        <p:spPr>
          <a:xfrm>
            <a:off x="6500880" y="4000680"/>
            <a:ext cx="2365200" cy="1549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C:\Documents and Settings\user\Рабочий стол\толерантн\Дети\2651363.jpg"/>
          <p:cNvPicPr/>
          <p:nvPr/>
        </p:nvPicPr>
        <p:blipFill>
          <a:blip r:embed="rId5"/>
          <a:stretch/>
        </p:blipFill>
        <p:spPr>
          <a:xfrm>
            <a:off x="3357720" y="31431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C:\Documents and Settings\user\Рабочий стол\толерантн\Дети\deti1_4.jpg"/>
          <p:cNvPicPr/>
          <p:nvPr/>
        </p:nvPicPr>
        <p:blipFill>
          <a:blip r:embed="rId6"/>
          <a:stretch/>
        </p:blipFill>
        <p:spPr>
          <a:xfrm>
            <a:off x="6643800" y="1643040"/>
            <a:ext cx="2282760" cy="17146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4000"/>
                            </p:stCondLst>
                            <p:childTnLst>
                              <p:par>
                                <p:cTn id="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6000"/>
                            </p:stCondLst>
                            <p:childTnLst>
                              <p:par>
                                <p:cTn id="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головок 1" descr=""/>
          <p:cNvPicPr/>
          <p:nvPr/>
        </p:nvPicPr>
        <p:blipFill>
          <a:blip r:embed="rId1"/>
          <a:stretch/>
        </p:blipFill>
        <p:spPr>
          <a:xfrm>
            <a:off x="566640" y="-6480"/>
            <a:ext cx="8321760" cy="20545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428840" y="55720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8684e"/>
                </a:solidFill>
                <a:latin typeface="Times New Roman"/>
              </a:rPr>
              <a:t>что он челове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C:\Documents and Settings\user\Рабочий стол\толерантн\Дети\img_37744038_9722_1.jpg"/>
          <p:cNvPicPr/>
          <p:nvPr/>
        </p:nvPicPr>
        <p:blipFill>
          <a:blip r:embed="rId2"/>
          <a:stretch/>
        </p:blipFill>
        <p:spPr>
          <a:xfrm>
            <a:off x="428760" y="2143080"/>
            <a:ext cx="2690640" cy="1614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C:\Documents and Settings\user\Рабочий стол\толерантн\Дети\лю.jpeg"/>
          <p:cNvPicPr/>
          <p:nvPr/>
        </p:nvPicPr>
        <p:blipFill>
          <a:blip r:embed="rId3"/>
          <a:stretch/>
        </p:blipFill>
        <p:spPr>
          <a:xfrm>
            <a:off x="6122880" y="2143080"/>
            <a:ext cx="2735280" cy="17146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C:\Documents and Settings\user\Рабочий стол\толерантн\Дети\P1090775.JPG"/>
          <p:cNvPicPr/>
          <p:nvPr/>
        </p:nvPicPr>
        <p:blipFill>
          <a:blip r:embed="rId4"/>
          <a:stretch/>
        </p:blipFill>
        <p:spPr>
          <a:xfrm>
            <a:off x="3571920" y="3857760"/>
            <a:ext cx="1928880" cy="1928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C:\Documents and Settings\user\Рабочий стол\толерантн\2.jpeg"/>
          <p:cNvPicPr/>
          <p:nvPr/>
        </p:nvPicPr>
        <p:blipFill>
          <a:blip r:embed="rId5"/>
          <a:stretch/>
        </p:blipFill>
        <p:spPr>
          <a:xfrm>
            <a:off x="3444840" y="2143080"/>
            <a:ext cx="2282760" cy="16430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 thruBlk="true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420840" y="281160"/>
            <a:ext cx="8547120" cy="20350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642960" y="5357880"/>
            <a:ext cx="8143920" cy="110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684e"/>
                </a:solidFill>
                <a:latin typeface="Times New Roman"/>
              </a:rPr>
              <a:t>иначе после этого не останется ничего, кроме бол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C:\Documents and Settings\user\Рабочий стол\толерантн\Дети\45.jpeg"/>
          <p:cNvPicPr/>
          <p:nvPr/>
        </p:nvPicPr>
        <p:blipFill>
          <a:blip r:embed="rId2"/>
          <a:stretch/>
        </p:blipFill>
        <p:spPr>
          <a:xfrm>
            <a:off x="928800" y="2571840"/>
            <a:ext cx="3054240" cy="2442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C:\Documents and Settings\user\Рабочий стол\внеклассная работа\семь\c160a7a9c204756937b9d235034_prev.jpg"/>
          <p:cNvPicPr/>
          <p:nvPr/>
        </p:nvPicPr>
        <p:blipFill>
          <a:blip r:embed="rId3"/>
          <a:srcRect l="9193" t="9897" r="8097" b="24802"/>
          <a:stretch/>
        </p:blipFill>
        <p:spPr>
          <a:xfrm>
            <a:off x="5000760" y="2538360"/>
            <a:ext cx="3357360" cy="2462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-291960"/>
            <a:ext cx="8242200" cy="1650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28760" y="5105520"/>
            <a:ext cx="8286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684e"/>
                </a:solidFill>
                <a:latin typeface="Times New Roman"/>
              </a:rPr>
              <a:t>и лишь уважение и терпимость – настоящая 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C:\Documents and Settings\user\Рабочий стол\толерантн\Дети\сва.jpeg"/>
          <p:cNvPicPr/>
          <p:nvPr/>
        </p:nvPicPr>
        <p:blipFill>
          <a:blip r:embed="rId2"/>
          <a:stretch/>
        </p:blipFill>
        <p:spPr>
          <a:xfrm>
            <a:off x="357120" y="3429000"/>
            <a:ext cx="1928880" cy="128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user\Рабочий стол\толерантн\Дети\сваа.jpeg"/>
          <p:cNvPicPr/>
          <p:nvPr/>
        </p:nvPicPr>
        <p:blipFill>
          <a:blip r:embed="rId3"/>
          <a:stretch/>
        </p:blipFill>
        <p:spPr>
          <a:xfrm>
            <a:off x="7143840" y="1208160"/>
            <a:ext cx="1474560" cy="2090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C:\Documents and Settings\user\Рабочий стол\толерантн\Дети\свадьб.jpeg"/>
          <p:cNvPicPr/>
          <p:nvPr/>
        </p:nvPicPr>
        <p:blipFill>
          <a:blip r:embed="rId4"/>
          <a:stretch/>
        </p:blipFill>
        <p:spPr>
          <a:xfrm>
            <a:off x="6858000" y="3429000"/>
            <a:ext cx="1854360" cy="1231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C:\Documents and Settings\user\Рабочий стол\толерантн\Дети\свад.jpeg"/>
          <p:cNvPicPr/>
          <p:nvPr/>
        </p:nvPicPr>
        <p:blipFill>
          <a:blip r:embed="rId5"/>
          <a:stretch/>
        </p:blipFill>
        <p:spPr>
          <a:xfrm>
            <a:off x="428760" y="1285920"/>
            <a:ext cx="2046240" cy="1857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Documents and Settings\user\Рабочий стол\толерантн\Дети\11.jpeg"/>
          <p:cNvPicPr/>
          <p:nvPr/>
        </p:nvPicPr>
        <p:blipFill>
          <a:blip r:embed="rId6"/>
          <a:stretch/>
        </p:blipFill>
        <p:spPr>
          <a:xfrm>
            <a:off x="3571920" y="2214720"/>
            <a:ext cx="2773440" cy="2071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fade thruBlk="true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7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20840" y="-648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14240" y="5714640"/>
            <a:ext cx="7715520" cy="8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684e"/>
                </a:solidFill>
                <a:latin typeface="Times New Roman"/>
              </a:rPr>
              <a:t>никто не может быть счастли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C:\Documents and Settings\user\Рабочий стол\толерантн\Дети\б1.jpeg"/>
          <p:cNvPicPr/>
          <p:nvPr/>
        </p:nvPicPr>
        <p:blipFill>
          <a:blip r:embed="rId2"/>
          <a:stretch/>
        </p:blipFill>
        <p:spPr>
          <a:xfrm>
            <a:off x="428760" y="2143080"/>
            <a:ext cx="2654280" cy="20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Documents and Settings\user\Рабочий стол\толерантн\Дети\б3.jpeg"/>
          <p:cNvPicPr/>
          <p:nvPr/>
        </p:nvPicPr>
        <p:blipFill>
          <a:blip r:embed="rId3"/>
          <a:stretch/>
        </p:blipFill>
        <p:spPr>
          <a:xfrm>
            <a:off x="6215040" y="2071800"/>
            <a:ext cx="2476440" cy="1857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C:\Documents and Settings\user\Рабочий стол\толерантн\Дети\б4.jpeg"/>
          <p:cNvPicPr/>
          <p:nvPr/>
        </p:nvPicPr>
        <p:blipFill>
          <a:blip r:embed="rId4"/>
          <a:stretch/>
        </p:blipFill>
        <p:spPr>
          <a:xfrm>
            <a:off x="3643200" y="2071800"/>
            <a:ext cx="2006640" cy="1714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C:\Documents and Settings\user\Рабочий стол\толерантн\Дети\мат.jpeg"/>
          <p:cNvPicPr/>
          <p:nvPr/>
        </p:nvPicPr>
        <p:blipFill>
          <a:blip r:embed="rId5"/>
          <a:stretch/>
        </p:blipFill>
        <p:spPr>
          <a:xfrm>
            <a:off x="3571920" y="4214880"/>
            <a:ext cx="2251080" cy="1500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 thruBlk="true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77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770" fill="hold"/>
                                        <p:tgtEl>
                                          <p:spTgt spid="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77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353880" y="-103320"/>
            <a:ext cx="8528040" cy="23529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C:\Documents and Settings\user\Рабочий стол\толерантн\Дети\р1.jpeg"/>
          <p:cNvPicPr/>
          <p:nvPr/>
        </p:nvPicPr>
        <p:blipFill>
          <a:blip r:embed="rId2"/>
          <a:stretch/>
        </p:blipFill>
        <p:spPr>
          <a:xfrm>
            <a:off x="4071960" y="3071880"/>
            <a:ext cx="178416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C:\Documents and Settings\user\Рабочий стол\толерантн\Дети\112.jpeg"/>
          <p:cNvPicPr/>
          <p:nvPr/>
        </p:nvPicPr>
        <p:blipFill>
          <a:blip r:embed="rId3"/>
          <a:stretch/>
        </p:blipFill>
        <p:spPr>
          <a:xfrm>
            <a:off x="6286680" y="4572000"/>
            <a:ext cx="2571480" cy="2057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C:\Documents and Settings\user\Рабочий стол\толерантн\Дети\23102105.jpg"/>
          <p:cNvPicPr/>
          <p:nvPr/>
        </p:nvPicPr>
        <p:blipFill>
          <a:blip r:embed="rId4"/>
          <a:stretch/>
        </p:blipFill>
        <p:spPr>
          <a:xfrm>
            <a:off x="428760" y="20718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C:\Documents and Settings\user\Рабочий стол\толерантн\Дети\8.jpeg"/>
          <p:cNvPicPr/>
          <p:nvPr/>
        </p:nvPicPr>
        <p:blipFill>
          <a:blip r:embed="rId5"/>
          <a:stretch/>
        </p:blipFill>
        <p:spPr>
          <a:xfrm>
            <a:off x="6237360" y="2286000"/>
            <a:ext cx="2582640" cy="1928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C:\Documents and Settings\user\Рабочий стол\толерантн\Дети\1957410.jpg"/>
          <p:cNvPicPr/>
          <p:nvPr/>
        </p:nvPicPr>
        <p:blipFill>
          <a:blip r:embed="rId6"/>
          <a:stretch/>
        </p:blipFill>
        <p:spPr>
          <a:xfrm>
            <a:off x="428760" y="4500720"/>
            <a:ext cx="2863800" cy="19285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 thruBlk="true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189000" y="30240"/>
            <a:ext cx="8858160" cy="307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57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8684e"/>
                </a:solidFill>
                <a:latin typeface="Times New Roman"/>
              </a:rPr>
              <a:t>основанную на принципах толерантн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C:\Documents and Settings\user\Рабочий стол\толерантн\9.jpeg"/>
          <p:cNvPicPr/>
          <p:nvPr/>
        </p:nvPicPr>
        <p:blipFill>
          <a:blip r:embed="rId2"/>
          <a:srcRect l="25000" t="17381" r="17857" b="20049"/>
          <a:stretch/>
        </p:blipFill>
        <p:spPr>
          <a:xfrm>
            <a:off x="3643200" y="3005280"/>
            <a:ext cx="1684440" cy="2209680"/>
          </a:xfrm>
          <a:prstGeom prst="rect">
            <a:avLst/>
          </a:prstGeom>
          <a:ln w="0">
            <a:noFill/>
          </a:ln>
        </p:spPr>
      </p:pic>
    </p:spTree>
  </p:cSld>
  <p:transition spd="slow" advTm="65000">
    <p:fade thruBlk="true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643120" y="1785960"/>
            <a:ext cx="6143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не согласен с тем, что вы говорите, но пожертвую своей жизнью, защищая ваше право высказывать собственное м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льтер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0" y="1428840"/>
            <a:ext cx="9144000" cy="4851360"/>
          </a:xfrm>
          <a:prstGeom prst="rect">
            <a:avLst/>
          </a:prstGeom>
          <a:solidFill>
            <a:srgbClr val="c9fafc"/>
          </a:solidFill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http://www.lovestuff.ru/relationship/livingtogether/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http://togliatti.strana-krasoty.ru/semya.html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http://www.cps06.ru/page25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http://www.hais.ru/index.php?cstart=22&amp;do=cat&amp;category=affairs_family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http://alekseyandreyev.com/blog/?p=173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http://forum.mamusik.ru/forum/40/forum_topic/2681?from=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http://www.aif.ru/society/article/2551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3300"/>
                </a:solidFill>
                <a:uFillTx/>
                <a:latin typeface="Times New Roman"/>
              </a:rPr>
              <a:t>http://www.newvers.ru/society/2009/09/03/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8796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rutube.ru/tracks/1963820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http://www.mp3sort.com/t.php?p=4044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857160" y="285840"/>
            <a:ext cx="78580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6 ноября - Международный день толерант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олерантность – понятие достаточно новое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то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ценностное отношение человека к людям, выражающееся в признании, принятии и понимании им представителей иных культур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терпимость к чужим мнениям, верованиям, поведению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нциклопедический словарь под редакцией А.М.Прохоро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это способность что-то или кого-то терпеть «только по милосердию и снисхождению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оварь В.И.Дал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- это терпимое отношение к чему-нибудь, умение без вражды, терпеливо относиться к чужому мнению, характеру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оварь С.И.Ожегов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500040" y="571680"/>
            <a:ext cx="82152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Родители должн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о-первых, не обижать ребён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о-вторых, выслушивать его мнение и считаться с ни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-третьих, уметь прощать обиды и просить прощения у ребенка. Это самый сложный момент, но, в то же время, и самый важный, поскольку у детей обостренное чувство справедлив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-четвертых, уметь договариваться без ссор и разрушительных конфликтов. Под словосочетанием «разрушительный конфликт» подразумевается противостояние, которое наносит «противнику» ущерб, моральный или физический. Разумеется, что в повседневной жизни невозможно избежать противоречий интересов, желаний и мнений. Задача – обратить конфликт в конструктивный, вызвав ребенка к разговору о возникших противоречиях и к совместному принятию компромиссных реш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-пятых, нельзя унижать достоинство ребенка – игнорировать его, проявлять неуважение к его увлечениям и т.п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-шестых, не стоит заставлять ребенка с помощью силы делать то, что хочется в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357120" y="357120"/>
            <a:ext cx="85010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Тест для родителей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500" spc="-1" strike="noStrike">
                <a:solidFill>
                  <a:srgbClr val="000000"/>
                </a:solidFill>
                <a:latin typeface="Times New Roman"/>
              </a:rPr>
              <a:t>«Пытаетесь ли Вы понять своего ребенка?»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Из трех ответов на каждый вопрос выберите один, затем подсчитайте, каких ответов больше всего – А, Б, В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1. Ребенок капризничает. Не ест суп, хотя всегда ел. В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а) дадите ему другое блюдо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б) разрешите выйти ему из-за стола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) не выпустите его из-за стола до тех пор, пока не съест все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2. Ваш ребенок во дворе «круто» поссорился со сверстниками. В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а) идете во двор и разбираетесь с детьми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б) советуете ребенку самому уладить конфликт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) предлагаете остаться дома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3. Ваш ребенок смотрит фильм, вместо того, чтобы делать уроки В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а) начнете его ругать, кричать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б) попытаетесь выяснить, почему он не делает уроки, возможно, сядете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рядом и разберете вместе с ним домашнее задание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) без слов выключите телевизор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4. Ваш ребенок скрыл от Вас полученные двойк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а) вы в гневе и за двойки, и за их сокрытие, запрещаете все, кроме уроков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б) пытаетесь помочь исправить положение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в) физически или как-нибудь иначе наказываете подростка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5. Ваш сын (дочь) гораздо позже назначенного времени вернулся (ась) домой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а) не выяснив причины, начинаете ругать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б) обсудите случившееся, выясните, почему задержался и договоритесь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что впредь опозданий не будет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imes New Roman"/>
              </a:rPr>
              <a:t>в) накажете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428760"/>
            <a:ext cx="82296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од каждой буквой прочтите мнение о себ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– это тип авторитарного родителя, который мало доверяет своему ребенку, мало понимает его потреб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 это тип родителя, признающего право ребенка на личный опыт, даже ошибки, и пытающегося научить его отвечать за себя и свои поступ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– тип родителя, не пытающегося понять ребенка, основным его методом воспитания является порицание и наказ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0040" y="356760"/>
            <a:ext cx="82152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900" spc="-1" strike="noStrike">
                <a:solidFill>
                  <a:srgbClr val="000000"/>
                </a:solidFill>
                <a:latin typeface="Times New Roman"/>
              </a:rPr>
              <a:t>Правила воспитания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Если ребенка постоянно критиковать, он учитс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ненавидеть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Если ребенок живет во вражде, он учитс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агрессивности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Если ребенка высмеивают, он становитс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замкнутым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Если ребенок растет в упреках, он учится жить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с чувством вины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Если ребенок растет в терпимости, он учитс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принимать других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Если ребенка подбадривают, он учитс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верить в себя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Если ребенок растет в честности, он учитс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быть справедливым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Если ребенок растет в безопасности, он учится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верить в себя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Times New Roman"/>
              </a:rPr>
              <a:t>Если ребенок живет в понимании и дружелюбии, он учится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100" spc="-1" strike="noStrike">
                <a:solidFill>
                  <a:srgbClr val="000000"/>
                </a:solidFill>
                <a:latin typeface="Times New Roman"/>
              </a:rPr>
              <a:t>находить любовь в этом мире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85840"/>
            <a:ext cx="822960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нкетиров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нимают ли тебя окружающие так, как тебе бы этого хотелос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особен ли ты уважать человеческое достоинство даже тех людей, которых не понимаеш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вляются ли твои родители для тебя образцом понимания окружающих люд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цени по пятибалльной шкале свою способность понимать и принимать окружающих люд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ожешь ли ты нормально общаться с теми сверстниками, которых недолюбливаеш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ы конфликтный человек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35676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Черты толерантной лич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п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ние владеть соб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вер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у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ность к сопереживани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сходи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оложение к други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увство юм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пимость к различия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брожела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уман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ознатель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ние слуш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склонность   осуждать других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ьтруиз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7:20:50Z</dcterms:created>
  <dc:creator>1</dc:creator>
  <dc:description/>
  <dc:language>en-US</dc:language>
  <cp:lastModifiedBy>1</cp:lastModifiedBy>
  <dcterms:modified xsi:type="dcterms:W3CDTF">2010-10-30T07:25:51Z</dcterms:modified>
  <cp:revision>19</cp:revision>
  <dc:subject/>
  <dc:title>Толерантность – путь к культуре мира</dc:title>
</cp:coreProperties>
</file>