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8.gif" ContentType="image/gif"/>
  <Override PartName="/ppt/media/image13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croN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9-12-04T23:56:10.12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102-F0C9-4614-9598-8DA8ACC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A19-382F-4D26-BF3B-9C7E151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C37-3677-4D1F-AEA9-26E9B758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BAD-132F-47D6-BA33-2BFB5AC5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EF5E-DA1D-49A8-926E-AB16B56B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8FC-143E-48CC-9A32-52037F0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311A-302B-4C24-B776-F55FAF1C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3A1-E821-4B81-BA56-7DA1DC7C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C481-5F8B-4E77-9BDE-02343F0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D8C7-F226-4870-946A-93ADBC17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14C-1E83-450A-AA9C-3CC77A6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3AD-2FE4-4E28-9163-64F5E39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B3A-F79D-4C9E-B36C-12A97AB6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0125-D6E0-41B4-B0FF-FA3CB79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8DA-A09D-45D1-BA24-D07DEF2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B45B-DB4D-4747-96BE-9A6FF6D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B9E3-CF9B-484D-836D-05DAFB9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125-E941-4EDC-A9C4-4CADC6A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F10-DCB9-472B-97E9-C0215499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6C2-3065-46AF-A02B-9798100A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4DE-31EE-4512-BEED-3766476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850-0B9C-42A6-A488-5CD7F1D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66A-EA62-4DFD-BF39-43192A7A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126-63F0-4638-9680-4050E2A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6F68-0EDE-4EA1-B641-22ADEC40B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86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79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2120"/>
            <a:ext cx="2133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42BD-674F-49F1-B93C-3A0F22DF2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471360"/>
            <a:ext cx="64008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84" name="Прямоугольник 7" descr=""/>
          <p:cNvPicPr/>
          <p:nvPr/>
        </p:nvPicPr>
        <p:blipFill>
          <a:blip r:embed="rId1"/>
          <a:stretch/>
        </p:blipFill>
        <p:spPr>
          <a:xfrm>
            <a:off x="0" y="324000"/>
            <a:ext cx="7186680" cy="7362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01.gif"/>
          <p:cNvPicPr/>
          <p:nvPr/>
        </p:nvPicPr>
        <p:blipFill>
          <a:blip r:embed="rId2"/>
          <a:stretch/>
        </p:blipFill>
        <p:spPr>
          <a:xfrm>
            <a:off x="5629320" y="3286080"/>
            <a:ext cx="351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Дать определение взаимно обратных чисе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Calibri"/>
              </a:rPr>
              <a:t>Научить находить числа, обратные данным, представленных в виде смешанных чисел, десятичных дроб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6266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Выполните умножение чисе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Содержимое 3"/>
              <p:cNvSpPr txBox="1"/>
              <p:nvPr/>
            </p:nvSpPr>
            <p:spPr>
              <a:xfrm>
                <a:off x="500040" y="1214280"/>
                <a:ext cx="16430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642960" y="2928960"/>
                <a:ext cx="13572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500040" y="4857840"/>
                <a:ext cx="16430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" name="Группа 8"/>
          <p:cNvGrpSpPr/>
          <p:nvPr/>
        </p:nvGrpSpPr>
        <p:grpSpPr>
          <a:xfrm>
            <a:off x="2714760" y="1285920"/>
            <a:ext cx="3857400" cy="4357800"/>
            <a:chOff x="2714760" y="1285920"/>
            <a:chExt cx="3857400" cy="4357800"/>
          </a:xfrm>
        </p:grpSpPr>
        <p:sp>
          <p:nvSpPr>
            <p:cNvPr id="94" name="Пятно 2 6"/>
            <p:cNvSpPr/>
            <p:nvPr/>
          </p:nvSpPr>
          <p:spPr>
            <a:xfrm>
              <a:off x="2714760" y="1285920"/>
              <a:ext cx="3857400" cy="4357800"/>
            </a:xfrm>
            <a:prstGeom prst="irregularSeal2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5"/>
                <p:cNvSpPr txBox="1"/>
                <p:nvPr/>
              </p:nvSpPr>
              <p:spPr>
                <a:xfrm>
                  <a:off x="3714840" y="2071800"/>
                  <a:ext cx="157140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6" name="Рисунок 10" descr="016.gif"/>
          <p:cNvPicPr/>
          <p:nvPr/>
        </p:nvPicPr>
        <p:blipFill>
          <a:blip r:embed="rId1"/>
          <a:stretch/>
        </p:blipFill>
        <p:spPr>
          <a:xfrm>
            <a:off x="5500800" y="35002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</a:rPr>
              <a:t>Два числа, произведение которых равно 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300" spc="-1" strike="noStrike">
                <a:solidFill>
                  <a:srgbClr val="7030a0"/>
                </a:solidFill>
                <a:latin typeface="Calibri"/>
              </a:rPr>
              <a:t>,</a:t>
            </a:r>
            <a:br>
              <a:rPr sz="4300"/>
            </a:br>
            <a:r>
              <a:rPr b="1" i="1" lang="ru-RU" sz="4800" spc="-1" strike="noStrike">
                <a:solidFill>
                  <a:srgbClr val="7030a0"/>
                </a:solidFill>
                <a:latin typeface="Calibri"/>
              </a:rPr>
              <a:t> называют взаимно обратны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6471360"/>
            <a:ext cx="64008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Прямоугольник 5"/>
          <p:cNvSpPr/>
          <p:nvPr/>
        </p:nvSpPr>
        <p:spPr>
          <a:xfrm flipH="1">
            <a:off x="6357240" y="785880"/>
            <a:ext cx="857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214200" y="3357720"/>
                <a:ext cx="57150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1928880" y="5286240"/>
                <a:ext cx="2847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" name="Рисунок 10" descr="88.gif"/>
          <p:cNvPicPr/>
          <p:nvPr/>
        </p:nvPicPr>
        <p:blipFill>
          <a:blip r:embed="rId1"/>
          <a:stretch/>
        </p:blipFill>
        <p:spPr>
          <a:xfrm>
            <a:off x="5632560" y="3643200"/>
            <a:ext cx="3166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7500960" y="0"/>
                <a:ext cx="125100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378000"/>
            <a:ext cx="7010640" cy="157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571760" y="2571840"/>
                <a:ext cx="378612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Box 8"/>
          <p:cNvSpPr/>
          <p:nvPr/>
        </p:nvSpPr>
        <p:spPr>
          <a:xfrm>
            <a:off x="357120" y="45007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начит, обратным будет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1" descr="238.gif"/>
          <p:cNvPicPr/>
          <p:nvPr/>
        </p:nvPicPr>
        <p:blipFill>
          <a:blip r:embed="rId2"/>
          <a:stretch/>
        </p:blipFill>
        <p:spPr>
          <a:xfrm>
            <a:off x="6357960" y="2233440"/>
            <a:ext cx="2357280" cy="227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5857920" y="3857760"/>
                <a:ext cx="20001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TextBox 4"/>
          <p:cNvSpPr/>
          <p:nvPr/>
        </p:nvSpPr>
        <p:spPr>
          <a:xfrm>
            <a:off x="285840" y="1928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Запишем число в виде неправильной дроб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500040" y="35712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ля данных чисел найдите взаимно обрат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поезд"/>
          <p:cNvPicPr/>
          <p:nvPr/>
        </p:nvPicPr>
        <p:blipFill>
          <a:blip r:embed="rId1"/>
          <a:stretch/>
        </p:blipFill>
        <p:spPr>
          <a:xfrm>
            <a:off x="428760" y="3571920"/>
            <a:ext cx="8440560" cy="177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2786040" y="521496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4000680" y="5572080"/>
                <a:ext cx="857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5357880" y="5572080"/>
                <a:ext cx="714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6786720" y="5500800"/>
                <a:ext cx="571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7929720" y="5286240"/>
                <a:ext cx="785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1357200" y="1428840"/>
                <a:ext cx="642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9"/>
              <p:cNvSpPr txBox="1"/>
              <p:nvPr/>
            </p:nvSpPr>
            <p:spPr>
              <a:xfrm>
                <a:off x="2286000" y="1714680"/>
                <a:ext cx="428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3214800" y="1428840"/>
                <a:ext cx="642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5929200" y="135720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643280" y="1428840"/>
                <a:ext cx="5004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3"/>
              <p:cNvSpPr txBox="1"/>
              <p:nvPr/>
            </p:nvSpPr>
            <p:spPr>
              <a:xfrm>
                <a:off x="7000920" y="1357200"/>
                <a:ext cx="57132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1.48148E-006 L -0.51615 0.00764 E">
                                      <p:cBhvr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0162 L -0.0335 0.35439 E">
                                      <p:cBhvr>
                                        <p:cTn id="18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75 0.02385 L 0.31702 0.35811 E">
                                      <p:cBhvr>
                                        <p:cTn id="19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0.00903 L 0.36649 0.34236 E">
                                      <p:cBhvr>
                                        <p:cTn id="19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0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00186 L 0.09931 0.35024 E">
                                      <p:cBhvr>
                                        <p:cTn id="21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00040" y="500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Решить уравн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642960" y="1357200"/>
                <a:ext cx="16430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571680" y="2857680"/>
                <a:ext cx="16430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428760" y="5072040"/>
                <a:ext cx="21222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Box 5"/>
          <p:cNvSpPr/>
          <p:nvPr/>
        </p:nvSpPr>
        <p:spPr>
          <a:xfrm>
            <a:off x="642960" y="4357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02.gif"/>
          <p:cNvPicPr/>
          <p:nvPr/>
        </p:nvPicPr>
        <p:blipFill>
          <a:blip r:embed="rId1"/>
          <a:stretch/>
        </p:blipFill>
        <p:spPr>
          <a:xfrm>
            <a:off x="4486320" y="2048040"/>
            <a:ext cx="468792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-219240"/>
            <a:ext cx="8742600" cy="203544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2" descr=""/>
          <p:cNvPicPr/>
          <p:nvPr/>
        </p:nvPicPr>
        <p:blipFill>
          <a:blip r:embed="rId2"/>
          <a:stretch/>
        </p:blipFill>
        <p:spPr>
          <a:xfrm>
            <a:off x="1432080" y="2030400"/>
            <a:ext cx="6443640" cy="1803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108.gif"/>
          <p:cNvPicPr/>
          <p:nvPr/>
        </p:nvPicPr>
        <p:blipFill>
          <a:blip r:embed="rId3"/>
          <a:stretch/>
        </p:blipFill>
        <p:spPr>
          <a:xfrm>
            <a:off x="5143680" y="2057400"/>
            <a:ext cx="4000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21:42Z</dcterms:created>
  <dc:creator>Ирина</dc:creator>
  <dc:description/>
  <dc:language>en-US</dc:language>
  <cp:lastModifiedBy>MacroN</cp:lastModifiedBy>
  <dcterms:modified xsi:type="dcterms:W3CDTF">2009-12-13T13:53:55Z</dcterms:modified>
  <cp:revision>37</cp:revision>
  <dc:subject/>
  <dc:title>Взаимно обратные числа</dc:title>
</cp:coreProperties>
</file>