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CE3-65D2-43EC-8A2B-2FAE3234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302-A811-499A-914C-ED36887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937-A5CD-4635-9A47-A6D5FAEC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10B-864F-462B-B1ED-EC346C7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03B0-BC82-4BBE-85A6-CA977C1B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7302-5B42-4766-A049-73BDAAD4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6AA-1FF9-4CB4-812F-6CEDB78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E4F-0E0F-4144-8D70-DC4BFE43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C19-7518-416F-8711-AB4EBF41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913-9AB5-4721-803C-EDF1B75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83C-3C8C-4275-9F14-B9E4D42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61D-E246-42E8-B3BF-0784B99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B48-4F78-4D19-A2DB-E9ADD9F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71BA-78BA-4D9A-8858-D2C49A1E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160-FC56-462E-BAC6-3BC4974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020-809B-4924-92BC-138B9F0D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1E9-5F7F-437E-A92B-3005C109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A6C-9837-404F-BF8C-2D42539C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22D-C858-4165-B20F-9BC53588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FAB-2949-4D9D-B038-AAA06BD1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431-6D91-45EC-90F9-00BD1A5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0DE-8B17-4FCE-BDBE-34303A7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74B-2352-44B5-BFBD-C7D9704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DD9-BA51-4143-A87A-F447CF3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0C12-EAF0-46C4-89D8-019F8D50F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925E-0A28-4B17-8E34-91BDB7F43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en-US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Учитель</cp:lastModifiedBy>
  <dcterms:modified xsi:type="dcterms:W3CDTF">2007-06-07T10:25:43Z</dcterms:modified>
  <cp:revision>1</cp:revision>
  <dc:subject/>
  <dc:title>История развития химии</dc:title>
</cp:coreProperties>
</file>