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AFF-85A1-4FEF-8107-E3A76C6B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2D5-079B-4FF1-902B-CE88A55F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75E-2C6C-4333-AD6E-C29A708E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AD9-89A4-4FB5-9643-18065E9A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D061B-825F-465B-8D95-2A021D36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FCC7-A308-4384-9897-20708D7D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7A6F-3043-45BD-9315-766163D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06696-DE32-4ED1-9377-A21DC4E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E41B-ADC9-48EC-A1DD-B0E8D210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F0D5-B500-4728-AD20-AE3B8AC0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469D-DB9A-43AB-9C24-76E979F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222-8560-4081-8802-229B9867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EB239-EC83-4306-BE32-5F9E4EEE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827E6-9F49-47A3-8FC0-2FECA15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C624B-B11F-43E9-B0E2-D5E0C143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16A23-178F-4E45-8F73-974074E2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FE8BC-4509-463B-8B31-C420B44C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B84-048A-42B5-A7BE-57249D57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325-1185-4F34-A214-8D0EAAA5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3B3-2881-4620-B4D3-C0F8D328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3CD-32E8-4DCC-AC98-2D96311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FB0-9265-4CDD-9397-800740C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B4C-6447-4576-9644-1480355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965-D67D-4ED7-A350-31E33DF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3E7-8E0A-49A4-9DCE-6B4265CE6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D3D-AE9D-4384-B200-28F1D42F1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Что такое информац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Информационные процес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Обработка информац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это получение одних информационных объектов из других путем выполнения каких-либо действ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403848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ходная информация (сведения для человека или устройства)+запас имеющихся и опы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516720" y="3573360"/>
            <a:ext cx="217008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ходная информация  (нов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4149720"/>
            <a:ext cx="208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бот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494172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3280" y="5084640"/>
            <a:ext cx="158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мехи, шу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ahoma"/>
              </a:rPr>
              <a:t>ИНФОРМА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708280"/>
            <a:ext cx="273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ЧНИК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88000" y="2708280"/>
            <a:ext cx="345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ЕМН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1484280"/>
            <a:ext cx="792000" cy="1081080"/>
          </a:xfrm>
          <a:custGeom>
            <a:avLst/>
            <a:gdLst>
              <a:gd name="textAreaLeft" fmla="*/ 105840 w 792000"/>
              <a:gd name="textAreaRight" fmla="*/ 686160 w 79200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00720" y="1484280"/>
            <a:ext cx="719280" cy="1008000"/>
          </a:xfrm>
          <a:custGeom>
            <a:avLst/>
            <a:gdLst>
              <a:gd name="textAreaLeft" fmla="*/ 96120 w 719280"/>
              <a:gd name="textAreaRight" fmla="*/ 623160 w 719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42920" y="4508640"/>
            <a:ext cx="24289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изводи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51640" y="4508640"/>
            <a:ext cx="2933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спринима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87640" y="5300640"/>
            <a:ext cx="26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лове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ройст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ИНФОРМАЦИЯ»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ДАННЫ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НЫЕ – это «сырье» для получения информ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19280" y="5084640"/>
            <a:ext cx="5832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Е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вляю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УЕМЫЕ ДАН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907920"/>
            <a:ext cx="502920" cy="1224000"/>
          </a:xfrm>
          <a:prstGeom prst="upDownArrow">
            <a:avLst>
              <a:gd name="adj1" fmla="val 50000"/>
              <a:gd name="adj2" fmla="val 4845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древности люди решили, что каждой цифре от 1 до 9 соответствует Солнце или планета Солнечной системы: 1-Солнце,2- Луна, 3- Марс, 4- Меркурий, 5- Юпитер,6- Венера,7-Сатурн, 8- Уран, 9- Нептун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4.10.1989=2+4+1+0+1+9+8+9=34=3+4=7 - Сатур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анение информ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оситель информаци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среда для записи и хранения информа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й материальный предм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лны различной приро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стические носители;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лектромагнитные носите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витационные носите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щество в различном состоя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ьютерные носите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460520" cy="2073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277920"/>
          <a:ext cx="8229600" cy="6783120"/>
        </p:xfrm>
        <a:graphic>
          <a:graphicData uri="http://schemas.openxmlformats.org/drawingml/2006/table">
            <a:tbl>
              <a:tblPr/>
              <a:tblGrid>
                <a:gridCol w="298440"/>
                <a:gridCol w="2444760"/>
                <a:gridCol w="1371600"/>
                <a:gridCol w="1371600"/>
                <a:gridCol w="1371600"/>
                <a:gridCol w="13716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це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ем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 хран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обрабатываетс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вотные, охраняющие свои территории, оставляют пахучие ме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 смотрим ново­сти по телевизору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 располагает данными о своих вкладчик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я решает задачу по математик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я играет в ком­пьютерную игр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тучая мышь ори­ентируется в про­странстве, испус­кая ультразвуковые волн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томатическое управление поле­том ракет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рытие двери ключ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Почему у термина «окружность» одно определение, а у термина «информация» много?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Какие процессы можно назвать информационными?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Обрабатывает ли дверной замок информацию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380520"/>
            <a:ext cx="4267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ед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ое об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е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 куль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устриальное об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0-е год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ая информационная револю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ое нераве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1640" y="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ладение навыками использования различных технических средст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Открытие электриче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витие промышлен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величение доли умственного труд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К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Книгопечатание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облема информационного об-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15800" indent="-415800"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оявление письмен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ловарь Ожегов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информац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едения об окружающем мире и протекающих в нем процессах, воспринимаемых человеком или специальным устройст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общения, осведомляющие о положении дел, о состоянии чего-ли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ИНФОРМА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cc3300"/>
                </a:solidFill>
                <a:uFillTx/>
                <a:latin typeface="Tahoma"/>
              </a:rPr>
              <a:t>Informat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«сведения, изложение, разъяс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2276640"/>
            <a:ext cx="641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общение, сведения, зна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ahoma"/>
              </a:rPr>
              <a:t>ИНФОРМАЦИЯ -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О СВЕДЕНИЯ ОБ ОБЪЕКТАХ И ЯВЛЕНИЯХ ОКРУЖАЮЩЕГО МИРА, УМЕНЬЩАЮЩИЕ СТЕПЕНЬ НЕОПРЕДЕЛЕННОСТИ ЗНАНИЙ ОБ ОБЪЕКТАХ ИЛИ ЯВЛЕНИЯХ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о всех сферах – создание, передача, обработка и хранение информац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и процессы называю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ahoma"/>
              </a:rPr>
              <a:t>информационны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Передача, обработка и хранение информации происходит в форме сигналов или зна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71640" y="3500280"/>
            <a:ext cx="374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гна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 rot="13423200">
            <a:off x="4284720" y="4149720"/>
            <a:ext cx="936720" cy="1008000"/>
          </a:xfrm>
          <a:custGeom>
            <a:avLst/>
            <a:gdLst>
              <a:gd name="textAreaLeft" fmla="*/ 268920 w 936720"/>
              <a:gd name="textAreaRight" fmla="*/ 802440 w 93672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5013360"/>
            <a:ext cx="35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зическ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51640" y="5013360"/>
            <a:ext cx="309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осо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ри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40360" y="6093000"/>
            <a:ext cx="118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передача информаци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ИНФОРМАЦИЯ       ИНФОРМАЦ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141720"/>
            <a:ext cx="936720" cy="433440"/>
          </a:xfrm>
          <a:prstGeom prst="rightArrow">
            <a:avLst>
              <a:gd name="adj1" fmla="val 50000"/>
              <a:gd name="adj2" fmla="val 540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19640" y="2205000"/>
            <a:ext cx="255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 свя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08360" y="3789360"/>
            <a:ext cx="1562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ме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95320" cy="169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236000" y="5013360"/>
            <a:ext cx="1608120" cy="160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995640" y="0"/>
            <a:ext cx="112392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826920" y="404640"/>
            <a:ext cx="1047960" cy="13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7812000" y="620640"/>
            <a:ext cx="914400" cy="118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924360" y="5373720"/>
            <a:ext cx="12571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3:18:15Z</dcterms:created>
  <dc:creator>ANTON</dc:creator>
  <dc:description/>
  <dc:language>en-US</dc:language>
  <cp:lastModifiedBy>АНТОН</cp:lastModifiedBy>
  <dcterms:modified xsi:type="dcterms:W3CDTF">2004-12-31T19:51:45Z</dcterms:modified>
  <cp:revision>10</cp:revision>
  <dc:subject/>
  <dc:title>ИНФОРМАЦИЯ</dc:title>
</cp:coreProperties>
</file>