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4041-84CF-45A4-8FC4-106BC29B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5769-F1AA-4ABC-8FA4-E920AC3A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A7B6-14D8-4673-9B27-4B9B7221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1EA4-03EE-433A-9173-30AEF15C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0F3C-9170-4FB5-B62A-0EC17BA9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552A-2C12-423D-BC40-5CAE4D31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C995-77D0-4326-BEB5-4D01F016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B229-0E8E-4395-8D5E-2BE5D285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EAED-345D-4356-996F-70D15FD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B6BB-8873-422B-8C83-8608FD8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939F-6D0A-47C1-A061-8DF9CAE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FACB-E570-4679-88C3-2A041BDB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9D6-4C84-4408-AD9F-95CEE933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B744-1620-4FA5-93FD-E31AC6A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9010-3E09-472E-BD19-D7D28D5A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8592-FB2D-4A70-81FD-08183124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8992-6998-4DFB-B91A-3BBFE858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842D-13FA-42A6-88D5-648ED328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B473-3E7B-46E0-B816-2000C688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4AC0-6CC8-4621-AEC3-8304E48A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09E9-2595-47A6-B7F7-B05BAB57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AAD4-8EA4-4D12-8D4F-EB7B4623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FF86-A6DB-4A47-97F4-17CCC84A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45C5-13D2-40AD-9520-15DAEF70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1514-1235-4F92-9375-946140A11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3E03-5C5A-412D-84F3-D273C3649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42200" cy="185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1000080" y="3571920"/>
            <a:ext cx="1635120" cy="1500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2233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льц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:\Program Files\Microsoft Office\MEDIA\CAGCAT10\j0285750.wmf"/>
          <p:cNvPicPr/>
          <p:nvPr/>
        </p:nvPicPr>
        <p:blipFill>
          <a:blip r:embed="rId2"/>
          <a:stretch/>
        </p:blipFill>
        <p:spPr>
          <a:xfrm>
            <a:off x="3357720" y="500040"/>
            <a:ext cx="2207880" cy="1357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3571920" y="5000760"/>
            <a:ext cx="1666800" cy="153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Program Files\Microsoft Office\MEDIA\CAGCAT10\j0205582.wmf"/>
          <p:cNvPicPr/>
          <p:nvPr/>
        </p:nvPicPr>
        <p:blipFill>
          <a:blip r:embed="rId4"/>
          <a:stretch/>
        </p:blipFill>
        <p:spPr>
          <a:xfrm>
            <a:off x="6000840" y="1643040"/>
            <a:ext cx="1603440" cy="1469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Program Files\Microsoft Office\MEDIA\CAGCAT10\j0205582.wmf"/>
          <p:cNvPicPr/>
          <p:nvPr/>
        </p:nvPicPr>
        <p:blipFill>
          <a:blip r:embed="rId5"/>
          <a:stretch/>
        </p:blipFill>
        <p:spPr>
          <a:xfrm>
            <a:off x="6000840" y="3643200"/>
            <a:ext cx="1571400" cy="144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Program Files\Microsoft Office\MEDIA\CAGCAT10\j0205582.wmf"/>
          <p:cNvPicPr/>
          <p:nvPr/>
        </p:nvPicPr>
        <p:blipFill>
          <a:blip r:embed="rId6"/>
          <a:stretch/>
        </p:blipFill>
        <p:spPr>
          <a:xfrm>
            <a:off x="1071720" y="1571760"/>
            <a:ext cx="1643040" cy="15080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ая соединительная линия 17"/>
          <p:cNvSpPr/>
          <p:nvPr/>
        </p:nvSpPr>
        <p:spPr>
          <a:xfrm>
            <a:off x="5572080" y="1714680"/>
            <a:ext cx="500040" cy="2854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ая соединительная линия 19"/>
          <p:cNvSpPr/>
          <p:nvPr/>
        </p:nvSpPr>
        <p:spPr>
          <a:xfrm flipH="1">
            <a:off x="6786720" y="3112920"/>
            <a:ext cx="15840" cy="5302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21"/>
          <p:cNvSpPr/>
          <p:nvPr/>
        </p:nvSpPr>
        <p:spPr>
          <a:xfrm flipH="1">
            <a:off x="5357880" y="5000760"/>
            <a:ext cx="1071360" cy="4284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ая соединительная линия 23"/>
          <p:cNvSpPr/>
          <p:nvPr/>
        </p:nvSpPr>
        <p:spPr>
          <a:xfrm>
            <a:off x="2571840" y="4857840"/>
            <a:ext cx="1071360" cy="64296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25"/>
          <p:cNvSpPr/>
          <p:nvPr/>
        </p:nvSpPr>
        <p:spPr>
          <a:xfrm flipH="1" flipV="1">
            <a:off x="1892160" y="3079440"/>
            <a:ext cx="108000" cy="5634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ая соединительная линия 27"/>
          <p:cNvSpPr/>
          <p:nvPr/>
        </p:nvSpPr>
        <p:spPr>
          <a:xfrm flipV="1">
            <a:off x="2428920" y="1500120"/>
            <a:ext cx="785880" cy="3571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2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3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85840" y="620280"/>
            <a:ext cx="33573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3659040" y="2868480"/>
            <a:ext cx="2190960" cy="1346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Program Files\Microsoft Office\MEDIA\CAGCAT10\j0205582.wmf"/>
          <p:cNvPicPr/>
          <p:nvPr/>
        </p:nvPicPr>
        <p:blipFill>
          <a:blip r:embed="rId2"/>
          <a:stretch/>
        </p:blipFill>
        <p:spPr>
          <a:xfrm>
            <a:off x="3714840" y="479520"/>
            <a:ext cx="1643040" cy="1508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6357960" y="2857680"/>
            <a:ext cx="1620720" cy="148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Program Files\Microsoft Office\MEDIA\CAGCAT10\j0205582.wmf"/>
          <p:cNvPicPr/>
          <p:nvPr/>
        </p:nvPicPr>
        <p:blipFill>
          <a:blip r:embed="rId4"/>
          <a:stretch/>
        </p:blipFill>
        <p:spPr>
          <a:xfrm>
            <a:off x="1285920" y="2703600"/>
            <a:ext cx="1633320" cy="1498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Program Files\Microsoft Office\MEDIA\CAGCAT10\j0205582.wmf"/>
          <p:cNvPicPr/>
          <p:nvPr/>
        </p:nvPicPr>
        <p:blipFill>
          <a:blip r:embed="rId5"/>
          <a:stretch/>
        </p:blipFill>
        <p:spPr>
          <a:xfrm>
            <a:off x="3786120" y="4989600"/>
            <a:ext cx="1633680" cy="1498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9"/>
          <p:cNvSpPr/>
          <p:nvPr/>
        </p:nvSpPr>
        <p:spPr>
          <a:xfrm flipH="1">
            <a:off x="4714920" y="2071800"/>
            <a:ext cx="1440" cy="5713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 flipV="1">
            <a:off x="6000840" y="3602160"/>
            <a:ext cx="357120" cy="410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ая соединительная линия 13"/>
          <p:cNvSpPr/>
          <p:nvPr/>
        </p:nvSpPr>
        <p:spPr>
          <a:xfrm flipH="1" flipV="1">
            <a:off x="2919240" y="3452400"/>
            <a:ext cx="581040" cy="11916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15"/>
          <p:cNvSpPr/>
          <p:nvPr/>
        </p:nvSpPr>
        <p:spPr>
          <a:xfrm flipH="1">
            <a:off x="4714920" y="4430880"/>
            <a:ext cx="1440" cy="7142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обальная компьютер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6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ая компьютерная сеть – это объединения двух и более сетей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в мире зарегистрировано более 200 глобальных сетей, которые объединены между собой с помощью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единое информационное пространство, сеть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придумана в конце 60-х годов американским военным как и надежная связь в случае вражеского нападения. Сначала в сеть входило всего 4 компьютера. В 1792 году в сеть было подключено 50 университетов, работающих над военными проектами, в 1980 году – суперкомпьютеры. В 1991году сеть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яла все другие сети. Подключение Росси к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ошло в 1993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– самая большая в мире компьютерная сеть.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У нее нет президента, директора или главного инженера. Она функционирует благодаря наличию определенных стандартов  взаимодействия компьютеров и установленных на них програм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4200" y="981000"/>
            <a:ext cx="87156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ая сеть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ет собой совокупность узлов, объединенных между собой каналами связи.  Каждый узел (хост) содержит один или несколько мощных компьютеров-серверов, работающих под управлением операционной системы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N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правляет узлом его собственник – организация (провайд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известные провайдеры России: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lasNet, Relcom, Sovam Teleport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с, М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мпьютеры)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лю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айдеров можно разделить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, национальные (первичные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егиональные (вторичные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оссии национальными провайдерами являются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lasNet, Relcom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с. Скорость передачи информации между ними составляет около несколько Мбит/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первичным провайдерам подключается вторичные провайдеры. Скорость передачи между вторичными провайдерами составляет десятки-сотни Кбит/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токол – это правила  передачи информации в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яет сети, работающие по разным правилам (протоколам). Для согласования этих правил служат специальные устро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920" y="692280"/>
            <a:ext cx="8858160" cy="60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а типа протокол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азовы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TCP/IP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чающий за физическую пересылку электронных сообщений.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CP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ransmission Control Protocol) 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анспортный протокол (управляет передачей данных).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P (Internet Protocol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токол маршрутизации (доставляет информацию по назначению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кладные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чающие за работу специализированных служб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http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ых сообщений,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tp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токол передачи файлов,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elnet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токол удаленного доступа и п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4464000" y="3333600"/>
                <a:ext cx="21600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85840" y="3929040"/>
                <a:ext cx="4284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ждый компьютер имеет свой уникальный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P –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ддрес, состоящий из 4 байтов (четыре десятичных чисел в интервале от 0 до 255,разделенные точками). Адрес читается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права налев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P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адреса: 128.250.33.19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личных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P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адресов может быть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= 4 294 967 296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P –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дрес человеку трудно запомнить, поэтому у каждого компьютера есть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доменно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символьное)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им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14200" y="907560"/>
            <a:ext cx="8786880" cy="58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 – область сети. Домены в имени отделяются точками. Имя чи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ва напра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доменного и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on.match.ms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 верхнего уровня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значает,  что компьютер с этим именем находится в России, домен второго уровня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su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овский университет, домен третьего уровня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афедра математики, домен четвертого уровня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еальный компьютер, за которым числится данное доменное и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мени  компьютера  может быть любое число доменов, но, как прави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дом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еографическ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обр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r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ан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м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u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кра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8" descr=""/>
          <p:cNvPicPr/>
          <p:nvPr/>
        </p:nvPicPr>
        <p:blipFill>
          <a:blip r:embed="rId1"/>
          <a:stretch/>
        </p:blipFill>
        <p:spPr>
          <a:xfrm>
            <a:off x="324000" y="0"/>
            <a:ext cx="8240400" cy="2017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5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лекоммуникация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ele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вдаль, далеко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unicato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язь) – обмен информацияей на расстоянии с помощью средств связ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мен информацией на расстоянии с помощью компьют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ьютерная (электронная)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е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это система обменом информацией между различными компьютерами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ы доме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дминистративны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gov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правительственнные организаци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il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военные 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com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коммерчески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edu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учебны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net –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тевы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org –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рганизационны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международны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88581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дачей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адресов и доменных имен занимается международный сетевой информационный центр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nterN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ьезной проблемой при работе в сети является защиты информации от несанкционированного доступа. По этой причине локальные сети банков и оборонных предприятий защищают от проникновений в них со стороны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этих целей используют брандмауэ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жба World Wide Web предназначена для доступа к электронным документам особого рода, которы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eb-документ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, упрощенно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eb-страниц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Web-страни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электронный документ, в котором кроме текста содержатся специальные команды форматирования, а также встроенные объекты (рисунки, аудио- и видеоклипы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атривают Web-страницы с помощью специальных программ, называемы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аузер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 что браузер — это не просто клиент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, служащий для взаимодействия с удаленными W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ерверами, это еще и средство просмотра W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ку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eb-страницы имеют не абсолютное, а относительное формат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Брандмауэр – аппаратно – программное средство (межсетевой экран), которое предотвращает несанкционированный доступ (вход) в защищаемую сеть. Межсетевой экран контролирует все информационные потоки между этими двумя сетями, анализируя, пропустить поступающую извне информацию или нет. Брандмауэр фиксирует все «незаконные» попытки доступа к информации и сигнализирует о ситуациях, требующих немедленной реакции (поднимает тревогу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0" y="404640"/>
            <a:ext cx="8916840" cy="1008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42920" y="1916280"/>
            <a:ext cx="88581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своих финансовых возможностей пользователь выбирает один из двух основных способов подключения к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ный доступ п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мутируем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ременной) телефонной ли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доступ п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деленно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стоянному) кан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способ значительно дешевле, однако менее удобен. Скорость обмена информации невысокая, низкое качество связи (частые прерывания связи). Удобнее работать ночью, когда телефонные линии меньше «шумя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торой способ гораздо эффективнее, но и дороже, поэтому используется он коллективными или состоятельными пользователями. В качестве выделенных каналов могут использоваться  коаксиальные и оптические кабели, радиорелейные линии, спутниковая связ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Локальная сет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окальная се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единение 3-х и более компьютеров друг с другом на небольшом расстоянии (внутри одного учреждения) с помощью ка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ы с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648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окаль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внутри одного учрежд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внутри города, страны, континента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рпоративна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сеть в одной корпора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между компьютерами всего мир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– центральный компьютер, на котором установлено сетевое программное обеспечение. Остальные компьютеры называютс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Рабочими станциями, клиентами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абонентами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ети. Такая сеть называется 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клиент – серв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Одноранговая сеть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еть, в которой нет специального серв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используемых каб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итая пар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оаксиальный кабель (состоит из центрального проводника,  одножильного или многожильного, и внешней экранирующей оплетки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елефонный кабель (состоит из двух проводников, каждый из которых проводит световые волны в одном направлении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5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значение локальных с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65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ередача информации между компьютерам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5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овместный доступ к программам и данным,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совместное использование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орудова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5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диница измерения скорости передачи данных – бод (количество бит в секунду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5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Максимальная скорость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ередачи информации в локальной сети может достигать 100 Мбит/с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5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ля соединения компьютеров между собой нуж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ые платы для каждого компьют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тельные каб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2987640" y="333360"/>
            <a:ext cx="3957840" cy="717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7086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1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пология сет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способ соединения компьютеров в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и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Program Files\Microsoft Office\MEDIA\CAGCAT10\j0285750.wmf"/>
          <p:cNvPicPr/>
          <p:nvPr/>
        </p:nvPicPr>
        <p:blipFill>
          <a:blip r:embed="rId2"/>
          <a:stretch/>
        </p:blipFill>
        <p:spPr>
          <a:xfrm>
            <a:off x="3643200" y="550080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179280" y="3429000"/>
            <a:ext cx="1511280" cy="1387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Program Files\Microsoft Office\MEDIA\CAGCAT10\j0205582.wmf"/>
          <p:cNvPicPr/>
          <p:nvPr/>
        </p:nvPicPr>
        <p:blipFill>
          <a:blip r:embed="rId4"/>
          <a:stretch/>
        </p:blipFill>
        <p:spPr>
          <a:xfrm>
            <a:off x="2214720" y="3357720"/>
            <a:ext cx="1666800" cy="153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:\Program Files\Microsoft Office\MEDIA\CAGCAT10\j0205582.wmf"/>
          <p:cNvPicPr/>
          <p:nvPr/>
        </p:nvPicPr>
        <p:blipFill>
          <a:blip r:embed="rId5"/>
          <a:stretch/>
        </p:blipFill>
        <p:spPr>
          <a:xfrm>
            <a:off x="4429080" y="3357720"/>
            <a:ext cx="1643040" cy="1508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C:\Program Files\Microsoft Office\MEDIA\CAGCAT10\j0205582.wmf"/>
          <p:cNvPicPr/>
          <p:nvPr/>
        </p:nvPicPr>
        <p:blipFill>
          <a:blip r:embed="rId6"/>
          <a:stretch/>
        </p:blipFill>
        <p:spPr>
          <a:xfrm>
            <a:off x="6929280" y="3429000"/>
            <a:ext cx="1635120" cy="15001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ая соединительная линия 20"/>
          <p:cNvSpPr/>
          <p:nvPr/>
        </p:nvSpPr>
        <p:spPr>
          <a:xfrm flipV="1">
            <a:off x="4498200" y="5286240"/>
            <a:ext cx="1800" cy="1447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22"/>
          <p:cNvSpPr/>
          <p:nvPr/>
        </p:nvSpPr>
        <p:spPr>
          <a:xfrm>
            <a:off x="357120" y="5214960"/>
            <a:ext cx="850104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25"/>
          <p:cNvSpPr/>
          <p:nvPr/>
        </p:nvSpPr>
        <p:spPr>
          <a:xfrm flipH="1">
            <a:off x="1141560" y="4859280"/>
            <a:ext cx="1440" cy="3571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31"/>
          <p:cNvSpPr/>
          <p:nvPr/>
        </p:nvSpPr>
        <p:spPr>
          <a:xfrm flipH="1">
            <a:off x="5428800" y="4859280"/>
            <a:ext cx="1800" cy="3571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33"/>
          <p:cNvSpPr/>
          <p:nvPr/>
        </p:nvSpPr>
        <p:spPr>
          <a:xfrm flipH="1">
            <a:off x="7929720" y="4930920"/>
            <a:ext cx="1440" cy="2854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ая соединительная линия 39"/>
          <p:cNvSpPr/>
          <p:nvPr/>
        </p:nvSpPr>
        <p:spPr>
          <a:xfrm flipV="1">
            <a:off x="3212280" y="4859280"/>
            <a:ext cx="1800" cy="3571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7:46:58Z</dcterms:created>
  <dc:creator>школа</dc:creator>
  <dc:description/>
  <dc:language>en-US</dc:language>
  <cp:lastModifiedBy>школа</cp:lastModifiedBy>
  <dcterms:modified xsi:type="dcterms:W3CDTF">2009-12-08T12:00:25Z</dcterms:modified>
  <cp:revision>19</cp:revision>
  <dc:subject/>
  <dc:title>Компьютерные телекомуникации</dc:title>
</cp:coreProperties>
</file>