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E7DF-7A9C-49A8-8430-1B9B663C0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4AED-8BFD-4B07-94A6-AFB85F48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75C8-BB9B-46DA-AAA0-177CE3E3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2608-C6FA-46F9-B427-D8B824CB0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4A76-3B48-49D5-ACC3-A3416BFE3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8777-153E-4FC7-8470-731E1FF4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7245-9D76-4B95-BDDC-F51B649C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F180-3D1F-41CD-81CA-17C266AC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B148-168C-4F3C-8536-BDAB493E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E8FD-5857-4B49-8293-EF4B098E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07CF-3D45-41A1-A626-F00254F3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588C-5020-48B9-BB58-04DB9948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E9AC-72C2-44B6-A595-7A965A79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F6EA-EC73-49E4-9AC7-CA4F64B1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E921-9BDA-45F7-8281-93D53B98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32B0-1E60-431F-A29B-43E57521D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B1B4-1017-4E25-9A38-859DD928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59C1-916B-4E4C-B8AB-9370D0E6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B0DE-64BF-4CFD-A474-7E4C3113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9301-2055-43FC-8D91-3F47B3F5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C093-8CC3-427C-B8F5-12DCEFEC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E3EE-AB5E-4BBD-A058-9C0C52CE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46AE-DCB9-4B17-92D7-8F4F1563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CBFB-6249-41C6-A69F-34EB4043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744A-6DFB-401E-B7F5-EED5415CC21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15C3-6D86-4911-BF53-BEBFCBB3B78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33523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Урок № 9: Природно-ресурсная основа экономики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Природные условия и ресурсы - основа отраслей первичного сектора. Рациональное природопользование.)Топливно-энергетический комплекс. Топливная промышленность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Особая роль ТЭК в хозяйстве страны. Размещение угольной, нефтяной и газовой промышленности. Проблемы и перспективы развития этих отраслей.)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-233280"/>
            <a:ext cx="9144000" cy="70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img14.jpg (17403 bytes)"/>
          <p:cNvPicPr/>
          <p:nvPr/>
        </p:nvPicPr>
        <p:blipFill>
          <a:blip r:embed="rId1"/>
          <a:stretch/>
        </p:blipFill>
        <p:spPr>
          <a:xfrm>
            <a:off x="533520" y="1981080"/>
            <a:ext cx="807696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249120"/>
            <a:ext cx="9144000" cy="71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img1.jpg (118447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img11.jpg (23564 bytes)"/>
          <p:cNvPicPr/>
          <p:nvPr/>
        </p:nvPicPr>
        <p:blipFill>
          <a:blip r:embed="rId1"/>
          <a:stretch/>
        </p:blipFill>
        <p:spPr>
          <a:xfrm>
            <a:off x="533520" y="1600200"/>
            <a:ext cx="82296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«Доля России в добыче минерального топлива»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458172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img12.jpg (18623 bytes)"/>
          <p:cNvPicPr/>
          <p:nvPr/>
        </p:nvPicPr>
        <p:blipFill>
          <a:blip r:embed="rId1"/>
          <a:stretch/>
        </p:blipFill>
        <p:spPr>
          <a:xfrm>
            <a:off x="1523880" y="1752480"/>
            <a:ext cx="632484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-127080"/>
            <a:ext cx="914400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-244440"/>
            <a:ext cx="9144000" cy="71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11-22T10:52:4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