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66A-DEC3-4637-B876-B29116F5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E1C-997A-4444-ADC9-E2BDBA08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A4B-D0C5-4B0F-9D64-E43DE94C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87A-4733-446A-8627-CACDF661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30C-41BD-40E0-8630-E1ABF1A9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9CB-C60C-4121-8F07-6C1A566A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A16-CA4F-4C06-BF33-40428072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617-0F73-4782-B28A-D9912EC0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625-0C04-4D07-BCED-EB8D8A20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4D8-1CC2-4197-95CD-4F807445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DF2-7871-4810-98F6-5821E5F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24C-73FA-4F19-AAC7-861FEDF8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122D-A2A3-4555-9BA3-72350043CF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Теорема синусов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Теорема косинусо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итель математи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.А.Ларьк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Школа №91 г.Н.Новг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Выразим косинус угла из теоремы косину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357120" y="1714680"/>
                <a:ext cx="8261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00040" y="2571840"/>
                <a:ext cx="8215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1428840" y="4000680"/>
                <a:ext cx="61038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xit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97-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99 конспект в тетр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25(а, ж,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Определить вид треугольника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(остроугольный, прямоугольный, тупоугольны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0718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роны треугольника равны 3,4,5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роны треугольника равны 5, 12,13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роны треугольника равны 4, 6, 8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4429080" y="49291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тороны треугольн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Равнобедренный треугольник 4"/>
          <p:cNvSpPr/>
          <p:nvPr/>
        </p:nvSpPr>
        <p:spPr>
          <a:xfrm>
            <a:off x="1143000" y="4857840"/>
            <a:ext cx="2357280" cy="1357200"/>
          </a:xfrm>
          <a:prstGeom prst="triangle">
            <a:avLst>
              <a:gd name="adj" fmla="val 72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1439280" y="58579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2836440" y="5786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718640" y="52149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1"/>
          <a:stretch/>
        </p:blipFill>
        <p:spPr>
          <a:xfrm>
            <a:off x="682560" y="-115920"/>
            <a:ext cx="6778800" cy="67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пособ находить стороны и углы треугольников по трем известным элемен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ть теорему сину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ть теорему косину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2"/>
          <p:cNvSpPr/>
          <p:nvPr/>
        </p:nvSpPr>
        <p:spPr>
          <a:xfrm>
            <a:off x="642960" y="5500800"/>
            <a:ext cx="4357800" cy="1214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формулируйте теорему о площади треуголь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ь треугольника равна половине произведения двух его сторон на синус угла между н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22920" y="3071880"/>
            <a:ext cx="79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Запишите, чему равна площадь треугольника АВ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500040" y="3714840"/>
                <a:ext cx="5904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857160" y="4929120"/>
                <a:ext cx="342900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6286680" y="3735360"/>
                <a:ext cx="26431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286080" y="5500800"/>
                <a:ext cx="14288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Равнобедренный треугольник 8"/>
          <p:cNvSpPr/>
          <p:nvPr/>
        </p:nvSpPr>
        <p:spPr>
          <a:xfrm>
            <a:off x="5715000" y="4929120"/>
            <a:ext cx="2857680" cy="1500120"/>
          </a:xfrm>
          <a:prstGeom prst="triangle">
            <a:avLst>
              <a:gd name="adj" fmla="val 796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5429160" y="621504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7858080" y="457200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8501040" y="621504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Теорема син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1430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роны треугольника пропорциональны синусам противолежащих уг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Равнобедренный треугольник 3"/>
          <p:cNvSpPr/>
          <p:nvPr/>
        </p:nvSpPr>
        <p:spPr>
          <a:xfrm>
            <a:off x="642960" y="2428920"/>
            <a:ext cx="3357720" cy="1714320"/>
          </a:xfrm>
          <a:prstGeom prst="triangle">
            <a:avLst>
              <a:gd name="adj" fmla="val 7131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7120" y="414324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929040" y="41432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928960" y="21430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4643280" y="2500200"/>
                <a:ext cx="4129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Прямоугольник 8"/>
          <p:cNvSpPr/>
          <p:nvPr/>
        </p:nvSpPr>
        <p:spPr>
          <a:xfrm>
            <a:off x="642960" y="5500800"/>
            <a:ext cx="4357800" cy="1214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785880" y="5572080"/>
                <a:ext cx="2332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286080" y="5500800"/>
                <a:ext cx="14288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Равнобедренный треугольник 11"/>
          <p:cNvSpPr/>
          <p:nvPr/>
        </p:nvSpPr>
        <p:spPr>
          <a:xfrm>
            <a:off x="5715000" y="4929120"/>
            <a:ext cx="2857680" cy="1500120"/>
          </a:xfrm>
          <a:prstGeom prst="triangle">
            <a:avLst>
              <a:gd name="adj" fmla="val 7963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429160" y="621504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7858080" y="457200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8501040" y="621504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ишите теорему синусов  для треугольник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42960" y="1928520"/>
            <a:ext cx="1542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X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2928960" y="1857240"/>
                <a:ext cx="378792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Теорема косин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драт стороны треугольника равен сумме квадратов двух других сторон минус удвоенное произведение этих сторон на косинус угла между н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Равнобедренный треугольник 3"/>
          <p:cNvSpPr/>
          <p:nvPr/>
        </p:nvSpPr>
        <p:spPr>
          <a:xfrm>
            <a:off x="1214280" y="3786120"/>
            <a:ext cx="3357720" cy="1714680"/>
          </a:xfrm>
          <a:prstGeom prst="triangle">
            <a:avLst>
              <a:gd name="adj" fmla="val 713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928800" y="557208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500720" y="55008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500280" y="3429000"/>
            <a:ext cx="3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1285920" y="6072120"/>
                <a:ext cx="6894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ишите теорему косинусов  для треугольник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42960" y="1928520"/>
            <a:ext cx="1542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X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2214720" y="1928880"/>
                <a:ext cx="660852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t xml:space="preserve">B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оказательств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Равнобедренный треугольник 3"/>
          <p:cNvSpPr/>
          <p:nvPr/>
        </p:nvSpPr>
        <p:spPr>
          <a:xfrm>
            <a:off x="357120" y="1785960"/>
            <a:ext cx="3429000" cy="2143080"/>
          </a:xfrm>
          <a:prstGeom prst="triangle">
            <a:avLst>
              <a:gd name="adj" fmla="val 796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Прямая со стрелкой 5"/>
          <p:cNvCxnSpPr/>
          <p:nvPr/>
        </p:nvCxnSpPr>
        <p:spPr>
          <a:xfrm flipV="1">
            <a:off x="355680" y="999720"/>
            <a:ext cx="2160" cy="3574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5" name="Прямая со стрелкой 6"/>
          <p:cNvCxnSpPr/>
          <p:nvPr/>
        </p:nvCxnSpPr>
        <p:spPr>
          <a:xfrm>
            <a:off x="0" y="3929040"/>
            <a:ext cx="49298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6" name="TextBox 9"/>
          <p:cNvSpPr/>
          <p:nvPr/>
        </p:nvSpPr>
        <p:spPr>
          <a:xfrm>
            <a:off x="3600" y="39290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2932200" y="128592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3646440" y="39290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431280" y="92880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4791240" y="3929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221400" y="3929040"/>
            <a:ext cx="8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0;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3934800" y="392904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с;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3227040" y="1285920"/>
            <a:ext cx="23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cos A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sin A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1572480" y="228600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2145600" y="3929040"/>
            <a:ext cx="3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3431160" y="242892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571680" y="4429080"/>
                <a:ext cx="5533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500040" y="5000760"/>
                <a:ext cx="5797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571680" y="5572080"/>
                <a:ext cx="5715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571680" y="6143760"/>
                <a:ext cx="3643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TextBox 25"/>
          <p:cNvSpPr/>
          <p:nvPr/>
        </p:nvSpPr>
        <p:spPr>
          <a:xfrm>
            <a:off x="6143760" y="714240"/>
            <a:ext cx="207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н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В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=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4995720" y="3286080"/>
                <a:ext cx="4148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сюха</cp:lastModifiedBy>
  <dcterms:modified xsi:type="dcterms:W3CDTF">2009-12-01T15:41:08Z</dcterms:modified>
  <cp:revision>11</cp:revision>
  <dc:subject/>
  <dc:title>Теорема косинусов Теорема синусов</dc:title>
</cp:coreProperties>
</file>