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AA6-8A81-443A-A706-70FF0109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12A-E00E-48A4-80D7-52F5D8CC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023-D2CA-4DDC-81A9-CBC4FBD4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246-6CB4-47C7-B59A-90621A7D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2327-E1FF-4926-9EAB-4EB3E813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B18B-905A-4E6B-9191-D2310235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7571-3202-472C-95B8-5707B942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1E22-E96F-42EB-82D3-85AC2197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8D0B-FB39-4650-A1DB-724A25C7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A2FC-5AEC-4520-B197-C87A6A7B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A7AB-860D-4183-B666-0C954BC7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A19-ED27-4F75-86CA-B66B2D19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877A-84EE-4F62-B92F-531936B5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449A-B5DD-49A6-BE52-B7D73448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2C4E-74E2-46AF-AFA6-9CD35362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FFB8-4F9E-4EC7-8BC7-7BF8A751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7823-D276-4444-A155-3B19E2D6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9C607-1394-47DD-AA5A-89EE1642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50FBE-AD66-47E0-8510-B65D103B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5C315-F702-4EA8-8A2B-0F55DB2A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A3251-D3B4-4AC8-AC6C-C4838107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72D89-D23C-41BD-8BCB-06DAB4DA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3FC-38B5-4FA8-A60D-5DB486B9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90CD1-B440-49CB-A35B-93FFC44F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A94FF-4B16-450F-B75C-36D396B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73168-8EEE-4F4A-8B2B-C54DAEAB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83A7D-788C-4459-B498-471AE06E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54FEB-B86A-41E9-A4F3-C061BD57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B1D5B-1CAB-4D0E-9D9C-EF9974CF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4AF17-E6BE-44D3-901B-4FBFA1C7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F8268-9D42-4212-BBB7-2B5177A7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3EF26-B708-4929-9BA3-A3ADCDF5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3D5EB-F9E4-459F-BE7F-D74FE277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46A-E433-46B4-BB8F-3D1CA8FA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77D4A-955A-4F46-86D4-E7905705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3E1C8-3396-41F0-B606-6E022640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6A097-E08A-4F1C-AD08-D134F5EC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5273F-4DFC-45C7-BFB8-D15A314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B07C7-556B-43DA-BC13-4FDABA36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A628E-7DB4-491A-B3BF-A71A09B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A292B-4F4D-4EF5-B255-4C596141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7679-9D77-41BB-819D-95768227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CC62-7C8D-46A1-9DC1-D8DFF902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333-7962-49B9-B537-88F4E861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C93-17BC-4C70-AE57-6B008D57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D67-DE0A-4592-AB39-BE980F2D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73B-9CB9-48B7-A41E-5B72B231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68D-2F53-4B4E-A06C-D28A3834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6ED1-60A1-488D-A505-715D591D67D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9b2d1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9b2d1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9b2d1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A805-73C2-44D8-BA8D-253E3CDD5F8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DF1E-6149-45C4-BDBC-EF10CF92F1A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3FBA-1854-4C66-807B-02A85585E25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88688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Подготовка  к написанию сочинения- рассуждения в формате части С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000480" y="4714560"/>
            <a:ext cx="27860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96464"/>
                </a:solidFill>
                <a:latin typeface="Georgia"/>
              </a:rPr>
              <a:t>Материалы подготовлены Шалыгановой  Л . А., учителем русского языка и литературы МОУ «Гимназия № 4» г. Саратова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Домашнее задание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обрать  высказывания  известных  писателей , философов , публицистов для использования  в сочинении  по тексту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 о природе, о любви к  н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 о культуре челове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 о милосердии , сострадан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)   о добро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)   о  писательском  труд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)   о  любви  к Родине  (к  родин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А еще  можно начать…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…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 параллельного   пример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пустим, перед  вами текст  о жизни  пожилой  женщины   Катерины  Ивановны, которая страдает от одиночества, страшно доживает   последние  годы  жизн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жно начать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орько  видеть вокруг стариков, брошенных на произвол  судьбы  своей  страной, близкими, детьми. В моем  подъезде  живет  старушка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Проблема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блема-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 вопрос, требующий  решения или  обсужд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блематика -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это все  вопросы, которые затрагиваются  в  тексте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а –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это то, о чем  говорится  в  текст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!!!  В  тексте  может  быть несколько пробл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Проблема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остаточно  сформулировать  одну !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это  может  быть даже  побочная  проблем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ажно  потом  комментировать текст , определять  позицию  автора, свою точку  зрения 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именно  по  сформулированной  пробл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Как сформулировать проблему?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жно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процитирова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Автор  прямо заявляет  о  проблеме «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В  тексте говорится  о  «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262626"/>
                </a:solidFill>
                <a:latin typeface="Georgia"/>
              </a:rPr>
              <a:t>б) пересказа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262626"/>
                </a:solidFill>
                <a:latin typeface="Georgia"/>
              </a:rPr>
              <a:t>в) указать № предлож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Проблема четко обозначена  в предложении №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Как сформулировать проблему?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жно сформулировать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проблема  (чего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в виде  вопроса (конкретно по содержанию  текста)- в </a:t>
            </a: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этом  случае  авторская  позиция должна стать ответом на этот вопро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!!!  </a:t>
            </a:r>
            <a:r>
              <a:rPr b="0" lang="ru-RU" sz="2800" spc="-1" strike="noStrike" u="sng">
                <a:solidFill>
                  <a:srgbClr val="0d0d0d"/>
                </a:solidFill>
                <a:uFillTx/>
                <a:latin typeface="Georgia"/>
              </a:rPr>
              <a:t>Можно  сформулировать  много проблем, но засчитывается только одн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Проблема …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авить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,выдвинуть,  рассмотреть, коснуться , обсудить, уделить ей внимание , над 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П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ожно думать , размышлять,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озникает , встает, представляет интерес, ждет  решения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Проблема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Сложная, важная , серьезная , неразрешимая , глубокая , актуальная,   новая , нравственная…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Комментарий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омментари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это рассуждение  о пробл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Комментарий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объяснение того, как проблема  раскрывается   в  этом текс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ужно  показать , насколько  хорошо вы  поняли  текс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Обязательно  опираемся   на  предложенный текст !!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Комментарий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мните 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не  должно быть просто переск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комментируется  только сформулированная проблем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следует  избегать чрезмерного цитиров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 Если  используете цитату, она должна быть прокомментирован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Что проверяют?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1. Умение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авильно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понимать прочитанный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текст 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) формулировать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облему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б)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комментировать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прочитанно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)выявлять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авторскую позицию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2.Умение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вести диалог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широком смысле слова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)умение сформулировать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свою позицию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б)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доказать ее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 учетом позиции другого человек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Комментарий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блема может быть свободно прокомментирована с  опорой на  текст. В этом случае ученик  следует  за автором в раскрытии  проблемы, старается  проследить за ходом  авторской  мысли, объяснить  содержание  текста, то  есть  показать, как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блема  отражается  в  текс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Цитирование 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местно, но не более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7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слов  в  одном  предложен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учше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 2-3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в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Автор говорит  о том  впечатлении , какое  произвела  на него «еле  уловимая  кротость» собеседниц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Автор  мысленно рисует «березовый перелесок, за ним сосны, песчаный берег…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Комментарий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жно написать ,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кто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еще 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обращалс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к  этой проблеме, насколько  она 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актуальна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вечная или злободневна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жно  указать </a:t>
            </a:r>
            <a:r>
              <a:rPr b="1" i="1" lang="ru-RU" sz="2800" spc="-1" strike="noStrike">
                <a:solidFill>
                  <a:srgbClr val="9e3611"/>
                </a:solidFill>
                <a:latin typeface="Georgia"/>
              </a:rPr>
              <a:t>тип проблем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нравственна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психологическа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экологическа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) морально-этическа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Авторская  позиц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Авторская  позиция-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это ответ на  вопрос, который ставит  авто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Авторская позиц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d0d0d"/>
                </a:solidFill>
                <a:uFillTx/>
                <a:latin typeface="Georgia"/>
              </a:rPr>
              <a:t>Она  может выражаться  по-разному</a:t>
            </a:r>
            <a:r>
              <a:rPr b="0" lang="ru-RU" sz="2600" spc="-1" strike="noStrike">
                <a:solidFill>
                  <a:srgbClr val="0d0d0d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d0d0d"/>
                </a:solidFill>
                <a:latin typeface="Georgia"/>
              </a:rPr>
              <a:t>а) </a:t>
            </a:r>
            <a:r>
              <a:rPr b="1" i="1" lang="ru-RU" sz="2600" spc="-1" strike="noStrike">
                <a:solidFill>
                  <a:srgbClr val="742217"/>
                </a:solidFill>
                <a:latin typeface="Georgia"/>
              </a:rPr>
              <a:t>публицистический  текст  </a:t>
            </a:r>
            <a:r>
              <a:rPr b="0" lang="ru-RU" sz="2600" spc="-1" strike="noStrike">
                <a:solidFill>
                  <a:srgbClr val="0d0d0d"/>
                </a:solidFill>
                <a:latin typeface="Georgia"/>
              </a:rPr>
              <a:t>от  первого лица (в  этом случае нужно говорить о  позиции  автора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d0d0d"/>
                </a:solidFill>
                <a:latin typeface="Georgia"/>
              </a:rPr>
              <a:t>б) </a:t>
            </a:r>
            <a:r>
              <a:rPr b="1" i="1" lang="ru-RU" sz="2600" spc="-1" strike="noStrike">
                <a:solidFill>
                  <a:srgbClr val="742217"/>
                </a:solidFill>
                <a:latin typeface="Georgia"/>
              </a:rPr>
              <a:t>художественный текст  или  публицистический</a:t>
            </a:r>
            <a:r>
              <a:rPr b="0" lang="ru-RU" sz="2600" spc="-1" strike="noStrike">
                <a:solidFill>
                  <a:srgbClr val="0d0d0d"/>
                </a:solidFill>
                <a:latin typeface="Georgia"/>
              </a:rPr>
              <a:t> (повествование), написанный  от  третьего  лица (есть позиция автора  и  есть позиция  героя –</a:t>
            </a:r>
            <a:r>
              <a:rPr b="1" i="1" lang="ru-RU" sz="2600" spc="-1" strike="noStrike">
                <a:solidFill>
                  <a:srgbClr val="0d0d0d"/>
                </a:solidFill>
                <a:latin typeface="Georgia"/>
              </a:rPr>
              <a:t> нельзя  путать!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1" i="1" lang="ru-RU" sz="2600" spc="-1" strike="noStrike">
                <a:solidFill>
                  <a:srgbClr val="742217"/>
                </a:solidFill>
                <a:latin typeface="Georgia"/>
              </a:rPr>
              <a:t>художественный текст  от первого лица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(лучше говорить о  позиции рассказчика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Авторская  позиц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Публицистический от первого лица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зиция авт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Художественный  или  публицистический от  третьего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зиция  автора  и позиция геро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Художественный  от  первого лица-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зиция  рассказч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Как избежать тавтологии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Автор - </a:t>
            </a:r>
            <a:r>
              <a:rPr b="0" lang="ru-RU" sz="2800" spc="-1" strike="noStrike">
                <a:solidFill>
                  <a:srgbClr val="1c1911"/>
                </a:solidFill>
                <a:latin typeface="Georgia"/>
              </a:rPr>
              <a:t>он , писатель, публицист , мастер слов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1911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Писать-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размышлять, задумываться , сообщать , рассуждать , пытаться понять , пытаться постичь ,повествовать, заявлять , указывать , говорить , обращать внимание , анализировать, подчеркивать , рассматривать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Авторская позиция 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е можно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) сформулирова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) пересказать  своими  слова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) указать № предлож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Авторская позиция 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огда  у  автора  может  быть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двоякое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нош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С одной  стороны ,  автор…   А  с другой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Иногда  авторская  позиция  проявляется в  </a:t>
            </a:r>
            <a:r>
              <a:rPr b="1" i="1" lang="ru-RU" sz="2800" spc="-1" strike="noStrike">
                <a:solidFill>
                  <a:srgbClr val="0d0d0d"/>
                </a:solidFill>
                <a:latin typeface="Georgia"/>
              </a:rPr>
              <a:t>поступке  геро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Иногда  выражается  через  </a:t>
            </a:r>
            <a:r>
              <a:rPr b="1" i="1" lang="ru-RU" sz="2800" spc="-1" strike="noStrike">
                <a:solidFill>
                  <a:srgbClr val="0d0d0d"/>
                </a:solidFill>
                <a:latin typeface="Georgia"/>
              </a:rPr>
              <a:t>средства 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d0d0d"/>
                </a:solidFill>
                <a:latin typeface="Georgia"/>
              </a:rPr>
              <a:t>выразительности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, и  тогда  о них  следует  говорить в комментар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Собственная  позиц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Собственная  позиция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выражение  личного взгляда на  выявленную  в  тексте  проблем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бственную  позицию  следует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оказат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(выдвинуть  свой  тезис  и  подкрепить  2-3 аргументам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Требования к содержанию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ъем- от </a:t>
            </a:r>
            <a:r>
              <a:rPr b="1" lang="ru-RU" sz="2800" spc="-1" strike="noStrike">
                <a:solidFill>
                  <a:srgbClr val="742217"/>
                </a:solidFill>
                <a:latin typeface="Georgia"/>
              </a:rPr>
              <a:t>150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до  </a:t>
            </a:r>
            <a:r>
              <a:rPr b="1" lang="ru-RU" sz="2800" spc="-1" strike="noStrike">
                <a:solidFill>
                  <a:srgbClr val="742217"/>
                </a:solidFill>
                <a:latin typeface="Georgia"/>
              </a:rPr>
              <a:t>300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ксперты считают приемлемым объемом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ъем    от    </a:t>
            </a:r>
            <a:r>
              <a:rPr b="1" lang="ru-RU" sz="2800" spc="-1" strike="noStrike">
                <a:solidFill>
                  <a:srgbClr val="742217"/>
                </a:solidFill>
                <a:latin typeface="Georgia"/>
              </a:rPr>
              <a:t>170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до  </a:t>
            </a:r>
            <a:r>
              <a:rPr b="1" lang="ru-RU" sz="2800" spc="-1" strike="noStrike">
                <a:solidFill>
                  <a:srgbClr val="742217"/>
                </a:solidFill>
                <a:latin typeface="Georgia"/>
              </a:rPr>
              <a:t> 280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2217"/>
                </a:solidFill>
                <a:latin typeface="Georgia"/>
              </a:rPr>
              <a:t>Не нужно писать более 300 слов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Собственная  позиц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c6b4d"/>
                </a:solidFill>
                <a:latin typeface="Georgia"/>
              </a:rPr>
              <a:t>Я  согласен  с  автором  в  том ,  что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9240c"/>
                </a:solidFill>
                <a:latin typeface="Georgia"/>
              </a:rPr>
              <a:t>С моей  точки  зрения  ,  эта  проблема  весьма  актуальна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рудно  не  согласиться  с  автором  в  том , что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e3611"/>
                </a:solidFill>
                <a:latin typeface="Georgia"/>
              </a:rPr>
              <a:t>Нельзя  не  согласиться  с автором  текста  в  том,  что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4a3d"/>
                </a:solidFill>
                <a:latin typeface="Georgia"/>
              </a:rPr>
              <a:t>Я  полностью  разделяю  позицию  автора  по  отношению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Собственная позиц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днако  не совсем  точным  является , на  мой  взгляд , оценка  автором  (чего?)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4a3d"/>
                </a:solidFill>
                <a:latin typeface="Georgia"/>
              </a:rPr>
              <a:t>Мне  кажется,  что  в этом  автор  не  совсем  прав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Я  думаю,  автор  не  прав , утверждая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42217"/>
                </a:solidFill>
                <a:latin typeface="Georgia"/>
              </a:rPr>
              <a:t>Я  думаю , что  с мнением  автора  можно  поспорить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  целом   я  разделяю  точку  зрения  автора , однако  не  могу  согласиться  с  тем , что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Собственная  позиц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езис  +  аргумент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ргументы   должны  быть  связаны  с тезис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Аргументы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а) логические  рассужд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б)пример  из жизн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в) литературный (из  произведения  или  из биографии  писателя , поэта) (+  1 балл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         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г)предполагаемый  приме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Аргументы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Не являются  литературными  аргументам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 фольклорные  примеры (сказки , пословицы, поговорки , былины  и  т. д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 песн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 пример  из  литературы, публицистики  (без  указания  выходных  данных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Этические  ошибки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Этические   ошибки-</a:t>
            </a:r>
            <a:r>
              <a:rPr b="0" lang="ru-RU" sz="28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d0d0d"/>
                </a:solidFill>
                <a:latin typeface="Georgia"/>
              </a:rPr>
              <a:t>высказывания,  которые  идут  вразрез  с  общечеловеческими  нормам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Georgia"/>
              </a:rPr>
              <a:t>Что  является  этической  ошибкой?</a:t>
            </a:r>
            <a:endParaRPr b="0" lang="en-US" sz="36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90000"/>
              </a:lnSpc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потребление  грубых , вульгарных  сл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90000"/>
              </a:lnSpc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допустимо  некорректное  отношение  к  автор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Автор – маньяк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Это  глупо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Нормальный  человек  так  сказать не может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911"/>
                </a:solidFill>
                <a:latin typeface="Georgia"/>
              </a:rPr>
              <a:t>3. Слишком  категоричное  суж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217"/>
                </a:solidFill>
                <a:latin typeface="Georgia"/>
              </a:rPr>
              <a:t>Всякая  болезнь – вина  самого  челове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Помните!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Абзацное  член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42217"/>
                </a:solidFill>
                <a:latin typeface="Georgia"/>
              </a:rPr>
              <a:t>Нельзя  допускать  фактических  ошибо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ледите  за  правильным  словоупотреблени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42217"/>
                </a:solidFill>
                <a:latin typeface="Georgia"/>
              </a:rPr>
              <a:t>Тщательно  работайте  с  черновиком, шлифуйте  каждое  предложение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Делайте  речь выразительной, богатой, интересно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Примерный план сочинения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  Вступл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 Отражение проблемы в тексте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 формулировка проблем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 комментар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 авторская позиц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28e6a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зиция учен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 согласие или несогласие с автор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 собственная позиция (тезис + 2 аргумент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    Вывод = заключ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Упрощенный план 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упл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улировка   проблем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мментарий   по   текст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зиция   авт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бственная   позиц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Georgia"/>
              </a:rPr>
              <a:t>Чем отличается от обычного сочинения?</a:t>
            </a:r>
            <a:endParaRPr b="0" lang="en-US" sz="36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ъ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   сами   формулируете  проблем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Вступление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2-4  предлож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ступление + заключение =1/4  работы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С  чего начать?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иторический  вопро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ирическое   отступл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зывное  предлож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просно – ответная  форма излож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итата  (из этого текста   или   друга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28e6a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лише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ждому  из  нас  приходилось  встречаться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ногие  из нас  знают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Georgia"/>
              </a:rPr>
              <a:t>Если начинаете  с цитаты…</a:t>
            </a:r>
            <a:endParaRPr b="0" lang="en-US" sz="4000" spc="-1" strike="noStrike">
              <a:solidFill>
                <a:srgbClr val="696464"/>
              </a:solidFill>
              <a:latin typeface="Georg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 Из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нного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текста   приводите  дословно, точно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Из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ругого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сточника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 точ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 в  виде  косвенной  реч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Лев  Толстой  считал , что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ще в начале двадцатого века Чехов говорил о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4:38:49Z</dcterms:created>
  <dc:creator>Герман</dc:creator>
  <dc:description/>
  <dc:language>en-US</dc:language>
  <cp:lastModifiedBy>Герман</cp:lastModifiedBy>
  <dcterms:modified xsi:type="dcterms:W3CDTF">2009-11-30T16:20:01Z</dcterms:modified>
  <cp:revision>64</cp:revision>
  <dc:subject/>
  <dc:title>Подготовка  к написанию сочинения- рассуждения в формате части С</dc:title>
</cp:coreProperties>
</file>