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15E-695E-47FC-A5C1-30F8F744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962-89E9-479E-8BD7-37F9C00D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5F5-CC3C-418A-965A-AE4D1718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6D9-A839-4ED9-B18B-9C2BCCF9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7946-B7F9-40F4-9978-6984520A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0F49-BE3A-47AE-95F3-43BD55B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6076-A69F-4853-9FB1-4039393F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461B-DF4C-4D92-ACC2-0E3D3D1A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50A-8D39-4435-8960-49654B89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B615-782B-44F3-9104-784FFB3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E2ED-4908-4CC9-B73F-4E17959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128-F2E1-4B08-8259-C919B3C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0DA-CC9F-44EB-BE42-590683B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D1ED-B668-4CC6-8EA7-918FA93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4768-7301-4C61-8A0B-A27BB9A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5209-4007-4640-B7CE-D3563E9C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543C-3266-4B70-9EED-4A6EAB44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400E-0909-4F32-8CFD-B6E3BDEB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8BCC-A186-4457-817D-696E17EC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86C6-9EA5-45F1-B39A-35A9102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D48E-D581-4BE2-BE28-33759081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A9E6-F0EA-4300-A55E-F992AF60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7C6-EBBC-4BAE-9D61-4A2E9EF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5681-CB2D-4601-8E83-94384C4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AD79-CBF8-4E3C-A5FD-B6A4166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A518-D82D-4CA5-8B3A-C6BE5F7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7CDF-399E-41BD-915C-107A133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C638-7F9D-45B3-914F-38871D73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AA9C-B0E8-43B2-BD3F-DE13A00B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54EC-6E88-4D63-A8AD-00B40D0A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785D-A24B-4E59-B4B5-8D61FD42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D9FE-A067-4EB7-A7FD-18AE23C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96B1-D478-4779-9858-2B51632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FEC-D61E-410F-96AA-9437D46D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5943-E2FA-482B-888D-E5DCD95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017B-A3FC-40D2-9B0A-2C05EEE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8C15-49E2-4CDF-B934-B9D014F6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3B77-DD2F-4AFB-87A2-6515324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51C8-5093-4386-BBC6-C08277FB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1517-7801-47FD-8F33-9C40242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98333-F48B-481D-82F6-F430B89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236B-98C0-4197-B766-CDA82FF4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A4A9-A21A-491B-85C6-E1940EFA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146-C598-4E9A-B74A-86F82A83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D9B-A528-4710-9D50-7CAE101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008-F0B2-4A66-9154-07A29D9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A08-E2A7-4DA4-8E41-378F3D5E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F73-65BC-49B2-9C54-0328162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934A-E6AB-499F-AE15-1769D0A54F0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5931-A93B-494A-991E-15E3545D29D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7705-BB7F-48EB-A431-43D27067680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A8E-780E-44D1-BC2A-978F2F70E2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546422"/>
                </a:solidFill>
                <a:uFillTx/>
                <a:latin typeface="Constantia"/>
              </a:rPr>
              <a:t>ЦЕЛЬ УРОКА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- Познакомиться со странами Северной и Западной Европ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993366"/>
                </a:solidFill>
                <a:latin typeface="Constantia"/>
              </a:rPr>
              <a:t>В настоящее время Страны Западной Европы сосредоточены самые развитые страны мира. Которые производят самолеты, автомобили – «Мерседес», «Ауди», «Рено», «Пежо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3" descr="C:\Documents and Settings\Андрей\Рабочий стол\Новый рисунок (7).bmp"/>
          <p:cNvPicPr/>
          <p:nvPr/>
        </p:nvPicPr>
        <p:blipFill>
          <a:blip r:embed="rId2"/>
          <a:stretch/>
        </p:blipFill>
        <p:spPr>
          <a:xfrm>
            <a:off x="714240" y="142920"/>
            <a:ext cx="3500640" cy="2214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Андрей\Рабочий стол\Новый рисунок (8).bmp"/>
          <p:cNvPicPr/>
          <p:nvPr/>
        </p:nvPicPr>
        <p:blipFill>
          <a:blip r:embed="rId3"/>
          <a:stretch/>
        </p:blipFill>
        <p:spPr>
          <a:xfrm>
            <a:off x="4429080" y="142920"/>
            <a:ext cx="3286080" cy="221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Андрей\Рабочий стол\Новый рисунок (10).bmp"/>
          <p:cNvPicPr/>
          <p:nvPr/>
        </p:nvPicPr>
        <p:blipFill>
          <a:blip r:embed="rId4"/>
          <a:stretch/>
        </p:blipFill>
        <p:spPr>
          <a:xfrm>
            <a:off x="5357880" y="4357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C:\Documents and Settings\Андрей\Рабочий стол\Новый рисунок (9).bmp"/>
          <p:cNvPicPr/>
          <p:nvPr/>
        </p:nvPicPr>
        <p:blipFill>
          <a:blip r:embed="rId5"/>
          <a:stretch/>
        </p:blipFill>
        <p:spPr>
          <a:xfrm>
            <a:off x="1143000" y="4357800"/>
            <a:ext cx="2428920" cy="2357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3366ff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3366ff"/>
                </a:solidFill>
                <a:latin typeface="Constantia"/>
              </a:rPr>
              <a:t>Сложное электронное оборудование – компьютеры, вычислительную технику – которые экспортируют во многие страны мир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C:\Documents and Settings\Андрей\Рабочий стол\Новый рисунок (11).bmp"/>
          <p:cNvPicPr/>
          <p:nvPr/>
        </p:nvPicPr>
        <p:blipFill>
          <a:blip r:embed="rId2"/>
          <a:stretch/>
        </p:blipFill>
        <p:spPr>
          <a:xfrm>
            <a:off x="2643120" y="21420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Documents and Settings\Андрей\Рабочий стол\Новый рисунок (12).bmp"/>
          <p:cNvPicPr/>
          <p:nvPr/>
        </p:nvPicPr>
        <p:blipFill>
          <a:blip r:embed="rId3"/>
          <a:stretch/>
        </p:blipFill>
        <p:spPr>
          <a:xfrm>
            <a:off x="2857680" y="4143240"/>
            <a:ext cx="2857320" cy="24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onstantia"/>
              </a:rPr>
              <a:t>Мировую известность имеют часы, сделанные в Швецар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C:\Documents and Settings\Андрей\Рабочий стол\Новый рисунок (13).bmp"/>
          <p:cNvPicPr/>
          <p:nvPr/>
        </p:nvPicPr>
        <p:blipFill>
          <a:blip r:embed="rId2"/>
          <a:stretch/>
        </p:blipFill>
        <p:spPr>
          <a:xfrm>
            <a:off x="2857680" y="42876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70c0"/>
                </a:solidFill>
                <a:latin typeface="Constantia"/>
              </a:rPr>
              <a:t>В банках Западное Европы хранят денежные средства и золото многие страны ми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3143160" cy="192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1000080" y="4214880"/>
            <a:ext cx="2928960" cy="207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4786200" y="28584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5"/>
          <a:stretch/>
        </p:blipFill>
        <p:spPr>
          <a:xfrm>
            <a:off x="4714920" y="4214880"/>
            <a:ext cx="2928960" cy="2041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траны Западной Европы ежегодно посещают миллионы туристов и отдыхающих, чтобы познакомиться с културно – историческими достопримечательностями, полюбоваться природой, а также для отдыха и ле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142920" y="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2857680" y="0"/>
            <a:ext cx="2857320" cy="2357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5929200" y="0"/>
            <a:ext cx="30402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5"/>
          <a:stretch/>
        </p:blipFill>
        <p:spPr>
          <a:xfrm>
            <a:off x="142920" y="457200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6"/>
          <a:stretch/>
        </p:blipFill>
        <p:spPr>
          <a:xfrm>
            <a:off x="3143160" y="4572000"/>
            <a:ext cx="2594160" cy="1857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7"/>
          <a:stretch/>
        </p:blipFill>
        <p:spPr>
          <a:xfrm>
            <a:off x="6215040" y="4643280"/>
            <a:ext cx="2571840" cy="1791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Андрей\Мои документы\Андрей\Рисунки\img27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кругленный прямоугольник 3"/>
          <p:cNvSpPr/>
          <p:nvPr/>
        </p:nvSpPr>
        <p:spPr>
          <a:xfrm>
            <a:off x="1428840" y="142920"/>
            <a:ext cx="6572160" cy="1357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СТРАНЫ СЕВЕРНОЙ ЕВРО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 стрелкой 6"/>
          <p:cNvCxnSpPr>
            <a:endCxn id="211" idx="4"/>
          </p:cNvCxnSpPr>
          <p:nvPr/>
        </p:nvCxnSpPr>
        <p:spPr>
          <a:xfrm flipH="1">
            <a:off x="1499760" y="1499760"/>
            <a:ext cx="21528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7"/>
          <p:cNvCxnSpPr/>
          <p:nvPr/>
        </p:nvCxnSpPr>
        <p:spPr>
          <a:xfrm flipH="1">
            <a:off x="4070160" y="1499760"/>
            <a:ext cx="216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8"/>
          <p:cNvCxnSpPr/>
          <p:nvPr/>
        </p:nvCxnSpPr>
        <p:spPr>
          <a:xfrm flipH="1">
            <a:off x="5643360" y="1499760"/>
            <a:ext cx="2160" cy="2073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4" name="Прямая со стрелкой 9"/>
          <p:cNvCxnSpPr/>
          <p:nvPr/>
        </p:nvCxnSpPr>
        <p:spPr>
          <a:xfrm flipH="1">
            <a:off x="2999520" y="1499760"/>
            <a:ext cx="2520" cy="207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5" name="Прямая со стрелкой 10"/>
          <p:cNvCxnSpPr>
            <a:endCxn id="216" idx="4"/>
          </p:cNvCxnSpPr>
          <p:nvPr/>
        </p:nvCxnSpPr>
        <p:spPr>
          <a:xfrm>
            <a:off x="6786720" y="1499760"/>
            <a:ext cx="53676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Прямоугольник с двумя вырезанными противолежащими углами 11"/>
          <p:cNvSpPr/>
          <p:nvPr/>
        </p:nvSpPr>
        <p:spPr>
          <a:xfrm>
            <a:off x="142920" y="1928880"/>
            <a:ext cx="2714760" cy="1500120"/>
          </a:xfrm>
          <a:prstGeom prst="pie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ОРВЕ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с двумя вырезанными противолежащими углами 13"/>
          <p:cNvSpPr/>
          <p:nvPr/>
        </p:nvSpPr>
        <p:spPr>
          <a:xfrm>
            <a:off x="3071880" y="1928880"/>
            <a:ext cx="2428920" cy="1500120"/>
          </a:xfrm>
          <a:prstGeom prst="pie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ШВЕ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с двумя вырезанными противолежащими углами 14"/>
          <p:cNvSpPr/>
          <p:nvPr/>
        </p:nvSpPr>
        <p:spPr>
          <a:xfrm>
            <a:off x="5715000" y="1928880"/>
            <a:ext cx="3214800" cy="1500120"/>
          </a:xfrm>
          <a:prstGeom prst="pie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НЛЯ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с двумя вырезанными противолежащими углами 15"/>
          <p:cNvSpPr/>
          <p:nvPr/>
        </p:nvSpPr>
        <p:spPr>
          <a:xfrm>
            <a:off x="1643040" y="3571920"/>
            <a:ext cx="2714760" cy="1500120"/>
          </a:xfrm>
          <a:prstGeom prst="pie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двумя вырезанными противолежащими углами 16"/>
          <p:cNvSpPr/>
          <p:nvPr/>
        </p:nvSpPr>
        <p:spPr>
          <a:xfrm>
            <a:off x="4786200" y="3571920"/>
            <a:ext cx="2857680" cy="1500120"/>
          </a:xfrm>
          <a:prstGeom prst="pie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С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5"/>
          <p:cNvSpPr/>
          <p:nvPr/>
        </p:nvSpPr>
        <p:spPr>
          <a:xfrm>
            <a:off x="2165760" y="5214960"/>
            <a:ext cx="523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Кольский полуос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Карел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 ФЕННОСК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Constantia"/>
              </a:rPr>
              <a:t>Некоторые районы Фенноскандии очень редко заселены, там проживают: исландцы, норвежцы, шведы, фин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А побережье Северной Европы, в том числе Дания, густо населены, так как здесь очень благоприятный климат и территория наиболее хорошо освоен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Всемирную известность машиностроительные концерны Швеции </a:t>
            </a:r>
            <a:r>
              <a:rPr b="1" i="1" lang="ru-RU" sz="4800" spc="-1" strike="noStrike" u="sng">
                <a:solidFill>
                  <a:srgbClr val="7030a0"/>
                </a:solidFill>
                <a:uFillTx/>
                <a:latin typeface="Constantia"/>
              </a:rPr>
              <a:t>«Вольво» и «Скания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C:\Documents and Settings\Андрей\Рабочий стол\Новый рисунок.bmp"/>
          <p:cNvPicPr/>
          <p:nvPr/>
        </p:nvPicPr>
        <p:blipFill>
          <a:blip r:embed="rId2"/>
          <a:stretch/>
        </p:blipFill>
        <p:spPr>
          <a:xfrm>
            <a:off x="1928880" y="4357800"/>
            <a:ext cx="5643360" cy="1714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Андрей\Рабочий стол\Новый рисунок (1).bmp"/>
          <p:cNvPicPr/>
          <p:nvPr/>
        </p:nvPicPr>
        <p:blipFill>
          <a:blip r:embed="rId3"/>
          <a:stretch/>
        </p:blipFill>
        <p:spPr>
          <a:xfrm>
            <a:off x="2857680" y="142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Концерн 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onstantia"/>
              </a:rPr>
              <a:t>«Эриксон»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по производству оборудования связи, предприятия 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onstantia"/>
              </a:rPr>
              <a:t>«Нокия»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в Финлянди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Андрей\Рабочий стол\Новый рисунок (2).bmp"/>
          <p:cNvPicPr/>
          <p:nvPr/>
        </p:nvPicPr>
        <p:blipFill>
          <a:blip r:embed="rId2"/>
          <a:stretch/>
        </p:blipFill>
        <p:spPr>
          <a:xfrm>
            <a:off x="1500120" y="642960"/>
            <a:ext cx="6500880" cy="1714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Андрей\Рабочий стол\Новый рисунок (3).bmp"/>
          <p:cNvPicPr/>
          <p:nvPr/>
        </p:nvPicPr>
        <p:blipFill>
          <a:blip r:embed="rId3"/>
          <a:stretch/>
        </p:blipFill>
        <p:spPr>
          <a:xfrm>
            <a:off x="1785960" y="4857840"/>
            <a:ext cx="5929200" cy="142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Constantia"/>
              </a:rPr>
              <a:t>Дания во все страны мира экспортирует молочные продукт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C:\Documents and Settings\Андрей\Рабочий стол\Новый рисунок (4).bmp"/>
          <p:cNvPicPr/>
          <p:nvPr/>
        </p:nvPicPr>
        <p:blipFill>
          <a:blip r:embed="rId2"/>
          <a:stretch/>
        </p:blipFill>
        <p:spPr>
          <a:xfrm>
            <a:off x="571680" y="857160"/>
            <a:ext cx="2357280" cy="3929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Андрей\Рабочий стол\Новый рисунок (5).bmp"/>
          <p:cNvPicPr/>
          <p:nvPr/>
        </p:nvPicPr>
        <p:blipFill>
          <a:blip r:embed="rId3"/>
          <a:stretch/>
        </p:blipFill>
        <p:spPr>
          <a:xfrm>
            <a:off x="3214800" y="857160"/>
            <a:ext cx="3000240" cy="3857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Documents and Settings\Андрей\Рабочий стол\Новый рисунок (6).bmp"/>
          <p:cNvPicPr/>
          <p:nvPr/>
        </p:nvPicPr>
        <p:blipFill>
          <a:blip r:embed="rId4"/>
          <a:stretch/>
        </p:blipFill>
        <p:spPr>
          <a:xfrm>
            <a:off x="6357960" y="857160"/>
            <a:ext cx="2643120" cy="3857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Прямоугольник с двумя скругленными противолежащими углами 3"/>
          <p:cNvSpPr/>
          <p:nvPr/>
        </p:nvSpPr>
        <p:spPr>
          <a:xfrm>
            <a:off x="785880" y="285840"/>
            <a:ext cx="7929360" cy="1428840"/>
          </a:xfrm>
          <a:prstGeom prst="pie">
            <a:avLst/>
          </a:prstGeom>
          <a:solidFill>
            <a:srgbClr val="33996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СТРАНЫ ЗАПАДНОЙ ЕВР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олна 4"/>
          <p:cNvSpPr/>
          <p:nvPr/>
        </p:nvSpPr>
        <p:spPr>
          <a:xfrm>
            <a:off x="142920" y="1857240"/>
            <a:ext cx="3643200" cy="1071720"/>
          </a:xfrm>
          <a:custGeom>
            <a:avLst/>
            <a:gdLst>
              <a:gd name="textAreaLeft" fmla="*/ 0 w 3643200"/>
              <a:gd name="textAreaRight" fmla="*/ 3643560 w 364320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олна 5"/>
          <p:cNvSpPr/>
          <p:nvPr/>
        </p:nvSpPr>
        <p:spPr>
          <a:xfrm>
            <a:off x="5214960" y="4929120"/>
            <a:ext cx="3643200" cy="1071720"/>
          </a:xfrm>
          <a:custGeom>
            <a:avLst/>
            <a:gdLst>
              <a:gd name="textAreaLeft" fmla="*/ 0 w 3643200"/>
              <a:gd name="textAreaRight" fmla="*/ 3643560 w 364320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вс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Волна 6"/>
          <p:cNvSpPr/>
          <p:nvPr/>
        </p:nvSpPr>
        <p:spPr>
          <a:xfrm>
            <a:off x="1357200" y="2857680"/>
            <a:ext cx="2714760" cy="1071360"/>
          </a:xfrm>
          <a:custGeom>
            <a:avLst/>
            <a:gdLst>
              <a:gd name="textAreaLeft" fmla="*/ 0 w 2714760"/>
              <a:gd name="textAreaRight" fmla="*/ 2715120 w 2714760"/>
              <a:gd name="textAreaTop" fmla="*/ 267840 h 1071360"/>
              <a:gd name="textAreaBottom" fmla="*/ 8035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дерл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олна 7"/>
          <p:cNvSpPr/>
          <p:nvPr/>
        </p:nvSpPr>
        <p:spPr>
          <a:xfrm>
            <a:off x="785880" y="4929120"/>
            <a:ext cx="3643200" cy="1071720"/>
          </a:xfrm>
          <a:custGeom>
            <a:avLst/>
            <a:gdLst>
              <a:gd name="textAreaLeft" fmla="*/ 0 w 3643200"/>
              <a:gd name="textAreaRight" fmla="*/ 3643560 w 364320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ль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олна 8"/>
          <p:cNvSpPr/>
          <p:nvPr/>
        </p:nvSpPr>
        <p:spPr>
          <a:xfrm>
            <a:off x="1857240" y="3929040"/>
            <a:ext cx="2500560" cy="1071720"/>
          </a:xfrm>
          <a:custGeom>
            <a:avLst/>
            <a:gdLst>
              <a:gd name="textAreaLeft" fmla="*/ 0 w 2500560"/>
              <a:gd name="textAreaRight" fmla="*/ 2500920 w 250056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Гер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олна 9"/>
          <p:cNvSpPr/>
          <p:nvPr/>
        </p:nvSpPr>
        <p:spPr>
          <a:xfrm>
            <a:off x="5357880" y="3929040"/>
            <a:ext cx="3643200" cy="1071720"/>
          </a:xfrm>
          <a:custGeom>
            <a:avLst/>
            <a:gdLst>
              <a:gd name="textAreaLeft" fmla="*/ 0 w 3643200"/>
              <a:gd name="textAreaRight" fmla="*/ 3643560 w 364320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олна 10"/>
          <p:cNvSpPr/>
          <p:nvPr/>
        </p:nvSpPr>
        <p:spPr>
          <a:xfrm>
            <a:off x="5786280" y="2857680"/>
            <a:ext cx="2214720" cy="1071360"/>
          </a:xfrm>
          <a:custGeom>
            <a:avLst/>
            <a:gdLst>
              <a:gd name="textAreaLeft" fmla="*/ 0 w 2214720"/>
              <a:gd name="textAreaRight" fmla="*/ 2215080 w 2214720"/>
              <a:gd name="textAreaTop" fmla="*/ 267840 h 1071360"/>
              <a:gd name="textAreaBottom" fmla="*/ 8035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олна 11"/>
          <p:cNvSpPr/>
          <p:nvPr/>
        </p:nvSpPr>
        <p:spPr>
          <a:xfrm>
            <a:off x="6072120" y="1857240"/>
            <a:ext cx="2643120" cy="1071720"/>
          </a:xfrm>
          <a:custGeom>
            <a:avLst/>
            <a:gdLst>
              <a:gd name="textAreaLeft" fmla="*/ 0 w 2643120"/>
              <a:gd name="textAreaRight" fmla="*/ 2643480 w 264312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7c8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р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13"/>
          <p:cNvCxnSpPr/>
          <p:nvPr/>
        </p:nvCxnSpPr>
        <p:spPr>
          <a:xfrm flipH="1">
            <a:off x="2571120" y="1714680"/>
            <a:ext cx="50076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3" name="Прямая со стрелкой 15"/>
          <p:cNvCxnSpPr/>
          <p:nvPr/>
        </p:nvCxnSpPr>
        <p:spPr>
          <a:xfrm>
            <a:off x="7071840" y="1714680"/>
            <a:ext cx="7153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4" name="Прямая со стрелкой 18"/>
          <p:cNvCxnSpPr/>
          <p:nvPr/>
        </p:nvCxnSpPr>
        <p:spPr>
          <a:xfrm flipH="1">
            <a:off x="3786120" y="1714680"/>
            <a:ext cx="643320" cy="13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5" name="Прямая со стрелкой 21"/>
          <p:cNvCxnSpPr/>
          <p:nvPr/>
        </p:nvCxnSpPr>
        <p:spPr>
          <a:xfrm>
            <a:off x="5357880" y="1714320"/>
            <a:ext cx="643320" cy="1215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Прямая со стрелкой 25"/>
          <p:cNvCxnSpPr>
            <a:stCxn id="233" idx="4"/>
          </p:cNvCxnSpPr>
          <p:nvPr/>
        </p:nvCxnSpPr>
        <p:spPr>
          <a:xfrm flipH="1">
            <a:off x="4071240" y="1714680"/>
            <a:ext cx="680040" cy="2428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7" name="Прямая со стрелкой 26"/>
          <p:cNvCxnSpPr/>
          <p:nvPr/>
        </p:nvCxnSpPr>
        <p:spPr>
          <a:xfrm flipH="1">
            <a:off x="4357080" y="1714680"/>
            <a:ext cx="572040" cy="3358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8" name="Прямая со стрелкой 27"/>
          <p:cNvCxnSpPr/>
          <p:nvPr/>
        </p:nvCxnSpPr>
        <p:spPr>
          <a:xfrm>
            <a:off x="5072040" y="1714680"/>
            <a:ext cx="572400" cy="228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9" name="Прямая со стрелкой 22"/>
          <p:cNvCxnSpPr/>
          <p:nvPr/>
        </p:nvCxnSpPr>
        <p:spPr>
          <a:xfrm>
            <a:off x="5000760" y="1714680"/>
            <a:ext cx="357840" cy="3286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0" name="TextBox 29"/>
          <p:cNvSpPr/>
          <p:nvPr/>
        </p:nvSpPr>
        <p:spPr>
          <a:xfrm>
            <a:off x="571680" y="614988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несколько мелких государ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996600"/>
                </a:solidFill>
                <a:latin typeface="Constantia"/>
              </a:rPr>
              <a:t>На природные условия стран Западной Европы огромное влияние оказывает Атлантический океан. Юг Британских островов и север материковых стран занимают равнины. Их высота не превышает 50 – 100 м. над уровнем моря, поэтому существует опасность затоп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996600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996600"/>
                </a:solidFill>
                <a:latin typeface="Constantia"/>
              </a:rPr>
              <a:t>Равнины к югу и востоку поднимаются и переходят в возвышенности и плоскогорья, низкогорья и далее в самые высокие горы Европы – Альп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lus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9:08:28Z</dcterms:created>
  <dc:creator>Андрей</dc:creator>
  <dc:description/>
  <dc:language>en-US</dc:language>
  <cp:lastModifiedBy>Катенок</cp:lastModifiedBy>
  <dcterms:modified xsi:type="dcterms:W3CDTF">2009-12-01T16:14:27Z</dcterms:modified>
  <cp:revision>16</cp:revision>
  <dc:subject/>
  <dc:title>ТЕМА УРОКА: Европа. Страны Северной и Западной Европы</dc:title>
</cp:coreProperties>
</file>